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move the slide</a:t>
            </a:r>
            <a:endParaRPr b="0" lang="en-US" sz="4400" spc="-1" strike="noStrike">
              <a:solidFill>
                <a:srgbClr val="ffcc00"/>
              </a:solidFill>
              <a:latin typeface="Times New Roman"/>
            </a:endParaRPr>
          </a:p>
        </p:txBody>
      </p:sp>
      <p:sp>
        <p:nvSpPr>
          <p:cNvPr id="10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18040-C3D0-45F5-984C-743C80DDC9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BAEA6-5CD8-4BBD-9EF2-FBADEDF8C2E6}"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6360C-DD41-4945-81E9-93857D3D3E5B}"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205BD-E258-4574-A7F0-0822D0732776}"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5F3B5-11C9-44C0-96B3-3086826157E2}"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74D9F-83EE-458C-86CD-B0251B8E32A0}"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E29C5-C7E4-41DD-90FA-1E65424DBE28}"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64EE5-FD7F-4688-A04C-BF99A26AC378}"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560AA-9F6B-46C5-8926-F761E5AA0ADC}"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266F8-CBAC-4377-9454-C3BE596E3863}"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71368-F6E7-499C-8FB9-DC3C96338AD7}"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BE47F-6F73-440B-9AD0-B1B335506CA2}"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3832CB-CC02-42DF-A3F6-1E24025E66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7463DD-32B1-4FFD-8BD3-006FB725B5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E47DF3-19A6-4FC6-A819-4D47EA65B4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BE8023-6FCE-46F2-A07B-803C077C05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CB8CC0-D740-4E0C-8A0B-EB103ACC04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420A7F-314B-4AAC-AF7A-56470F528E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7787CA-A5D9-461D-9EFE-B4F5B39111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8A4855-ACFF-4B27-89E0-36AA19AA78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9FAF7B-D8A1-4B2D-A00D-1ECCB1A67D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152E8A-D94D-4DDB-90D0-024931355B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8ED4D2-532F-4512-B245-C880F22906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96B130-A414-4964-8B84-E0C6095B1D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1B7DB4-29A7-4BB2-B93D-6986EE1247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0C1D45-05A8-463C-9776-2A26633DD5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55A2A7-CA79-4786-B9C5-4ACFB4E520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C16136-0F34-4B3F-8972-6D81DF324A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B4248F-B3D7-43E8-8B15-DB5DA9DF01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C4D40F-D23D-4830-B8FB-CEBC0CE97A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7CFB02-299B-4F15-8892-894441585F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ABE275-3A3A-485E-B25F-C0BC239F1A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E70B24-E395-4246-9924-4CE50C4618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AEC8AF-41AD-4842-BF6D-E16934B067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683C1C-72E1-456E-8135-F73FFF3B33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A199BC-000F-49EF-809E-5D687AD7D6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18480"/>
            <a:chOff x="0" y="0"/>
            <a:chExt cx="9144000" cy="6918480"/>
          </a:xfrm>
        </p:grpSpPr>
        <p:sp>
          <p:nvSpPr>
            <p:cNvPr id="1" name="Rectangle 3"/>
            <p:cNvSpPr/>
            <p:nvPr/>
          </p:nvSpPr>
          <p:spPr>
            <a:xfrm>
              <a:off x="8783640" y="444600"/>
              <a:ext cx="360360" cy="3152520"/>
            </a:xfrm>
            <a:prstGeom prst="rect">
              <a:avLst/>
            </a:prstGeom>
            <a:gradFill rotWithShape="0">
              <a:gsLst>
                <a:gs pos="0">
                  <a:srgbClr val="220011"/>
                </a:gs>
                <a:gs pos="50000">
                  <a:srgbClr val="9c004e"/>
                </a:gs>
                <a:gs pos="100000">
                  <a:srgbClr val="22001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 name="Freeform 4"/>
            <p:cNvSpPr/>
            <p:nvPr/>
          </p:nvSpPr>
          <p:spPr>
            <a:xfrm>
              <a:off x="0" y="0"/>
              <a:ext cx="9144000" cy="2133720"/>
            </a:xfrm>
            <a:custGeom>
              <a:avLst/>
              <a:gdLst>
                <a:gd name="textAreaLeft" fmla="*/ 0 w 9144000"/>
                <a:gd name="textAreaRight" fmla="*/ 9144360 w 9144000"/>
                <a:gd name="textAreaTop" fmla="*/ 0 h 2133720"/>
                <a:gd name="textAreaBottom" fmla="*/ 2134080 h 2133720"/>
              </a:gdLst>
              <a:ahLst/>
              <a:rect l="textAreaLeft" t="textAreaTop" r="textAreaRight" b="textAreaBottom"/>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Freeform 5"/>
            <p:cNvSpPr/>
            <p:nvPr/>
          </p:nvSpPr>
          <p:spPr>
            <a:xfrm>
              <a:off x="0" y="1163520"/>
              <a:ext cx="9144000" cy="5694480"/>
            </a:xfrm>
            <a:custGeom>
              <a:avLst/>
              <a:gdLst>
                <a:gd name="textAreaLeft" fmla="*/ 0 w 9144000"/>
                <a:gd name="textAreaRight" fmla="*/ 9144360 w 9144000"/>
                <a:gd name="textAreaTop" fmla="*/ 0 h 5694480"/>
                <a:gd name="textAreaBottom" fmla="*/ 5694840 h 5694480"/>
              </a:gdLst>
              <a:ahLst/>
              <a:rect l="textAreaLeft" t="textAreaTop" r="textAreaRight" b="textAreaBottom"/>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Freeform 6"/>
            <p:cNvSpPr/>
            <p:nvPr/>
          </p:nvSpPr>
          <p:spPr>
            <a:xfrm>
              <a:off x="0" y="291960"/>
              <a:ext cx="9144000" cy="854280"/>
            </a:xfrm>
            <a:custGeom>
              <a:avLst/>
              <a:gdLst>
                <a:gd name="textAreaLeft" fmla="*/ 0 w 9144000"/>
                <a:gd name="textAreaRight" fmla="*/ 9144360 w 9144000"/>
                <a:gd name="textAreaTop" fmla="*/ 0 h 854280"/>
                <a:gd name="textAreaBottom" fmla="*/ 854640 h 854280"/>
              </a:gdLst>
              <a:ahLst/>
              <a:rect l="textAreaLeft" t="textAreaTop" r="textAreaRight" b="textAreaBottom"/>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 name="Freeform 7"/>
            <p:cNvSpPr/>
            <p:nvPr/>
          </p:nvSpPr>
          <p:spPr>
            <a:xfrm>
              <a:off x="0" y="2405160"/>
              <a:ext cx="9144000" cy="1069920"/>
            </a:xfrm>
            <a:custGeom>
              <a:avLst/>
              <a:gdLst>
                <a:gd name="textAreaLeft" fmla="*/ 0 w 9144000"/>
                <a:gd name="textAreaRight" fmla="*/ 9144360 w 9144000"/>
                <a:gd name="textAreaTop" fmla="*/ 0 h 1069920"/>
                <a:gd name="textAreaBottom" fmla="*/ 1070280 h 1069920"/>
              </a:gdLst>
              <a:ahLst/>
              <a:rect l="textAreaLeft" t="textAreaTop" r="textAreaRight" b="textAreaBottom"/>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 name="Freeform 8"/>
            <p:cNvSpPr/>
            <p:nvPr/>
          </p:nvSpPr>
          <p:spPr>
            <a:xfrm>
              <a:off x="2476440" y="1522440"/>
              <a:ext cx="6667560" cy="5335560"/>
            </a:xfrm>
            <a:custGeom>
              <a:avLst/>
              <a:gdLst>
                <a:gd name="textAreaLeft" fmla="*/ 0 w 6667560"/>
                <a:gd name="textAreaRight" fmla="*/ 6667920 w 6667560"/>
                <a:gd name="textAreaTop" fmla="*/ 0 h 5335560"/>
                <a:gd name="textAreaBottom" fmla="*/ 5335920 h 5335560"/>
              </a:gdLst>
              <a:ahLst/>
              <a:rect l="textAreaLeft" t="textAreaTop" r="textAreaRight" b="textAreaBottom"/>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 name="Freeform 9"/>
            <p:cNvSpPr/>
            <p:nvPr/>
          </p:nvSpPr>
          <p:spPr>
            <a:xfrm>
              <a:off x="0" y="3443400"/>
              <a:ext cx="9144000" cy="3055680"/>
            </a:xfrm>
            <a:custGeom>
              <a:avLst/>
              <a:gdLst>
                <a:gd name="textAreaLeft" fmla="*/ 0 w 9144000"/>
                <a:gd name="textAreaRight" fmla="*/ 9144360 w 9144000"/>
                <a:gd name="textAreaTop" fmla="*/ 0 h 3055680"/>
                <a:gd name="textAreaBottom" fmla="*/ 3056040 h 3055680"/>
              </a:gdLst>
              <a:ahLst/>
              <a:rect l="textAreaLeft" t="textAreaTop" r="textAreaRight" b="textAreaBottom"/>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8" name="Freeform 10"/>
            <p:cNvSpPr/>
            <p:nvPr/>
          </p:nvSpPr>
          <p:spPr>
            <a:xfrm>
              <a:off x="0" y="3552840"/>
              <a:ext cx="6237360" cy="3365640"/>
            </a:xfrm>
            <a:custGeom>
              <a:avLst/>
              <a:gdLst>
                <a:gd name="textAreaLeft" fmla="*/ 0 w 6237360"/>
                <a:gd name="textAreaRight" fmla="*/ 6237720 w 6237360"/>
                <a:gd name="textAreaTop" fmla="*/ 0 h 3365640"/>
                <a:gd name="textAreaBottom" fmla="*/ 3366000 h 3365640"/>
              </a:gdLst>
              <a:ahLst/>
              <a:rect l="textAreaLeft" t="textAreaTop" r="textAreaRight" b="textAreaBottom"/>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10"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1"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ffff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2FD0C-0692-49F4-8F50-D8BC7BA584AD}" type="slidenum">
              <a:rPr b="0" lang="en-CA"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3"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grpSp>
        <p:nvGrpSpPr>
          <p:cNvPr id="50" name="Group 2"/>
          <p:cNvGrpSpPr/>
          <p:nvPr/>
        </p:nvGrpSpPr>
        <p:grpSpPr>
          <a:xfrm>
            <a:off x="0" y="0"/>
            <a:ext cx="9144000" cy="6918480"/>
            <a:chOff x="0" y="0"/>
            <a:chExt cx="9144000" cy="6918480"/>
          </a:xfrm>
        </p:grpSpPr>
        <p:sp>
          <p:nvSpPr>
            <p:cNvPr id="51" name="Rectangle 3"/>
            <p:cNvSpPr/>
            <p:nvPr/>
          </p:nvSpPr>
          <p:spPr>
            <a:xfrm>
              <a:off x="8783640" y="444600"/>
              <a:ext cx="360360" cy="3152520"/>
            </a:xfrm>
            <a:prstGeom prst="rect">
              <a:avLst/>
            </a:prstGeom>
            <a:gradFill rotWithShape="0">
              <a:gsLst>
                <a:gs pos="0">
                  <a:srgbClr val="220011"/>
                </a:gs>
                <a:gs pos="50000">
                  <a:srgbClr val="9c004e"/>
                </a:gs>
                <a:gs pos="100000">
                  <a:srgbClr val="22001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2" name="Freeform 4"/>
            <p:cNvSpPr/>
            <p:nvPr/>
          </p:nvSpPr>
          <p:spPr>
            <a:xfrm>
              <a:off x="0" y="0"/>
              <a:ext cx="9144000" cy="2133720"/>
            </a:xfrm>
            <a:custGeom>
              <a:avLst/>
              <a:gdLst>
                <a:gd name="textAreaLeft" fmla="*/ 0 w 9144000"/>
                <a:gd name="textAreaRight" fmla="*/ 9144360 w 9144000"/>
                <a:gd name="textAreaTop" fmla="*/ 0 h 2133720"/>
                <a:gd name="textAreaBottom" fmla="*/ 2134080 h 2133720"/>
              </a:gdLst>
              <a:ahLst/>
              <a:rect l="textAreaLeft" t="textAreaTop" r="textAreaRight" b="textAreaBottom"/>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3" name="Freeform 5"/>
            <p:cNvSpPr/>
            <p:nvPr/>
          </p:nvSpPr>
          <p:spPr>
            <a:xfrm>
              <a:off x="0" y="1163520"/>
              <a:ext cx="9144000" cy="5694480"/>
            </a:xfrm>
            <a:custGeom>
              <a:avLst/>
              <a:gdLst>
                <a:gd name="textAreaLeft" fmla="*/ 0 w 9144000"/>
                <a:gd name="textAreaRight" fmla="*/ 9144360 w 9144000"/>
                <a:gd name="textAreaTop" fmla="*/ 0 h 5694480"/>
                <a:gd name="textAreaBottom" fmla="*/ 5694840 h 5694480"/>
              </a:gdLst>
              <a:ahLst/>
              <a:rect l="textAreaLeft" t="textAreaTop" r="textAreaRight" b="textAreaBottom"/>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4" name="Freeform 6"/>
            <p:cNvSpPr/>
            <p:nvPr/>
          </p:nvSpPr>
          <p:spPr>
            <a:xfrm>
              <a:off x="0" y="291960"/>
              <a:ext cx="9144000" cy="854280"/>
            </a:xfrm>
            <a:custGeom>
              <a:avLst/>
              <a:gdLst>
                <a:gd name="textAreaLeft" fmla="*/ 0 w 9144000"/>
                <a:gd name="textAreaRight" fmla="*/ 9144360 w 9144000"/>
                <a:gd name="textAreaTop" fmla="*/ 0 h 854280"/>
                <a:gd name="textAreaBottom" fmla="*/ 854640 h 854280"/>
              </a:gdLst>
              <a:ahLst/>
              <a:rect l="textAreaLeft" t="textAreaTop" r="textAreaRight" b="textAreaBottom"/>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5" name="Freeform 7"/>
            <p:cNvSpPr/>
            <p:nvPr/>
          </p:nvSpPr>
          <p:spPr>
            <a:xfrm>
              <a:off x="0" y="2405160"/>
              <a:ext cx="9144000" cy="1069920"/>
            </a:xfrm>
            <a:custGeom>
              <a:avLst/>
              <a:gdLst>
                <a:gd name="textAreaLeft" fmla="*/ 0 w 9144000"/>
                <a:gd name="textAreaRight" fmla="*/ 9144360 w 9144000"/>
                <a:gd name="textAreaTop" fmla="*/ 0 h 1069920"/>
                <a:gd name="textAreaBottom" fmla="*/ 1070280 h 1069920"/>
              </a:gdLst>
              <a:ahLst/>
              <a:rect l="textAreaLeft" t="textAreaTop" r="textAreaRight" b="textAreaBottom"/>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6" name="Freeform 8"/>
            <p:cNvSpPr/>
            <p:nvPr/>
          </p:nvSpPr>
          <p:spPr>
            <a:xfrm>
              <a:off x="2476440" y="1522440"/>
              <a:ext cx="6667560" cy="5335560"/>
            </a:xfrm>
            <a:custGeom>
              <a:avLst/>
              <a:gdLst>
                <a:gd name="textAreaLeft" fmla="*/ 0 w 6667560"/>
                <a:gd name="textAreaRight" fmla="*/ 6667920 w 6667560"/>
                <a:gd name="textAreaTop" fmla="*/ 0 h 5335560"/>
                <a:gd name="textAreaBottom" fmla="*/ 5335920 h 5335560"/>
              </a:gdLst>
              <a:ahLst/>
              <a:rect l="textAreaLeft" t="textAreaTop" r="textAreaRight" b="textAreaBottom"/>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7" name="Freeform 9"/>
            <p:cNvSpPr/>
            <p:nvPr/>
          </p:nvSpPr>
          <p:spPr>
            <a:xfrm>
              <a:off x="0" y="3443400"/>
              <a:ext cx="9144000" cy="3055680"/>
            </a:xfrm>
            <a:custGeom>
              <a:avLst/>
              <a:gdLst>
                <a:gd name="textAreaLeft" fmla="*/ 0 w 9144000"/>
                <a:gd name="textAreaRight" fmla="*/ 9144360 w 9144000"/>
                <a:gd name="textAreaTop" fmla="*/ 0 h 3055680"/>
                <a:gd name="textAreaBottom" fmla="*/ 3056040 h 3055680"/>
              </a:gdLst>
              <a:ahLst/>
              <a:rect l="textAreaLeft" t="textAreaTop" r="textAreaRight" b="textAreaBottom"/>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8" name="Freeform 10"/>
            <p:cNvSpPr/>
            <p:nvPr/>
          </p:nvSpPr>
          <p:spPr>
            <a:xfrm>
              <a:off x="0" y="3552840"/>
              <a:ext cx="6237360" cy="3365640"/>
            </a:xfrm>
            <a:custGeom>
              <a:avLst/>
              <a:gdLst>
                <a:gd name="textAreaLeft" fmla="*/ 0 w 6237360"/>
                <a:gd name="textAreaRight" fmla="*/ 6237720 w 6237360"/>
                <a:gd name="textAreaTop" fmla="*/ 0 h 3365640"/>
                <a:gd name="textAreaBottom" fmla="*/ 3366000 h 3365640"/>
              </a:gdLst>
              <a:ahLst/>
              <a:rect l="textAreaLeft" t="textAreaTop" r="textAreaRight" b="textAreaBottom"/>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6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6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ffff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4829F-4D61-40EA-8DD4-90738929993C}" type="slidenum">
              <a:rPr b="0" lang="en-CA" sz="1400" spc="-1" strike="noStrike">
                <a:solidFill>
                  <a:srgbClr val="ffffcc"/>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Work, Energy and Power</a:t>
            </a:r>
            <a:endParaRPr b="0" lang="en-US" sz="4400" spc="-1" strike="noStrike">
              <a:solidFill>
                <a:srgbClr val="ffcc00"/>
              </a:solidFill>
              <a:latin typeface="Times New Roman"/>
            </a:endParaRPr>
          </a:p>
        </p:txBody>
      </p:sp>
      <p:sp>
        <p:nvSpPr>
          <p:cNvPr id="10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otential Energy</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xample 2</a:t>
            </a:r>
            <a:endParaRPr b="0" lang="en-US" sz="4400" spc="-1" strike="noStrike">
              <a:solidFill>
                <a:srgbClr val="ffcc00"/>
              </a:solidFill>
              <a:latin typeface="Times New Roman"/>
            </a:endParaRPr>
          </a:p>
        </p:txBody>
      </p:sp>
      <p:sp>
        <p:nvSpPr>
          <p:cNvPr id="188" name="PlaceHolder 2"/>
          <p:cNvSpPr>
            <a:spLocks noGrp="1"/>
          </p:cNvSpPr>
          <p:nvPr>
            <p:ph/>
          </p:nvPr>
        </p:nvSpPr>
        <p:spPr>
          <a:xfrm>
            <a:off x="685800" y="2819160"/>
            <a:ext cx="7772400" cy="5257800"/>
          </a:xfrm>
          <a:prstGeom prst="rect">
            <a:avLst/>
          </a:prstGeom>
          <a:noFill/>
          <a:ln w="0">
            <a:noFill/>
          </a:ln>
        </p:spPr>
        <p:txBody>
          <a:bodyPr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 spring with a spring constant of 15N/m is compressed 5m.</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a)What force was applied to it?</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b)How much E</a:t>
            </a:r>
            <a:r>
              <a:rPr b="0" lang="en-US" sz="3200" spc="-1" strike="noStrike" baseline="-25000">
                <a:solidFill>
                  <a:srgbClr val="ffffcc"/>
                </a:solidFill>
                <a:latin typeface="Times New Roman"/>
              </a:rPr>
              <a:t>e</a:t>
            </a:r>
            <a:r>
              <a:rPr b="0" lang="en-US" sz="3200" spc="-1" strike="noStrike">
                <a:solidFill>
                  <a:srgbClr val="ffffcc"/>
                </a:solidFill>
                <a:latin typeface="Times New Roman"/>
              </a:rPr>
              <a:t> does the spring now have?</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 </a:t>
            </a:r>
            <a:endParaRPr b="0" lang="en-US" sz="4400" spc="-1" strike="noStrike">
              <a:solidFill>
                <a:srgbClr val="ffcc00"/>
              </a:solidFill>
              <a:latin typeface="Times New Roman"/>
            </a:endParaRPr>
          </a:p>
        </p:txBody>
      </p:sp>
      <p:sp>
        <p:nvSpPr>
          <p:cNvPr id="190" name="PlaceHolder 2"/>
          <p:cNvSpPr>
            <a:spLocks noGrp="1"/>
          </p:cNvSpPr>
          <p:nvPr>
            <p:ph/>
          </p:nvPr>
        </p:nvSpPr>
        <p:spPr>
          <a:xfrm>
            <a:off x="685800" y="1294920"/>
            <a:ext cx="7772400" cy="480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a)F = kx</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 15N/m x 5m</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 75N</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b)E</a:t>
            </a:r>
            <a:r>
              <a:rPr b="0" lang="en-US" sz="3200" spc="-1" strike="noStrike" baseline="-25000">
                <a:solidFill>
                  <a:srgbClr val="ffffcc"/>
                </a:solidFill>
                <a:latin typeface="Times New Roman"/>
              </a:rPr>
              <a:t>e</a:t>
            </a:r>
            <a:r>
              <a:rPr b="0" lang="en-US" sz="3200" spc="-1" strike="noStrike">
                <a:solidFill>
                  <a:srgbClr val="ffffcc"/>
                </a:solidFill>
                <a:latin typeface="Times New Roman"/>
              </a:rPr>
              <a:t>= 1/2 kx</a:t>
            </a:r>
            <a:r>
              <a:rPr b="0" lang="en-US" sz="3200" spc="-1" strike="noStrike" baseline="30000">
                <a:solidFill>
                  <a:srgbClr val="ffffcc"/>
                </a:solidFill>
                <a:latin typeface="Times New Roman"/>
              </a:rPr>
              <a:t>2</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 1/2( 15N/m)(5m)</a:t>
            </a:r>
            <a:r>
              <a:rPr b="0" lang="en-US" sz="3200" spc="-1" strike="noStrike" baseline="30000">
                <a:solidFill>
                  <a:srgbClr val="ffffcc"/>
                </a:solidFill>
                <a:latin typeface="Times New Roman"/>
              </a:rPr>
              <a:t>2</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 1.9 x 10</a:t>
            </a:r>
            <a:r>
              <a:rPr b="0" lang="en-US" sz="3200" spc="-1" strike="noStrike" baseline="30000">
                <a:solidFill>
                  <a:srgbClr val="ffffcc"/>
                </a:solidFill>
                <a:latin typeface="Times New Roman"/>
              </a:rPr>
              <a:t>2</a:t>
            </a:r>
            <a:r>
              <a:rPr b="0" lang="en-US" sz="3200" spc="-1" strike="noStrike">
                <a:solidFill>
                  <a:srgbClr val="ffffcc"/>
                </a:solidFill>
                <a:latin typeface="Times New Roman"/>
              </a:rPr>
              <a:t> J</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grpSp>
        <p:nvGrpSpPr>
          <p:cNvPr id="191" name="Group 6"/>
          <p:cNvGrpSpPr/>
          <p:nvPr/>
        </p:nvGrpSpPr>
        <p:grpSpPr>
          <a:xfrm>
            <a:off x="2643120" y="2214720"/>
            <a:ext cx="2500560" cy="1750680"/>
            <a:chOff x="2643120" y="2214720"/>
            <a:chExt cx="2500560" cy="1750680"/>
          </a:xfrm>
        </p:grpSpPr>
        <p:sp>
          <p:nvSpPr>
            <p:cNvPr id="192" name="SMARTInkAnnotation61"/>
            <p:cNvSpPr/>
            <p:nvPr/>
          </p:nvSpPr>
          <p:spPr>
            <a:xfrm>
              <a:off x="4189320" y="2214720"/>
              <a:ext cx="114840" cy="360"/>
            </a:xfrm>
            <a:custGeom>
              <a:avLst/>
              <a:gdLst>
                <a:gd name="textAreaLeft" fmla="*/ 0 w 114840"/>
                <a:gd name="textAreaRight" fmla="*/ 115200 w 114840"/>
                <a:gd name="textAreaTop" fmla="*/ 0 h 360"/>
                <a:gd name="textAreaBottom" fmla="*/ 720 h 360"/>
              </a:gdLst>
              <a:ahLst/>
              <a:rect l="textAreaLeft" t="textAreaTop" r="textAreaRight" b="textAreaBottom"/>
              <a:pathLst>
                <a:path w="114846" h="1">
                  <a:moveTo>
                    <a:pt x="7689" y="0"/>
                  </a:moveTo>
                  <a:lnTo>
                    <a:pt x="0" y="0"/>
                  </a:lnTo>
                  <a:lnTo>
                    <a:pt x="114845" y="0"/>
                  </a:lnTo>
                </a:path>
              </a:pathLst>
            </a:custGeom>
            <a:noFill/>
            <a:ln w="38160">
              <a:solidFill>
                <a:srgbClr val="009300"/>
              </a:solidFill>
              <a:round/>
            </a:ln>
          </p:spPr>
          <p:style>
            <a:lnRef idx="0"/>
            <a:fillRef idx="0"/>
            <a:effectRef idx="0"/>
            <a:fontRef idx="minor"/>
          </p:style>
          <p:txBody>
            <a:bodyPr wrap="none" tIns="-45000" bIns="-45000" anchor="t">
              <a:noAutofit/>
            </a:bodyPr>
            <a:p>
              <a:endParaRPr b="0" lang="en-US" sz="2400" spc="-1" strike="noStrike">
                <a:solidFill>
                  <a:srgbClr val="ffffcc"/>
                </a:solidFill>
                <a:latin typeface="Times New Roman"/>
              </a:endParaRPr>
            </a:p>
          </p:txBody>
        </p:sp>
        <p:sp>
          <p:nvSpPr>
            <p:cNvPr id="193" name="SMARTInkAnnotation62"/>
            <p:cNvSpPr/>
            <p:nvPr/>
          </p:nvSpPr>
          <p:spPr>
            <a:xfrm>
              <a:off x="2643120" y="2714760"/>
              <a:ext cx="97920" cy="8640"/>
            </a:xfrm>
            <a:custGeom>
              <a:avLst/>
              <a:gdLst>
                <a:gd name="textAreaLeft" fmla="*/ 0 w 97920"/>
                <a:gd name="textAreaRight" fmla="*/ 98280 w 97920"/>
                <a:gd name="textAreaTop" fmla="*/ 0 h 8640"/>
                <a:gd name="textAreaBottom" fmla="*/ 9000 h 8640"/>
              </a:gdLst>
              <a:ahLst/>
              <a:rect l="textAreaLeft" t="textAreaTop" r="textAreaRight" b="textAreaBottom"/>
              <a:pathLst>
                <a:path w="98228" h="8930">
                  <a:moveTo>
                    <a:pt x="0" y="8929"/>
                  </a:moveTo>
                  <a:lnTo>
                    <a:pt x="64253" y="8929"/>
                  </a:lnTo>
                  <a:lnTo>
                    <a:pt x="67640" y="7937"/>
                  </a:lnTo>
                  <a:lnTo>
                    <a:pt x="70890" y="6283"/>
                  </a:lnTo>
                  <a:lnTo>
                    <a:pt x="74049" y="4189"/>
                  </a:lnTo>
                  <a:lnTo>
                    <a:pt x="77147" y="3784"/>
                  </a:lnTo>
                  <a:lnTo>
                    <a:pt x="80205" y="4507"/>
                  </a:lnTo>
                  <a:lnTo>
                    <a:pt x="83236" y="5981"/>
                  </a:lnTo>
                  <a:lnTo>
                    <a:pt x="85256" y="5972"/>
                  </a:lnTo>
                  <a:lnTo>
                    <a:pt x="86603" y="4973"/>
                  </a:lnTo>
                  <a:lnTo>
                    <a:pt x="87501" y="3315"/>
                  </a:lnTo>
                  <a:lnTo>
                    <a:pt x="89092" y="2210"/>
                  </a:lnTo>
                  <a:lnTo>
                    <a:pt x="91144" y="1473"/>
                  </a:lnTo>
                  <a:lnTo>
                    <a:pt x="93505" y="982"/>
                  </a:lnTo>
                  <a:lnTo>
                    <a:pt x="95079" y="1646"/>
                  </a:lnTo>
                  <a:lnTo>
                    <a:pt x="96128" y="3082"/>
                  </a:lnTo>
                  <a:lnTo>
                    <a:pt x="96827" y="5031"/>
                  </a:lnTo>
                  <a:lnTo>
                    <a:pt x="97294" y="5338"/>
                  </a:lnTo>
                  <a:lnTo>
                    <a:pt x="97604" y="4551"/>
                  </a:lnTo>
                  <a:lnTo>
                    <a:pt x="98224" y="15"/>
                  </a:lnTo>
                  <a:lnTo>
                    <a:pt x="98226" y="4"/>
                  </a:lnTo>
                  <a:lnTo>
                    <a:pt x="98226" y="3"/>
                  </a:lnTo>
                  <a:lnTo>
                    <a:pt x="98227" y="0"/>
                  </a:lnTo>
                </a:path>
              </a:pathLst>
            </a:custGeom>
            <a:noFill/>
            <a:ln w="38160">
              <a:solidFill>
                <a:srgbClr val="009300"/>
              </a:solidFill>
              <a:round/>
            </a:ln>
          </p:spPr>
          <p:style>
            <a:lnRef idx="0"/>
            <a:fillRef idx="0"/>
            <a:effectRef idx="0"/>
            <a:fontRef idx="minor"/>
          </p:style>
          <p:txBody>
            <a:bodyPr wrap="none" tIns="-36720" bIns="-36720" anchor="t">
              <a:noAutofit/>
            </a:bodyPr>
            <a:p>
              <a:endParaRPr b="0" lang="en-US" sz="2400" spc="-1" strike="noStrike">
                <a:solidFill>
                  <a:srgbClr val="ffffcc"/>
                </a:solidFill>
                <a:latin typeface="Times New Roman"/>
              </a:endParaRPr>
            </a:p>
          </p:txBody>
        </p:sp>
        <p:sp>
          <p:nvSpPr>
            <p:cNvPr id="194" name="SMARTInkAnnotation63"/>
            <p:cNvSpPr/>
            <p:nvPr/>
          </p:nvSpPr>
          <p:spPr>
            <a:xfrm>
              <a:off x="5018760" y="3938760"/>
              <a:ext cx="124920" cy="26640"/>
            </a:xfrm>
            <a:custGeom>
              <a:avLst/>
              <a:gdLst>
                <a:gd name="textAreaLeft" fmla="*/ 0 w 124920"/>
                <a:gd name="textAreaRight" fmla="*/ 125280 w 124920"/>
                <a:gd name="textAreaTop" fmla="*/ 0 h 26640"/>
                <a:gd name="textAreaBottom" fmla="*/ 27000 h 26640"/>
              </a:gdLst>
              <a:ahLst/>
              <a:rect l="textAreaLeft" t="textAreaTop" r="textAreaRight" b="textAreaBottom"/>
              <a:pathLst>
                <a:path w="125017" h="26790">
                  <a:moveTo>
                    <a:pt x="17859" y="8929"/>
                  </a:moveTo>
                  <a:lnTo>
                    <a:pt x="0" y="8929"/>
                  </a:lnTo>
                  <a:lnTo>
                    <a:pt x="7688" y="8929"/>
                  </a:lnTo>
                  <a:lnTo>
                    <a:pt x="11078" y="9921"/>
                  </a:lnTo>
                  <a:lnTo>
                    <a:pt x="31886" y="16618"/>
                  </a:lnTo>
                  <a:lnTo>
                    <a:pt x="34156" y="17031"/>
                  </a:lnTo>
                  <a:lnTo>
                    <a:pt x="36660" y="17308"/>
                  </a:lnTo>
                  <a:lnTo>
                    <a:pt x="39323" y="17491"/>
                  </a:lnTo>
                  <a:lnTo>
                    <a:pt x="42090" y="17614"/>
                  </a:lnTo>
                  <a:lnTo>
                    <a:pt x="51869" y="17827"/>
                  </a:lnTo>
                  <a:lnTo>
                    <a:pt x="61116" y="17856"/>
                  </a:lnTo>
                  <a:lnTo>
                    <a:pt x="62572" y="18849"/>
                  </a:lnTo>
                  <a:lnTo>
                    <a:pt x="64535" y="20504"/>
                  </a:lnTo>
                  <a:lnTo>
                    <a:pt x="66836" y="22599"/>
                  </a:lnTo>
                  <a:lnTo>
                    <a:pt x="69362" y="23995"/>
                  </a:lnTo>
                  <a:lnTo>
                    <a:pt x="72038" y="24926"/>
                  </a:lnTo>
                  <a:lnTo>
                    <a:pt x="78721" y="26421"/>
                  </a:lnTo>
                  <a:lnTo>
                    <a:pt x="82282" y="26625"/>
                  </a:lnTo>
                  <a:lnTo>
                    <a:pt x="87171" y="26716"/>
                  </a:lnTo>
                  <a:lnTo>
                    <a:pt x="125016" y="26789"/>
                  </a:lnTo>
                  <a:lnTo>
                    <a:pt x="111454" y="26789"/>
                  </a:lnTo>
                  <a:lnTo>
                    <a:pt x="109029" y="25797"/>
                  </a:lnTo>
                  <a:lnTo>
                    <a:pt x="106421" y="24143"/>
                  </a:lnTo>
                  <a:lnTo>
                    <a:pt x="99845" y="19100"/>
                  </a:lnTo>
                  <a:lnTo>
                    <a:pt x="96300" y="18410"/>
                  </a:lnTo>
                  <a:lnTo>
                    <a:pt x="93965" y="18226"/>
                  </a:lnTo>
                  <a:lnTo>
                    <a:pt x="91418" y="18104"/>
                  </a:lnTo>
                  <a:lnTo>
                    <a:pt x="85940" y="17968"/>
                  </a:lnTo>
                  <a:lnTo>
                    <a:pt x="68427" y="17868"/>
                  </a:lnTo>
                  <a:lnTo>
                    <a:pt x="65462" y="16873"/>
                  </a:lnTo>
                  <a:lnTo>
                    <a:pt x="62492" y="15217"/>
                  </a:lnTo>
                  <a:lnTo>
                    <a:pt x="59521" y="13121"/>
                  </a:lnTo>
                  <a:lnTo>
                    <a:pt x="56547" y="11724"/>
                  </a:lnTo>
                  <a:lnTo>
                    <a:pt x="53573" y="10793"/>
                  </a:lnTo>
                  <a:lnTo>
                    <a:pt x="50598" y="10172"/>
                  </a:lnTo>
                  <a:lnTo>
                    <a:pt x="47623" y="9757"/>
                  </a:lnTo>
                  <a:lnTo>
                    <a:pt x="44646" y="9482"/>
                  </a:lnTo>
                  <a:lnTo>
                    <a:pt x="41671" y="9297"/>
                  </a:lnTo>
                  <a:lnTo>
                    <a:pt x="35717" y="9093"/>
                  </a:lnTo>
                  <a:lnTo>
                    <a:pt x="32741" y="9038"/>
                  </a:lnTo>
                  <a:lnTo>
                    <a:pt x="29765" y="8010"/>
                  </a:lnTo>
                  <a:lnTo>
                    <a:pt x="26789" y="6331"/>
                  </a:lnTo>
                  <a:lnTo>
                    <a:pt x="19623" y="1250"/>
                  </a:lnTo>
                  <a:lnTo>
                    <a:pt x="15997" y="555"/>
                  </a:lnTo>
                  <a:lnTo>
                    <a:pt x="13642" y="370"/>
                  </a:lnTo>
                  <a:lnTo>
                    <a:pt x="11078" y="247"/>
                  </a:lnTo>
                  <a:lnTo>
                    <a:pt x="64" y="0"/>
                  </a:lnTo>
                  <a:lnTo>
                    <a:pt x="0" y="0"/>
                  </a:lnTo>
                </a:path>
              </a:pathLst>
            </a:custGeom>
            <a:noFill/>
            <a:ln w="38160">
              <a:solidFill>
                <a:srgbClr val="009300"/>
              </a:solidFill>
              <a:round/>
            </a:ln>
          </p:spPr>
          <p:style>
            <a:lnRef idx="0"/>
            <a:fillRef idx="0"/>
            <a:effectRef idx="0"/>
            <a:fontRef idx="minor"/>
          </p:style>
          <p:txBody>
            <a:bodyPr wrap="none" tIns="-18720" bIns="-18720" anchor="t">
              <a:noAutofit/>
            </a:bodyPr>
            <a:p>
              <a:endParaRPr b="0" lang="en-US" sz="24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cc00"/>
                </a:solidFill>
                <a:latin typeface="Times New Roman"/>
              </a:rPr>
              <a:t>Homework</a:t>
            </a:r>
            <a:endParaRPr b="0" lang="en-US" sz="4400" spc="-1" strike="noStrike">
              <a:solidFill>
                <a:srgbClr val="ffcc00"/>
              </a:solidFill>
              <a:latin typeface="Times New Roman"/>
            </a:endParaRPr>
          </a:p>
        </p:txBody>
      </p:sp>
      <p:sp>
        <p:nvSpPr>
          <p:cNvPr id="196"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P.252 Conceptual problems</a:t>
            </a:r>
            <a:br>
              <a:rPr sz="3200"/>
            </a:br>
            <a:r>
              <a:rPr b="0" lang="en-CA" sz="3200" spc="-1" strike="noStrike">
                <a:solidFill>
                  <a:srgbClr val="ffffcc"/>
                </a:solidFill>
                <a:latin typeface="Times New Roman"/>
              </a:rPr>
              <a:t>254 #’s 30,31,32,33,34</a:t>
            </a:r>
            <a:br>
              <a:rPr sz="3200"/>
            </a:br>
            <a:r>
              <a:rPr b="0" lang="en-CA" sz="3200" spc="-1" strike="noStrike">
                <a:solidFill>
                  <a:srgbClr val="ffffcc"/>
                </a:solidFill>
                <a:latin typeface="Times New Roman"/>
              </a:rPr>
              <a:t>258 #’s 35</a:t>
            </a:r>
            <a:br>
              <a:rPr sz="3200"/>
            </a:br>
            <a:r>
              <a:rPr b="0" lang="en-CA" sz="3200" spc="-1" strike="noStrike">
                <a:solidFill>
                  <a:srgbClr val="ffffcc"/>
                </a:solidFill>
                <a:latin typeface="Times New Roman"/>
              </a:rPr>
              <a:t>261 #’s 38,39,40</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Potential Energy</a:t>
            </a:r>
            <a:br>
              <a:rPr sz="4400"/>
            </a:br>
            <a:endParaRPr b="0" lang="en-US" sz="4400" spc="-1" strike="noStrike">
              <a:solidFill>
                <a:srgbClr val="ffcc00"/>
              </a:solidFill>
              <a:latin typeface="Times New Roman"/>
            </a:endParaRPr>
          </a:p>
        </p:txBody>
      </p:sp>
      <p:sp>
        <p:nvSpPr>
          <p:cNvPr id="110" name="PlaceHolder 2"/>
          <p:cNvSpPr>
            <a:spLocks noGrp="1"/>
          </p:cNvSpPr>
          <p:nvPr>
            <p:ph/>
          </p:nvPr>
        </p:nvSpPr>
        <p:spPr>
          <a:xfrm>
            <a:off x="685800" y="1599840"/>
            <a:ext cx="7772400" cy="4876920"/>
          </a:xfrm>
          <a:prstGeom prst="rect">
            <a:avLst/>
          </a:prstGeom>
          <a:noFill/>
          <a:ln w="0">
            <a:noFill/>
          </a:ln>
        </p:spPr>
        <p:txBody>
          <a:bodyPr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uppose work is done on a spring or elastic by stretching them, or that an object is lifted off the floor. In each case work has been done on the bodies because they have been moved by a force.That work is now STORED by the object and the object has the ability to do work at a later time.</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 </a:t>
            </a:r>
            <a:endParaRPr b="0" lang="en-US" sz="4400" spc="-1" strike="noStrike">
              <a:solidFill>
                <a:srgbClr val="ffcc00"/>
              </a:solidFill>
              <a:latin typeface="Times New Roman"/>
            </a:endParaRPr>
          </a:p>
        </p:txBody>
      </p:sp>
      <p:sp>
        <p:nvSpPr>
          <p:cNvPr id="112" name="PlaceHolder 2"/>
          <p:cNvSpPr>
            <a:spLocks noGrp="1"/>
          </p:cNvSpPr>
          <p:nvPr>
            <p:ph/>
          </p:nvPr>
        </p:nvSpPr>
        <p:spPr>
          <a:xfrm>
            <a:off x="762120" y="304560"/>
            <a:ext cx="7772400" cy="6553080"/>
          </a:xfrm>
          <a:prstGeom prst="rect">
            <a:avLst/>
          </a:prstGeom>
          <a:noFill/>
          <a:ln w="0">
            <a:noFill/>
          </a:ln>
        </p:spPr>
        <p:txBody>
          <a:bodyPr anchor="t">
            <a:normAutofit/>
          </a:bodyPr>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object’s energy is dependent on its  POSITION instead of its motion. The energy due to position is called POTENTIAL ENERGY (PE)</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re are many types of PE:</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a) Elastic PE - Work is done to expand the elastic</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b) Spring PE - An object does work to compress the spring</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c) Magnetic PE - Work must be done to separate the magnets</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d) Gravitational PE - Work is done to raise an object to a heigh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Gravitational Potential Energy</a:t>
            </a:r>
            <a:endParaRPr b="0" lang="en-US" sz="4400" spc="-1" strike="noStrike">
              <a:solidFill>
                <a:srgbClr val="ffcc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energy transferred by a force to an object is equal to the work done on the object. For example, when you lift your book bag from the floor to the desk you are counteracting gravity and creating E</a:t>
            </a:r>
            <a:r>
              <a:rPr b="0" lang="en-US" sz="3200" spc="-1" strike="noStrike" baseline="-25000">
                <a:solidFill>
                  <a:srgbClr val="ffffcc"/>
                </a:solidFill>
                <a:latin typeface="Times New Roman"/>
              </a:rPr>
              <a:t>g</a:t>
            </a:r>
            <a:r>
              <a:rPr b="0" lang="en-US" sz="3200" spc="-1" strike="noStrike">
                <a:solidFill>
                  <a:srgbClr val="ffffcc"/>
                </a:solidFill>
                <a:latin typeface="Times New Roman"/>
              </a:rPr>
              <a:t> or GPE.</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The formula is:    E</a:t>
            </a:r>
            <a:r>
              <a:rPr b="0" lang="en-US" sz="3200" spc="-1" strike="noStrike" baseline="-25000">
                <a:solidFill>
                  <a:srgbClr val="ffffcc"/>
                </a:solidFill>
                <a:latin typeface="Times New Roman"/>
              </a:rPr>
              <a:t>g</a:t>
            </a:r>
            <a:r>
              <a:rPr b="0" lang="en-US" sz="3200" spc="-1" strike="noStrike">
                <a:solidFill>
                  <a:srgbClr val="ffffcc"/>
                </a:solidFill>
                <a:latin typeface="Times New Roman"/>
              </a:rPr>
              <a:t>= mg</a:t>
            </a:r>
            <a:r>
              <a:rPr b="0" lang="en-US" sz="3200" spc="-1" strike="noStrike">
                <a:solidFill>
                  <a:srgbClr val="ffffcc"/>
                </a:solidFill>
                <a:latin typeface="Symbol"/>
                <a:ea typeface="Symbol"/>
              </a:rPr>
              <a:t></a:t>
            </a:r>
            <a:r>
              <a:rPr b="0" lang="en-US" sz="3200" spc="-1" strike="noStrike">
                <a:solidFill>
                  <a:srgbClr val="ffffcc"/>
                </a:solidFill>
                <a:latin typeface="Times New Roman"/>
              </a:rPr>
              <a:t>h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Where  E</a:t>
            </a:r>
            <a:r>
              <a:rPr b="0" lang="en-US" sz="3200" spc="-1" strike="noStrike" baseline="-25000">
                <a:solidFill>
                  <a:srgbClr val="ffffcc"/>
                </a:solidFill>
                <a:latin typeface="Times New Roman"/>
              </a:rPr>
              <a:t>g</a:t>
            </a:r>
            <a:r>
              <a:rPr b="0" lang="en-US" sz="3200" spc="-1" strike="noStrike">
                <a:solidFill>
                  <a:srgbClr val="ffffcc"/>
                </a:solidFill>
                <a:latin typeface="Times New Roman"/>
              </a:rPr>
              <a:t> is Gravitational PE in J (Joules)</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m  is mass in kg</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g   is accel. due to gravity in m/s</a:t>
            </a:r>
            <a:r>
              <a:rPr b="0" lang="en-US" sz="3200" spc="-1" strike="noStrike" baseline="30000">
                <a:solidFill>
                  <a:srgbClr val="ffffcc"/>
                </a:solidFill>
                <a:latin typeface="Times New Roman"/>
              </a:rPr>
              <a:t>2</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and </a:t>
            </a:r>
            <a:r>
              <a:rPr b="0" lang="en-US" sz="3200" spc="-1" strike="noStrike">
                <a:solidFill>
                  <a:srgbClr val="ffffcc"/>
                </a:solidFill>
                <a:latin typeface="Symbol"/>
                <a:ea typeface="Symbol"/>
              </a:rPr>
              <a:t></a:t>
            </a:r>
            <a:r>
              <a:rPr b="0" lang="en-US" sz="3200" spc="-1" strike="noStrike">
                <a:solidFill>
                  <a:srgbClr val="ffffcc"/>
                </a:solidFill>
                <a:latin typeface="Times New Roman"/>
              </a:rPr>
              <a:t>h  is the change in height in m</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xample 1</a:t>
            </a:r>
            <a:endParaRPr b="0" lang="en-US" sz="4400" spc="-1" strike="noStrike">
              <a:solidFill>
                <a:srgbClr val="ffcc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 man lifts a box weighing 51 kg from the ground to a table ( 1.5m high ), then to a shelf (2.5m from ground ).</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a) What is the E</a:t>
            </a:r>
            <a:r>
              <a:rPr b="0" lang="en-US" sz="3200" spc="-1" strike="noStrike" baseline="-25000">
                <a:solidFill>
                  <a:srgbClr val="ffffcc"/>
                </a:solidFill>
                <a:latin typeface="Times New Roman"/>
              </a:rPr>
              <a:t>g</a:t>
            </a:r>
            <a:r>
              <a:rPr b="0" lang="en-US" sz="3200" spc="-1" strike="noStrike">
                <a:solidFill>
                  <a:srgbClr val="ffffcc"/>
                </a:solidFill>
                <a:latin typeface="Times New Roman"/>
              </a:rPr>
              <a:t> of the box with respect to the ground?</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b)… with respect to the table?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0"/>
            <a:ext cx="7772400" cy="76320"/>
          </a:xfrm>
          <a:prstGeom prst="rect">
            <a:avLst/>
          </a:prstGeom>
          <a:noFill/>
          <a:ln w="0">
            <a:noFill/>
          </a:ln>
        </p:spPr>
        <p:txBody>
          <a:bodyPr tIns="30600" bIns="30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 </a:t>
            </a:r>
            <a:endParaRPr b="0" lang="en-US" sz="4400" spc="-1" strike="noStrike">
              <a:solidFill>
                <a:srgbClr val="ffcc00"/>
              </a:solidFill>
              <a:latin typeface="Times New Roman"/>
            </a:endParaRPr>
          </a:p>
        </p:txBody>
      </p:sp>
      <p:sp>
        <p:nvSpPr>
          <p:cNvPr id="120" name="PlaceHolder 2"/>
          <p:cNvSpPr>
            <a:spLocks noGrp="1"/>
          </p:cNvSpPr>
          <p:nvPr>
            <p:ph/>
          </p:nvPr>
        </p:nvSpPr>
        <p:spPr>
          <a:xfrm>
            <a:off x="685800" y="990360"/>
            <a:ext cx="7772400" cy="5105160"/>
          </a:xfrm>
          <a:prstGeom prst="rect">
            <a:avLst/>
          </a:prstGeom>
          <a:noFill/>
          <a:ln w="0">
            <a:noFill/>
          </a:ln>
        </p:spPr>
        <p:txBody>
          <a:bodyPr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Notice that the frame of reference is very important.</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a)E</a:t>
            </a:r>
            <a:r>
              <a:rPr b="0" lang="en-US" sz="3200" spc="-1" strike="noStrike" baseline="-25000">
                <a:solidFill>
                  <a:srgbClr val="ffffcc"/>
                </a:solidFill>
                <a:latin typeface="Times New Roman"/>
              </a:rPr>
              <a:t>g</a:t>
            </a:r>
            <a:r>
              <a:rPr b="0" lang="en-US" sz="3200" spc="-1" strike="noStrike">
                <a:solidFill>
                  <a:srgbClr val="ffffcc"/>
                </a:solidFill>
                <a:latin typeface="Times New Roman"/>
              </a:rPr>
              <a:t>= mg</a:t>
            </a:r>
            <a:r>
              <a:rPr b="0" lang="en-US" sz="3200" spc="-1" strike="noStrike">
                <a:solidFill>
                  <a:srgbClr val="ffffcc"/>
                </a:solidFill>
                <a:latin typeface="Symbol"/>
                <a:ea typeface="Symbol"/>
              </a:rPr>
              <a:t></a:t>
            </a:r>
            <a:r>
              <a:rPr b="0" lang="en-US" sz="3200" spc="-1" strike="noStrike">
                <a:solidFill>
                  <a:srgbClr val="ffffcc"/>
                </a:solidFill>
                <a:latin typeface="Times New Roman"/>
              </a:rPr>
              <a:t>h</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 51kg x 9.8m/s</a:t>
            </a:r>
            <a:r>
              <a:rPr b="0" lang="en-US" sz="3200" spc="-1" strike="noStrike" baseline="30000">
                <a:solidFill>
                  <a:srgbClr val="ffffcc"/>
                </a:solidFill>
                <a:latin typeface="Times New Roman"/>
              </a:rPr>
              <a:t>2</a:t>
            </a:r>
            <a:r>
              <a:rPr b="0" lang="en-US" sz="3200" spc="-1" strike="noStrike">
                <a:solidFill>
                  <a:srgbClr val="ffffcc"/>
                </a:solidFill>
                <a:latin typeface="Times New Roman"/>
              </a:rPr>
              <a:t> x 2.5m</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 1.25 x 10</a:t>
            </a:r>
            <a:r>
              <a:rPr b="0" lang="en-US" sz="3200" spc="-1" strike="noStrike" baseline="30000">
                <a:solidFill>
                  <a:srgbClr val="ffffcc"/>
                </a:solidFill>
                <a:latin typeface="Times New Roman"/>
              </a:rPr>
              <a:t>3</a:t>
            </a:r>
            <a:r>
              <a:rPr b="0" lang="en-US" sz="3200" spc="-1" strike="noStrike">
                <a:solidFill>
                  <a:srgbClr val="ffffcc"/>
                </a:solidFill>
                <a:latin typeface="Times New Roman"/>
              </a:rPr>
              <a:t> J (from floor)</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b) E</a:t>
            </a:r>
            <a:r>
              <a:rPr b="0" lang="en-US" sz="3200" spc="-1" strike="noStrike" baseline="-25000">
                <a:solidFill>
                  <a:srgbClr val="ffffcc"/>
                </a:solidFill>
                <a:latin typeface="Times New Roman"/>
              </a:rPr>
              <a:t>g</a:t>
            </a:r>
            <a:r>
              <a:rPr b="0" lang="en-US" sz="3200" spc="-1" strike="noStrike">
                <a:solidFill>
                  <a:srgbClr val="ffffcc"/>
                </a:solidFill>
                <a:latin typeface="Times New Roman"/>
              </a:rPr>
              <a:t> = mg</a:t>
            </a:r>
            <a:r>
              <a:rPr b="0" lang="en-US" sz="3200" spc="-1" strike="noStrike">
                <a:solidFill>
                  <a:srgbClr val="ffffcc"/>
                </a:solidFill>
                <a:latin typeface="Symbol"/>
                <a:ea typeface="Symbol"/>
              </a:rPr>
              <a:t></a:t>
            </a:r>
            <a:r>
              <a:rPr b="0" lang="en-US" sz="3200" spc="-1" strike="noStrike">
                <a:solidFill>
                  <a:srgbClr val="ffffcc"/>
                </a:solidFill>
                <a:latin typeface="Times New Roman"/>
              </a:rPr>
              <a:t>h</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 51kg x 9.8m/s</a:t>
            </a:r>
            <a:r>
              <a:rPr b="0" lang="en-US" sz="3200" spc="-1" strike="noStrike" baseline="30000">
                <a:solidFill>
                  <a:srgbClr val="ffffcc"/>
                </a:solidFill>
                <a:latin typeface="Times New Roman"/>
              </a:rPr>
              <a:t>2</a:t>
            </a:r>
            <a:r>
              <a:rPr b="0" lang="en-US" sz="3200" spc="-1" strike="noStrike">
                <a:solidFill>
                  <a:srgbClr val="ffffcc"/>
                </a:solidFill>
                <a:latin typeface="Times New Roman"/>
              </a:rPr>
              <a:t> x 1.0m</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 5.0 x 10</a:t>
            </a:r>
            <a:r>
              <a:rPr b="0" lang="en-US" sz="3200" spc="-1" strike="noStrike" baseline="30000">
                <a:solidFill>
                  <a:srgbClr val="ffffcc"/>
                </a:solidFill>
                <a:latin typeface="Times New Roman"/>
              </a:rPr>
              <a:t>2</a:t>
            </a:r>
            <a:r>
              <a:rPr b="0" lang="en-US" sz="3200" spc="-1" strike="noStrike">
                <a:solidFill>
                  <a:srgbClr val="ffffcc"/>
                </a:solidFill>
                <a:latin typeface="Times New Roman"/>
              </a:rPr>
              <a:t> J (from table)</a:t>
            </a:r>
            <a:endParaRPr b="0" lang="en-US" sz="3200" spc="-1" strike="noStrike">
              <a:solidFill>
                <a:srgbClr val="ffffcc"/>
              </a:solidFill>
              <a:latin typeface="Times New Roman"/>
            </a:endParaRPr>
          </a:p>
        </p:txBody>
      </p:sp>
      <p:sp>
        <p:nvSpPr>
          <p:cNvPr id="121" name="SMARTInkAnnotation0"/>
          <p:cNvSpPr/>
          <p:nvPr/>
        </p:nvSpPr>
        <p:spPr>
          <a:xfrm>
            <a:off x="5153040" y="2268360"/>
            <a:ext cx="214200" cy="303480"/>
          </a:xfrm>
          <a:custGeom>
            <a:avLst/>
            <a:gdLst>
              <a:gd name="textAreaLeft" fmla="*/ 0 w 214200"/>
              <a:gd name="textAreaRight" fmla="*/ 214560 w 214200"/>
              <a:gd name="textAreaTop" fmla="*/ 0 h 303480"/>
              <a:gd name="textAreaBottom" fmla="*/ 303840 h 303480"/>
            </a:gdLst>
            <a:ahLst/>
            <a:rect l="textAreaLeft" t="textAreaTop" r="textAreaRight" b="textAreaBottom"/>
            <a:pathLst>
              <a:path w="214277" h="303599">
                <a:moveTo>
                  <a:pt x="17859" y="187512"/>
                </a:moveTo>
                <a:lnTo>
                  <a:pt x="17859" y="205554"/>
                </a:lnTo>
                <a:lnTo>
                  <a:pt x="16867" y="209462"/>
                </a:lnTo>
                <a:lnTo>
                  <a:pt x="13118" y="216450"/>
                </a:lnTo>
                <a:lnTo>
                  <a:pt x="10791" y="222863"/>
                </a:lnTo>
                <a:lnTo>
                  <a:pt x="10170" y="225962"/>
                </a:lnTo>
                <a:lnTo>
                  <a:pt x="6835" y="232051"/>
                </a:lnTo>
                <a:lnTo>
                  <a:pt x="4556" y="235064"/>
                </a:lnTo>
                <a:lnTo>
                  <a:pt x="2025" y="241057"/>
                </a:lnTo>
                <a:lnTo>
                  <a:pt x="600" y="250010"/>
                </a:lnTo>
                <a:lnTo>
                  <a:pt x="2" y="258903"/>
                </a:lnTo>
                <a:lnTo>
                  <a:pt x="0" y="246516"/>
                </a:lnTo>
                <a:lnTo>
                  <a:pt x="992" y="243715"/>
                </a:lnTo>
                <a:lnTo>
                  <a:pt x="4740" y="237957"/>
                </a:lnTo>
                <a:lnTo>
                  <a:pt x="7068" y="229445"/>
                </a:lnTo>
                <a:lnTo>
                  <a:pt x="7688" y="224397"/>
                </a:lnTo>
                <a:lnTo>
                  <a:pt x="12071" y="216070"/>
                </a:lnTo>
                <a:lnTo>
                  <a:pt x="18961" y="205559"/>
                </a:lnTo>
                <a:lnTo>
                  <a:pt x="27523" y="193590"/>
                </a:lnTo>
                <a:lnTo>
                  <a:pt x="34223" y="183626"/>
                </a:lnTo>
                <a:lnTo>
                  <a:pt x="39682" y="174999"/>
                </a:lnTo>
                <a:lnTo>
                  <a:pt x="44315" y="167264"/>
                </a:lnTo>
                <a:lnTo>
                  <a:pt x="49386" y="160123"/>
                </a:lnTo>
                <a:lnTo>
                  <a:pt x="54752" y="153377"/>
                </a:lnTo>
                <a:lnTo>
                  <a:pt x="60314" y="146896"/>
                </a:lnTo>
                <a:lnTo>
                  <a:pt x="65013" y="140590"/>
                </a:lnTo>
                <a:lnTo>
                  <a:pt x="69139" y="134403"/>
                </a:lnTo>
                <a:lnTo>
                  <a:pt x="72882" y="128293"/>
                </a:lnTo>
                <a:lnTo>
                  <a:pt x="76369" y="122236"/>
                </a:lnTo>
                <a:lnTo>
                  <a:pt x="82889" y="110214"/>
                </a:lnTo>
                <a:lnTo>
                  <a:pt x="89095" y="100902"/>
                </a:lnTo>
                <a:lnTo>
                  <a:pt x="95160" y="92463"/>
                </a:lnTo>
                <a:lnTo>
                  <a:pt x="98166" y="87435"/>
                </a:lnTo>
                <a:lnTo>
                  <a:pt x="101162" y="82099"/>
                </a:lnTo>
                <a:lnTo>
                  <a:pt x="107138" y="73523"/>
                </a:lnTo>
                <a:lnTo>
                  <a:pt x="110120" y="69847"/>
                </a:lnTo>
                <a:lnTo>
                  <a:pt x="113434" y="63117"/>
                </a:lnTo>
                <a:lnTo>
                  <a:pt x="114317" y="59934"/>
                </a:lnTo>
                <a:lnTo>
                  <a:pt x="117945" y="53751"/>
                </a:lnTo>
                <a:lnTo>
                  <a:pt x="122865" y="47695"/>
                </a:lnTo>
                <a:lnTo>
                  <a:pt x="128360" y="41696"/>
                </a:lnTo>
                <a:lnTo>
                  <a:pt x="137029" y="32741"/>
                </a:lnTo>
                <a:lnTo>
                  <a:pt x="142922" y="24136"/>
                </a:lnTo>
                <a:lnTo>
                  <a:pt x="145883" y="19063"/>
                </a:lnTo>
                <a:lnTo>
                  <a:pt x="148849" y="15681"/>
                </a:lnTo>
                <a:lnTo>
                  <a:pt x="151818" y="13427"/>
                </a:lnTo>
                <a:lnTo>
                  <a:pt x="157764" y="9930"/>
                </a:lnTo>
                <a:lnTo>
                  <a:pt x="163712" y="5068"/>
                </a:lnTo>
                <a:lnTo>
                  <a:pt x="169650" y="0"/>
                </a:lnTo>
                <a:lnTo>
                  <a:pt x="169659" y="4732"/>
                </a:lnTo>
                <a:lnTo>
                  <a:pt x="170653" y="7119"/>
                </a:lnTo>
                <a:lnTo>
                  <a:pt x="175799" y="15220"/>
                </a:lnTo>
                <a:lnTo>
                  <a:pt x="177352" y="20979"/>
                </a:lnTo>
                <a:lnTo>
                  <a:pt x="178225" y="29800"/>
                </a:lnTo>
                <a:lnTo>
                  <a:pt x="178429" y="38373"/>
                </a:lnTo>
                <a:lnTo>
                  <a:pt x="178592" y="113111"/>
                </a:lnTo>
                <a:lnTo>
                  <a:pt x="179584" y="120052"/>
                </a:lnTo>
                <a:lnTo>
                  <a:pt x="181238" y="127656"/>
                </a:lnTo>
                <a:lnTo>
                  <a:pt x="183333" y="135702"/>
                </a:lnTo>
                <a:lnTo>
                  <a:pt x="184729" y="143050"/>
                </a:lnTo>
                <a:lnTo>
                  <a:pt x="185660" y="149932"/>
                </a:lnTo>
                <a:lnTo>
                  <a:pt x="186281" y="156506"/>
                </a:lnTo>
                <a:lnTo>
                  <a:pt x="187687" y="162872"/>
                </a:lnTo>
                <a:lnTo>
                  <a:pt x="189616" y="169101"/>
                </a:lnTo>
                <a:lnTo>
                  <a:pt x="191895" y="175238"/>
                </a:lnTo>
                <a:lnTo>
                  <a:pt x="193414" y="181313"/>
                </a:lnTo>
                <a:lnTo>
                  <a:pt x="194426" y="187348"/>
                </a:lnTo>
                <a:lnTo>
                  <a:pt x="195101" y="193356"/>
                </a:lnTo>
                <a:lnTo>
                  <a:pt x="198498" y="202677"/>
                </a:lnTo>
                <a:lnTo>
                  <a:pt x="200793" y="206551"/>
                </a:lnTo>
                <a:lnTo>
                  <a:pt x="202323" y="211119"/>
                </a:lnTo>
                <a:lnTo>
                  <a:pt x="203342" y="216148"/>
                </a:lnTo>
                <a:lnTo>
                  <a:pt x="204022" y="221485"/>
                </a:lnTo>
                <a:lnTo>
                  <a:pt x="207424" y="230061"/>
                </a:lnTo>
                <a:lnTo>
                  <a:pt x="211249" y="237180"/>
                </a:lnTo>
                <a:lnTo>
                  <a:pt x="212951" y="243652"/>
                </a:lnTo>
                <a:lnTo>
                  <a:pt x="213908" y="252873"/>
                </a:lnTo>
                <a:lnTo>
                  <a:pt x="214192" y="261889"/>
                </a:lnTo>
                <a:lnTo>
                  <a:pt x="214276" y="270844"/>
                </a:lnTo>
                <a:lnTo>
                  <a:pt x="213295" y="272832"/>
                </a:lnTo>
                <a:lnTo>
                  <a:pt x="211650" y="274158"/>
                </a:lnTo>
                <a:lnTo>
                  <a:pt x="209560" y="275041"/>
                </a:lnTo>
                <a:lnTo>
                  <a:pt x="204593" y="276023"/>
                </a:lnTo>
                <a:lnTo>
                  <a:pt x="201879" y="276285"/>
                </a:lnTo>
                <a:lnTo>
                  <a:pt x="199078" y="277451"/>
                </a:lnTo>
                <a:lnTo>
                  <a:pt x="193320" y="281394"/>
                </a:lnTo>
                <a:lnTo>
                  <a:pt x="189403" y="282842"/>
                </a:lnTo>
                <a:lnTo>
                  <a:pt x="184808" y="283807"/>
                </a:lnTo>
                <a:lnTo>
                  <a:pt x="179759" y="284451"/>
                </a:lnTo>
                <a:lnTo>
                  <a:pt x="174410" y="284880"/>
                </a:lnTo>
                <a:lnTo>
                  <a:pt x="168859" y="285166"/>
                </a:lnTo>
                <a:lnTo>
                  <a:pt x="157399" y="285484"/>
                </a:lnTo>
                <a:lnTo>
                  <a:pt x="110118" y="285728"/>
                </a:lnTo>
                <a:lnTo>
                  <a:pt x="104170" y="286724"/>
                </a:lnTo>
                <a:lnTo>
                  <a:pt x="98219" y="288379"/>
                </a:lnTo>
                <a:lnTo>
                  <a:pt x="92268" y="290476"/>
                </a:lnTo>
                <a:lnTo>
                  <a:pt x="86317" y="291873"/>
                </a:lnTo>
                <a:lnTo>
                  <a:pt x="80364" y="292805"/>
                </a:lnTo>
                <a:lnTo>
                  <a:pt x="74412" y="293426"/>
                </a:lnTo>
                <a:lnTo>
                  <a:pt x="69452" y="293839"/>
                </a:lnTo>
                <a:lnTo>
                  <a:pt x="65152" y="294116"/>
                </a:lnTo>
                <a:lnTo>
                  <a:pt x="61294" y="294300"/>
                </a:lnTo>
                <a:lnTo>
                  <a:pt x="57729" y="295415"/>
                </a:lnTo>
                <a:lnTo>
                  <a:pt x="51124" y="299299"/>
                </a:lnTo>
                <a:lnTo>
                  <a:pt x="44648" y="303598"/>
                </a:lnTo>
              </a:path>
            </a:pathLst>
          </a:custGeom>
          <a:noFill/>
          <a:ln w="38160">
            <a:solidFill>
              <a:srgbClr val="009300"/>
            </a:solidFill>
            <a:round/>
          </a:ln>
        </p:spPr>
        <p:style>
          <a:lnRef idx="0"/>
          <a:fillRef idx="0"/>
          <a:effectRef idx="0"/>
          <a:fontRef idx="minor"/>
        </p:style>
        <p:txBody>
          <a:bodyPr wrap="none" anchor="t">
            <a:noAutofit/>
          </a:bodyPr>
          <a:p>
            <a:endParaRPr b="0" lang="en-US" sz="2400" spc="-1" strike="noStrike">
              <a:solidFill>
                <a:srgbClr val="ffffcc"/>
              </a:solidFill>
              <a:latin typeface="Times New Roman"/>
            </a:endParaRPr>
          </a:p>
        </p:txBody>
      </p:sp>
      <p:sp>
        <p:nvSpPr>
          <p:cNvPr id="122" name="SMARTInkAnnotation1"/>
          <p:cNvSpPr/>
          <p:nvPr/>
        </p:nvSpPr>
        <p:spPr>
          <a:xfrm>
            <a:off x="5446800" y="2187720"/>
            <a:ext cx="152280" cy="409320"/>
          </a:xfrm>
          <a:custGeom>
            <a:avLst/>
            <a:gdLst>
              <a:gd name="textAreaLeft" fmla="*/ 0 w 152280"/>
              <a:gd name="textAreaRight" fmla="*/ 152640 w 152280"/>
              <a:gd name="textAreaTop" fmla="*/ 0 h 409320"/>
              <a:gd name="textAreaBottom" fmla="*/ 409680 h 409320"/>
            </a:gdLst>
            <a:ahLst/>
            <a:rect l="textAreaLeft" t="textAreaTop" r="textAreaRight" b="textAreaBottom"/>
            <a:pathLst>
              <a:path w="151805" h="408953">
                <a:moveTo>
                  <a:pt x="8929" y="0"/>
                </a:moveTo>
                <a:lnTo>
                  <a:pt x="8929" y="43190"/>
                </a:lnTo>
                <a:lnTo>
                  <a:pt x="11575" y="54253"/>
                </a:lnTo>
                <a:lnTo>
                  <a:pt x="13669" y="59981"/>
                </a:lnTo>
                <a:lnTo>
                  <a:pt x="15066" y="66776"/>
                </a:lnTo>
                <a:lnTo>
                  <a:pt x="15997" y="74283"/>
                </a:lnTo>
                <a:lnTo>
                  <a:pt x="16618" y="82264"/>
                </a:lnTo>
                <a:lnTo>
                  <a:pt x="17032" y="90561"/>
                </a:lnTo>
                <a:lnTo>
                  <a:pt x="17490" y="107718"/>
                </a:lnTo>
                <a:lnTo>
                  <a:pt x="17858" y="352804"/>
                </a:lnTo>
                <a:lnTo>
                  <a:pt x="15213" y="365492"/>
                </a:lnTo>
                <a:lnTo>
                  <a:pt x="11722" y="376753"/>
                </a:lnTo>
                <a:lnTo>
                  <a:pt x="9756" y="388671"/>
                </a:lnTo>
                <a:lnTo>
                  <a:pt x="9297" y="395323"/>
                </a:lnTo>
                <a:lnTo>
                  <a:pt x="8182" y="398486"/>
                </a:lnTo>
                <a:lnTo>
                  <a:pt x="4297" y="404647"/>
                </a:lnTo>
                <a:lnTo>
                  <a:pt x="1273" y="408952"/>
                </a:lnTo>
                <a:lnTo>
                  <a:pt x="848" y="408565"/>
                </a:lnTo>
                <a:lnTo>
                  <a:pt x="111" y="402918"/>
                </a:lnTo>
                <a:lnTo>
                  <a:pt x="22" y="393928"/>
                </a:lnTo>
                <a:lnTo>
                  <a:pt x="0" y="341880"/>
                </a:lnTo>
                <a:lnTo>
                  <a:pt x="992" y="335076"/>
                </a:lnTo>
                <a:lnTo>
                  <a:pt x="2645" y="327563"/>
                </a:lnTo>
                <a:lnTo>
                  <a:pt x="4740" y="319579"/>
                </a:lnTo>
                <a:lnTo>
                  <a:pt x="6136" y="312271"/>
                </a:lnTo>
                <a:lnTo>
                  <a:pt x="7067" y="305415"/>
                </a:lnTo>
                <a:lnTo>
                  <a:pt x="7688" y="298860"/>
                </a:lnTo>
                <a:lnTo>
                  <a:pt x="11023" y="286285"/>
                </a:lnTo>
                <a:lnTo>
                  <a:pt x="13302" y="280153"/>
                </a:lnTo>
                <a:lnTo>
                  <a:pt x="15813" y="274081"/>
                </a:lnTo>
                <a:lnTo>
                  <a:pt x="18480" y="268049"/>
                </a:lnTo>
                <a:lnTo>
                  <a:pt x="23095" y="256055"/>
                </a:lnTo>
                <a:lnTo>
                  <a:pt x="25146" y="244109"/>
                </a:lnTo>
                <a:lnTo>
                  <a:pt x="28704" y="232186"/>
                </a:lnTo>
                <a:lnTo>
                  <a:pt x="31043" y="226228"/>
                </a:lnTo>
                <a:lnTo>
                  <a:pt x="33593" y="221264"/>
                </a:lnTo>
                <a:lnTo>
                  <a:pt x="36286" y="216962"/>
                </a:lnTo>
                <a:lnTo>
                  <a:pt x="39073" y="213102"/>
                </a:lnTo>
                <a:lnTo>
                  <a:pt x="41923" y="209537"/>
                </a:lnTo>
                <a:lnTo>
                  <a:pt x="44816" y="206168"/>
                </a:lnTo>
                <a:lnTo>
                  <a:pt x="47736" y="202929"/>
                </a:lnTo>
                <a:lnTo>
                  <a:pt x="50676" y="200771"/>
                </a:lnTo>
                <a:lnTo>
                  <a:pt x="53627" y="199332"/>
                </a:lnTo>
                <a:lnTo>
                  <a:pt x="56587" y="198372"/>
                </a:lnTo>
                <a:lnTo>
                  <a:pt x="59552" y="196740"/>
                </a:lnTo>
                <a:lnTo>
                  <a:pt x="62522" y="194660"/>
                </a:lnTo>
                <a:lnTo>
                  <a:pt x="65493" y="192281"/>
                </a:lnTo>
                <a:lnTo>
                  <a:pt x="68467" y="190695"/>
                </a:lnTo>
                <a:lnTo>
                  <a:pt x="71441" y="189638"/>
                </a:lnTo>
                <a:lnTo>
                  <a:pt x="74416" y="188933"/>
                </a:lnTo>
                <a:lnTo>
                  <a:pt x="77391" y="189455"/>
                </a:lnTo>
                <a:lnTo>
                  <a:pt x="80368" y="190796"/>
                </a:lnTo>
                <a:lnTo>
                  <a:pt x="83343" y="192681"/>
                </a:lnTo>
                <a:lnTo>
                  <a:pt x="87311" y="193938"/>
                </a:lnTo>
                <a:lnTo>
                  <a:pt x="91942" y="194777"/>
                </a:lnTo>
                <a:lnTo>
                  <a:pt x="97013" y="195335"/>
                </a:lnTo>
                <a:lnTo>
                  <a:pt x="101386" y="196700"/>
                </a:lnTo>
                <a:lnTo>
                  <a:pt x="105293" y="198602"/>
                </a:lnTo>
                <a:lnTo>
                  <a:pt x="108891" y="200862"/>
                </a:lnTo>
                <a:lnTo>
                  <a:pt x="111289" y="204353"/>
                </a:lnTo>
                <a:lnTo>
                  <a:pt x="113953" y="213524"/>
                </a:lnTo>
                <a:lnTo>
                  <a:pt x="117783" y="221569"/>
                </a:lnTo>
                <a:lnTo>
                  <a:pt x="120193" y="225103"/>
                </a:lnTo>
                <a:lnTo>
                  <a:pt x="122793" y="229443"/>
                </a:lnTo>
                <a:lnTo>
                  <a:pt x="125518" y="234322"/>
                </a:lnTo>
                <a:lnTo>
                  <a:pt x="131191" y="245033"/>
                </a:lnTo>
                <a:lnTo>
                  <a:pt x="137020" y="256409"/>
                </a:lnTo>
                <a:lnTo>
                  <a:pt x="140273" y="265433"/>
                </a:lnTo>
                <a:lnTo>
                  <a:pt x="142710" y="273744"/>
                </a:lnTo>
                <a:lnTo>
                  <a:pt x="147100" y="284052"/>
                </a:lnTo>
                <a:lnTo>
                  <a:pt x="149712" y="295248"/>
                </a:lnTo>
                <a:lnTo>
                  <a:pt x="150874" y="306838"/>
                </a:lnTo>
                <a:lnTo>
                  <a:pt x="151390" y="318604"/>
                </a:lnTo>
                <a:lnTo>
                  <a:pt x="151681" y="336384"/>
                </a:lnTo>
                <a:lnTo>
                  <a:pt x="151804" y="375047"/>
                </a:lnTo>
              </a:path>
            </a:pathLst>
          </a:custGeom>
          <a:noFill/>
          <a:ln w="38160">
            <a:solidFill>
              <a:srgbClr val="009300"/>
            </a:solidFill>
            <a:round/>
          </a:ln>
        </p:spPr>
        <p:style>
          <a:lnRef idx="0"/>
          <a:fillRef idx="0"/>
          <a:effectRef idx="0"/>
          <a:fontRef idx="minor"/>
        </p:style>
        <p:txBody>
          <a:bodyPr wrap="none" anchor="t">
            <a:noAutofit/>
          </a:bodyPr>
          <a:p>
            <a:endParaRPr b="0" lang="en-US" sz="2400" spc="-1" strike="noStrike">
              <a:solidFill>
                <a:srgbClr val="ffffcc"/>
              </a:solidFill>
              <a:latin typeface="Times New Roman"/>
            </a:endParaRPr>
          </a:p>
        </p:txBody>
      </p:sp>
      <p:sp>
        <p:nvSpPr>
          <p:cNvPr id="123" name="SMARTInkAnnotation2"/>
          <p:cNvSpPr/>
          <p:nvPr/>
        </p:nvSpPr>
        <p:spPr>
          <a:xfrm>
            <a:off x="5705640" y="2384280"/>
            <a:ext cx="117360" cy="17640"/>
          </a:xfrm>
          <a:custGeom>
            <a:avLst/>
            <a:gdLst>
              <a:gd name="textAreaLeft" fmla="*/ 0 w 117360"/>
              <a:gd name="textAreaRight" fmla="*/ 117720 w 117360"/>
              <a:gd name="textAreaTop" fmla="*/ 0 h 17640"/>
              <a:gd name="textAreaBottom" fmla="*/ 18000 h 17640"/>
            </a:gdLst>
            <a:ahLst/>
            <a:rect l="textAreaLeft" t="textAreaTop" r="textAreaRight" b="textAreaBottom"/>
            <a:pathLst>
              <a:path w="116087" h="17860">
                <a:moveTo>
                  <a:pt x="0" y="17859"/>
                </a:moveTo>
                <a:lnTo>
                  <a:pt x="4740" y="13119"/>
                </a:lnTo>
                <a:lnTo>
                  <a:pt x="7129" y="11722"/>
                </a:lnTo>
                <a:lnTo>
                  <a:pt x="9712" y="10791"/>
                </a:lnTo>
                <a:lnTo>
                  <a:pt x="12428" y="10171"/>
                </a:lnTo>
                <a:lnTo>
                  <a:pt x="15231" y="9757"/>
                </a:lnTo>
                <a:lnTo>
                  <a:pt x="18091" y="9481"/>
                </a:lnTo>
                <a:lnTo>
                  <a:pt x="20990" y="9297"/>
                </a:lnTo>
                <a:lnTo>
                  <a:pt x="23915" y="8183"/>
                </a:lnTo>
                <a:lnTo>
                  <a:pt x="26857" y="6447"/>
                </a:lnTo>
                <a:lnTo>
                  <a:pt x="29811" y="4298"/>
                </a:lnTo>
                <a:lnTo>
                  <a:pt x="32773" y="2866"/>
                </a:lnTo>
                <a:lnTo>
                  <a:pt x="35739" y="1910"/>
                </a:lnTo>
                <a:lnTo>
                  <a:pt x="38708" y="1273"/>
                </a:lnTo>
                <a:lnTo>
                  <a:pt x="42672" y="849"/>
                </a:lnTo>
                <a:lnTo>
                  <a:pt x="47300" y="566"/>
                </a:lnTo>
                <a:lnTo>
                  <a:pt x="56741" y="252"/>
                </a:lnTo>
                <a:lnTo>
                  <a:pt x="68625" y="74"/>
                </a:lnTo>
                <a:lnTo>
                  <a:pt x="116086" y="0"/>
                </a:lnTo>
              </a:path>
            </a:pathLst>
          </a:custGeom>
          <a:noFill/>
          <a:ln w="38160">
            <a:solidFill>
              <a:srgbClr val="009300"/>
            </a:solidFill>
            <a:round/>
          </a:ln>
        </p:spPr>
        <p:style>
          <a:lnRef idx="0"/>
          <a:fillRef idx="0"/>
          <a:effectRef idx="0"/>
          <a:fontRef idx="minor"/>
        </p:style>
        <p:txBody>
          <a:bodyPr wrap="none" tIns="-27720" bIns="-27720" anchor="t">
            <a:noAutofit/>
          </a:bodyPr>
          <a:p>
            <a:endParaRPr b="0" lang="en-US" sz="2400" spc="-1" strike="noStrike">
              <a:solidFill>
                <a:srgbClr val="ffffcc"/>
              </a:solidFill>
              <a:latin typeface="Times New Roman"/>
            </a:endParaRPr>
          </a:p>
        </p:txBody>
      </p:sp>
      <p:sp>
        <p:nvSpPr>
          <p:cNvPr id="124" name="SMARTInkAnnotation3"/>
          <p:cNvSpPr/>
          <p:nvPr/>
        </p:nvSpPr>
        <p:spPr>
          <a:xfrm>
            <a:off x="5715000" y="2463840"/>
            <a:ext cx="133200" cy="19080"/>
          </a:xfrm>
          <a:custGeom>
            <a:avLst/>
            <a:gdLst>
              <a:gd name="textAreaLeft" fmla="*/ 0 w 133200"/>
              <a:gd name="textAreaRight" fmla="*/ 133560 w 133200"/>
              <a:gd name="textAreaTop" fmla="*/ 0 h 19080"/>
              <a:gd name="textAreaBottom" fmla="*/ 19440 h 19080"/>
            </a:gdLst>
            <a:ahLst/>
            <a:rect l="textAreaLeft" t="textAreaTop" r="textAreaRight" b="textAreaBottom"/>
            <a:pathLst>
              <a:path w="133946" h="17861">
                <a:moveTo>
                  <a:pt x="0" y="17860"/>
                </a:moveTo>
                <a:lnTo>
                  <a:pt x="4740" y="13119"/>
                </a:lnTo>
                <a:lnTo>
                  <a:pt x="7129" y="11723"/>
                </a:lnTo>
                <a:lnTo>
                  <a:pt x="9712" y="10792"/>
                </a:lnTo>
                <a:lnTo>
                  <a:pt x="12428" y="10171"/>
                </a:lnTo>
                <a:lnTo>
                  <a:pt x="15231" y="9757"/>
                </a:lnTo>
                <a:lnTo>
                  <a:pt x="18091" y="9481"/>
                </a:lnTo>
                <a:lnTo>
                  <a:pt x="20990" y="9297"/>
                </a:lnTo>
                <a:lnTo>
                  <a:pt x="29503" y="9093"/>
                </a:lnTo>
                <a:lnTo>
                  <a:pt x="34551" y="9039"/>
                </a:lnTo>
                <a:lnTo>
                  <a:pt x="39901" y="8010"/>
                </a:lnTo>
                <a:lnTo>
                  <a:pt x="45452" y="6332"/>
                </a:lnTo>
                <a:lnTo>
                  <a:pt x="51137" y="4222"/>
                </a:lnTo>
                <a:lnTo>
                  <a:pt x="59888" y="2814"/>
                </a:lnTo>
                <a:lnTo>
                  <a:pt x="70684" y="1876"/>
                </a:lnTo>
                <a:lnTo>
                  <a:pt x="93923" y="834"/>
                </a:lnTo>
                <a:lnTo>
                  <a:pt x="133945" y="0"/>
                </a:lnTo>
              </a:path>
            </a:pathLst>
          </a:custGeom>
          <a:noFill/>
          <a:ln w="38160">
            <a:solidFill>
              <a:srgbClr val="009300"/>
            </a:solidFill>
            <a:round/>
          </a:ln>
        </p:spPr>
        <p:style>
          <a:lnRef idx="0"/>
          <a:fillRef idx="0"/>
          <a:effectRef idx="0"/>
          <a:fontRef idx="minor"/>
        </p:style>
        <p:txBody>
          <a:bodyPr wrap="none" tIns="-26280" bIns="-26280" anchor="t">
            <a:noAutofit/>
          </a:bodyPr>
          <a:p>
            <a:endParaRPr b="0" lang="en-US" sz="2400" spc="-1" strike="noStrike">
              <a:solidFill>
                <a:srgbClr val="ffffcc"/>
              </a:solidFill>
              <a:latin typeface="Times New Roman"/>
            </a:endParaRPr>
          </a:p>
        </p:txBody>
      </p:sp>
      <p:sp>
        <p:nvSpPr>
          <p:cNvPr id="125" name="SMARTInkAnnotation4"/>
          <p:cNvSpPr/>
          <p:nvPr/>
        </p:nvSpPr>
        <p:spPr>
          <a:xfrm>
            <a:off x="5946840" y="2197080"/>
            <a:ext cx="187200" cy="390600"/>
          </a:xfrm>
          <a:custGeom>
            <a:avLst/>
            <a:gdLst>
              <a:gd name="textAreaLeft" fmla="*/ 0 w 187200"/>
              <a:gd name="textAreaRight" fmla="*/ 187560 w 187200"/>
              <a:gd name="textAreaTop" fmla="*/ 0 h 390600"/>
              <a:gd name="textAreaBottom" fmla="*/ 390960 h 390600"/>
            </a:gdLst>
            <a:ahLst/>
            <a:rect l="textAreaLeft" t="textAreaTop" r="textAreaRight" b="textAreaBottom"/>
            <a:pathLst>
              <a:path w="187523" h="391093">
                <a:moveTo>
                  <a:pt x="35718" y="0"/>
                </a:moveTo>
                <a:lnTo>
                  <a:pt x="35718" y="12429"/>
                </a:lnTo>
                <a:lnTo>
                  <a:pt x="38363" y="20737"/>
                </a:lnTo>
                <a:lnTo>
                  <a:pt x="40458" y="25731"/>
                </a:lnTo>
                <a:lnTo>
                  <a:pt x="41855" y="32036"/>
                </a:lnTo>
                <a:lnTo>
                  <a:pt x="42786" y="39217"/>
                </a:lnTo>
                <a:lnTo>
                  <a:pt x="43406" y="46980"/>
                </a:lnTo>
                <a:lnTo>
                  <a:pt x="43820" y="54140"/>
                </a:lnTo>
                <a:lnTo>
                  <a:pt x="44280" y="67388"/>
                </a:lnTo>
                <a:lnTo>
                  <a:pt x="44575" y="100182"/>
                </a:lnTo>
                <a:lnTo>
                  <a:pt x="44647" y="217714"/>
                </a:lnTo>
                <a:lnTo>
                  <a:pt x="43654" y="229478"/>
                </a:lnTo>
                <a:lnTo>
                  <a:pt x="42001" y="241290"/>
                </a:lnTo>
                <a:lnTo>
                  <a:pt x="39907" y="253133"/>
                </a:lnTo>
                <a:lnTo>
                  <a:pt x="37518" y="264006"/>
                </a:lnTo>
                <a:lnTo>
                  <a:pt x="34934" y="274230"/>
                </a:lnTo>
                <a:lnTo>
                  <a:pt x="32219" y="284023"/>
                </a:lnTo>
                <a:lnTo>
                  <a:pt x="30409" y="293528"/>
                </a:lnTo>
                <a:lnTo>
                  <a:pt x="29201" y="302842"/>
                </a:lnTo>
                <a:lnTo>
                  <a:pt x="28397" y="312027"/>
                </a:lnTo>
                <a:lnTo>
                  <a:pt x="26869" y="320135"/>
                </a:lnTo>
                <a:lnTo>
                  <a:pt x="24858" y="327525"/>
                </a:lnTo>
                <a:lnTo>
                  <a:pt x="22524" y="334436"/>
                </a:lnTo>
                <a:lnTo>
                  <a:pt x="19978" y="341027"/>
                </a:lnTo>
                <a:lnTo>
                  <a:pt x="17286" y="347406"/>
                </a:lnTo>
                <a:lnTo>
                  <a:pt x="12643" y="358793"/>
                </a:lnTo>
                <a:lnTo>
                  <a:pt x="9038" y="370782"/>
                </a:lnTo>
                <a:lnTo>
                  <a:pt x="4678" y="377451"/>
                </a:lnTo>
                <a:lnTo>
                  <a:pt x="2079" y="383722"/>
                </a:lnTo>
                <a:lnTo>
                  <a:pt x="410" y="391092"/>
                </a:lnTo>
                <a:lnTo>
                  <a:pt x="273" y="390704"/>
                </a:lnTo>
                <a:lnTo>
                  <a:pt x="35" y="380318"/>
                </a:lnTo>
                <a:lnTo>
                  <a:pt x="0" y="349453"/>
                </a:lnTo>
                <a:lnTo>
                  <a:pt x="2645" y="338536"/>
                </a:lnTo>
                <a:lnTo>
                  <a:pt x="7128" y="327070"/>
                </a:lnTo>
                <a:lnTo>
                  <a:pt x="12428" y="315358"/>
                </a:lnTo>
                <a:lnTo>
                  <a:pt x="15231" y="308466"/>
                </a:lnTo>
                <a:lnTo>
                  <a:pt x="18091" y="300894"/>
                </a:lnTo>
                <a:lnTo>
                  <a:pt x="20990" y="292869"/>
                </a:lnTo>
                <a:lnTo>
                  <a:pt x="23915" y="285535"/>
                </a:lnTo>
                <a:lnTo>
                  <a:pt x="26857" y="278661"/>
                </a:lnTo>
                <a:lnTo>
                  <a:pt x="29811" y="272094"/>
                </a:lnTo>
                <a:lnTo>
                  <a:pt x="33764" y="265732"/>
                </a:lnTo>
                <a:lnTo>
                  <a:pt x="38384" y="259506"/>
                </a:lnTo>
                <a:lnTo>
                  <a:pt x="43449" y="253371"/>
                </a:lnTo>
                <a:lnTo>
                  <a:pt x="47817" y="247297"/>
                </a:lnTo>
                <a:lnTo>
                  <a:pt x="51721" y="241263"/>
                </a:lnTo>
                <a:lnTo>
                  <a:pt x="55316" y="235256"/>
                </a:lnTo>
                <a:lnTo>
                  <a:pt x="59698" y="230259"/>
                </a:lnTo>
                <a:lnTo>
                  <a:pt x="64603" y="225935"/>
                </a:lnTo>
                <a:lnTo>
                  <a:pt x="69857" y="222061"/>
                </a:lnTo>
                <a:lnTo>
                  <a:pt x="74352" y="218486"/>
                </a:lnTo>
                <a:lnTo>
                  <a:pt x="78341" y="215110"/>
                </a:lnTo>
                <a:lnTo>
                  <a:pt x="81992" y="211868"/>
                </a:lnTo>
                <a:lnTo>
                  <a:pt x="86412" y="208714"/>
                </a:lnTo>
                <a:lnTo>
                  <a:pt x="91342" y="205619"/>
                </a:lnTo>
                <a:lnTo>
                  <a:pt x="96613" y="202563"/>
                </a:lnTo>
                <a:lnTo>
                  <a:pt x="101119" y="199534"/>
                </a:lnTo>
                <a:lnTo>
                  <a:pt x="105115" y="196523"/>
                </a:lnTo>
                <a:lnTo>
                  <a:pt x="108772" y="193523"/>
                </a:lnTo>
                <a:lnTo>
                  <a:pt x="112201" y="191523"/>
                </a:lnTo>
                <a:lnTo>
                  <a:pt x="115481" y="190190"/>
                </a:lnTo>
                <a:lnTo>
                  <a:pt x="118659" y="189300"/>
                </a:lnTo>
                <a:lnTo>
                  <a:pt x="121770" y="188708"/>
                </a:lnTo>
                <a:lnTo>
                  <a:pt x="124836" y="188313"/>
                </a:lnTo>
                <a:lnTo>
                  <a:pt x="127873" y="188050"/>
                </a:lnTo>
                <a:lnTo>
                  <a:pt x="130888" y="188867"/>
                </a:lnTo>
                <a:lnTo>
                  <a:pt x="133892" y="190403"/>
                </a:lnTo>
                <a:lnTo>
                  <a:pt x="136886" y="192419"/>
                </a:lnTo>
                <a:lnTo>
                  <a:pt x="139874" y="194756"/>
                </a:lnTo>
                <a:lnTo>
                  <a:pt x="142859" y="197306"/>
                </a:lnTo>
                <a:lnTo>
                  <a:pt x="145840" y="199998"/>
                </a:lnTo>
                <a:lnTo>
                  <a:pt x="147829" y="202785"/>
                </a:lnTo>
                <a:lnTo>
                  <a:pt x="151618" y="212440"/>
                </a:lnTo>
                <a:lnTo>
                  <a:pt x="156020" y="222079"/>
                </a:lnTo>
                <a:lnTo>
                  <a:pt x="164077" y="238662"/>
                </a:lnTo>
                <a:lnTo>
                  <a:pt x="167181" y="250269"/>
                </a:lnTo>
                <a:lnTo>
                  <a:pt x="169551" y="262043"/>
                </a:lnTo>
                <a:lnTo>
                  <a:pt x="173914" y="273890"/>
                </a:lnTo>
                <a:lnTo>
                  <a:pt x="179159" y="285771"/>
                </a:lnTo>
                <a:lnTo>
                  <a:pt x="183806" y="297665"/>
                </a:lnTo>
                <a:lnTo>
                  <a:pt x="185871" y="309566"/>
                </a:lnTo>
                <a:lnTo>
                  <a:pt x="186788" y="321470"/>
                </a:lnTo>
                <a:lnTo>
                  <a:pt x="187196" y="332383"/>
                </a:lnTo>
                <a:lnTo>
                  <a:pt x="187426" y="344105"/>
                </a:lnTo>
                <a:lnTo>
                  <a:pt x="187522" y="375047"/>
                </a:lnTo>
              </a:path>
            </a:pathLst>
          </a:custGeom>
          <a:noFill/>
          <a:ln w="38160">
            <a:solidFill>
              <a:srgbClr val="009300"/>
            </a:solidFill>
            <a:round/>
          </a:ln>
        </p:spPr>
        <p:style>
          <a:lnRef idx="0"/>
          <a:fillRef idx="0"/>
          <a:effectRef idx="0"/>
          <a:fontRef idx="minor"/>
        </p:style>
        <p:txBody>
          <a:bodyPr wrap="none" anchor="t">
            <a:noAutofit/>
          </a:bodyPr>
          <a:p>
            <a:endParaRPr b="0" lang="en-US" sz="2400" spc="-1" strike="noStrike">
              <a:solidFill>
                <a:srgbClr val="ffffcc"/>
              </a:solidFill>
              <a:latin typeface="Times New Roman"/>
            </a:endParaRPr>
          </a:p>
        </p:txBody>
      </p:sp>
      <p:sp>
        <p:nvSpPr>
          <p:cNvPr id="126" name="SMARTInkAnnotation5"/>
          <p:cNvSpPr/>
          <p:nvPr/>
        </p:nvSpPr>
        <p:spPr>
          <a:xfrm>
            <a:off x="6234120" y="2401920"/>
            <a:ext cx="96840" cy="223920"/>
          </a:xfrm>
          <a:custGeom>
            <a:avLst/>
            <a:gdLst>
              <a:gd name="textAreaLeft" fmla="*/ 0 w 96840"/>
              <a:gd name="textAreaRight" fmla="*/ 97200 w 96840"/>
              <a:gd name="textAreaTop" fmla="*/ 0 h 223920"/>
              <a:gd name="textAreaBottom" fmla="*/ 224280 h 223920"/>
            </a:gdLst>
            <a:ahLst/>
            <a:rect l="textAreaLeft" t="textAreaTop" r="textAreaRight" b="textAreaBottom"/>
            <a:pathLst>
              <a:path w="96941" h="222873">
                <a:moveTo>
                  <a:pt x="96940" y="17489"/>
                </a:moveTo>
                <a:lnTo>
                  <a:pt x="96940" y="8927"/>
                </a:lnTo>
                <a:lnTo>
                  <a:pt x="94294" y="8723"/>
                </a:lnTo>
                <a:lnTo>
                  <a:pt x="92200" y="8668"/>
                </a:lnTo>
                <a:lnTo>
                  <a:pt x="89811" y="7640"/>
                </a:lnTo>
                <a:lnTo>
                  <a:pt x="87226" y="5961"/>
                </a:lnTo>
                <a:lnTo>
                  <a:pt x="80689" y="880"/>
                </a:lnTo>
                <a:lnTo>
                  <a:pt x="79161" y="463"/>
                </a:lnTo>
                <a:lnTo>
                  <a:pt x="77150" y="185"/>
                </a:lnTo>
                <a:lnTo>
                  <a:pt x="74816" y="0"/>
                </a:lnTo>
                <a:lnTo>
                  <a:pt x="72269" y="869"/>
                </a:lnTo>
                <a:lnTo>
                  <a:pt x="69578" y="2440"/>
                </a:lnTo>
                <a:lnTo>
                  <a:pt x="66793" y="4480"/>
                </a:lnTo>
                <a:lnTo>
                  <a:pt x="63943" y="5840"/>
                </a:lnTo>
                <a:lnTo>
                  <a:pt x="61052" y="6746"/>
                </a:lnTo>
                <a:lnTo>
                  <a:pt x="58131" y="7350"/>
                </a:lnTo>
                <a:lnTo>
                  <a:pt x="55192" y="8746"/>
                </a:lnTo>
                <a:lnTo>
                  <a:pt x="52241" y="10668"/>
                </a:lnTo>
                <a:lnTo>
                  <a:pt x="49281" y="12941"/>
                </a:lnTo>
                <a:lnTo>
                  <a:pt x="46316" y="15449"/>
                </a:lnTo>
                <a:lnTo>
                  <a:pt x="43346" y="18113"/>
                </a:lnTo>
                <a:lnTo>
                  <a:pt x="37401" y="23720"/>
                </a:lnTo>
                <a:lnTo>
                  <a:pt x="31452" y="29518"/>
                </a:lnTo>
                <a:lnTo>
                  <a:pt x="28477" y="33446"/>
                </a:lnTo>
                <a:lnTo>
                  <a:pt x="25500" y="38049"/>
                </a:lnTo>
                <a:lnTo>
                  <a:pt x="22524" y="43102"/>
                </a:lnTo>
                <a:lnTo>
                  <a:pt x="19548" y="48455"/>
                </a:lnTo>
                <a:lnTo>
                  <a:pt x="13595" y="59694"/>
                </a:lnTo>
                <a:lnTo>
                  <a:pt x="11611" y="65469"/>
                </a:lnTo>
                <a:lnTo>
                  <a:pt x="10288" y="71304"/>
                </a:lnTo>
                <a:lnTo>
                  <a:pt x="9407" y="77178"/>
                </a:lnTo>
                <a:lnTo>
                  <a:pt x="8818" y="82087"/>
                </a:lnTo>
                <a:lnTo>
                  <a:pt x="8426" y="86351"/>
                </a:lnTo>
                <a:lnTo>
                  <a:pt x="8166" y="90186"/>
                </a:lnTo>
                <a:lnTo>
                  <a:pt x="6999" y="95719"/>
                </a:lnTo>
                <a:lnTo>
                  <a:pt x="5230" y="102385"/>
                </a:lnTo>
                <a:lnTo>
                  <a:pt x="3057" y="109805"/>
                </a:lnTo>
                <a:lnTo>
                  <a:pt x="1610" y="116736"/>
                </a:lnTo>
                <a:lnTo>
                  <a:pt x="643" y="123341"/>
                </a:lnTo>
                <a:lnTo>
                  <a:pt x="0" y="129729"/>
                </a:lnTo>
                <a:lnTo>
                  <a:pt x="564" y="135972"/>
                </a:lnTo>
                <a:lnTo>
                  <a:pt x="1931" y="142118"/>
                </a:lnTo>
                <a:lnTo>
                  <a:pt x="3834" y="148200"/>
                </a:lnTo>
                <a:lnTo>
                  <a:pt x="5103" y="154239"/>
                </a:lnTo>
                <a:lnTo>
                  <a:pt x="5950" y="160249"/>
                </a:lnTo>
                <a:lnTo>
                  <a:pt x="6514" y="166240"/>
                </a:lnTo>
                <a:lnTo>
                  <a:pt x="6890" y="172219"/>
                </a:lnTo>
                <a:lnTo>
                  <a:pt x="7309" y="184153"/>
                </a:lnTo>
                <a:lnTo>
                  <a:pt x="8413" y="189122"/>
                </a:lnTo>
                <a:lnTo>
                  <a:pt x="10140" y="193427"/>
                </a:lnTo>
                <a:lnTo>
                  <a:pt x="12284" y="197288"/>
                </a:lnTo>
                <a:lnTo>
                  <a:pt x="14666" y="204225"/>
                </a:lnTo>
                <a:lnTo>
                  <a:pt x="15726" y="210616"/>
                </a:lnTo>
                <a:lnTo>
                  <a:pt x="16195" y="216763"/>
                </a:lnTo>
                <a:lnTo>
                  <a:pt x="16572" y="222872"/>
                </a:lnTo>
              </a:path>
            </a:pathLst>
          </a:custGeom>
          <a:noFill/>
          <a:ln w="38160">
            <a:solidFill>
              <a:srgbClr val="009300"/>
            </a:solidFill>
            <a:round/>
          </a:ln>
        </p:spPr>
        <p:style>
          <a:lnRef idx="0"/>
          <a:fillRef idx="0"/>
          <a:effectRef idx="0"/>
          <a:fontRef idx="minor"/>
        </p:style>
        <p:txBody>
          <a:bodyPr wrap="none" anchor="t">
            <a:noAutofit/>
          </a:bodyPr>
          <a:p>
            <a:endParaRPr b="0" lang="en-US" sz="2400" spc="-1" strike="noStrike">
              <a:solidFill>
                <a:srgbClr val="ffffcc"/>
              </a:solidFill>
              <a:latin typeface="Times New Roman"/>
            </a:endParaRPr>
          </a:p>
        </p:txBody>
      </p:sp>
      <p:sp>
        <p:nvSpPr>
          <p:cNvPr id="127" name="SMARTInkAnnotation6"/>
          <p:cNvSpPr/>
          <p:nvPr/>
        </p:nvSpPr>
        <p:spPr>
          <a:xfrm>
            <a:off x="6188040" y="2500200"/>
            <a:ext cx="115920" cy="17640"/>
          </a:xfrm>
          <a:custGeom>
            <a:avLst/>
            <a:gdLst>
              <a:gd name="textAreaLeft" fmla="*/ 0 w 115920"/>
              <a:gd name="textAreaRight" fmla="*/ 116280 w 115920"/>
              <a:gd name="textAreaTop" fmla="*/ 0 h 17640"/>
              <a:gd name="textAreaBottom" fmla="*/ 18000 h 17640"/>
            </a:gdLst>
            <a:ahLst/>
            <a:rect l="textAreaLeft" t="textAreaTop" r="textAreaRight" b="textAreaBottom"/>
            <a:pathLst>
              <a:path w="116086" h="17860">
                <a:moveTo>
                  <a:pt x="0" y="17859"/>
                </a:moveTo>
                <a:lnTo>
                  <a:pt x="7688" y="17859"/>
                </a:lnTo>
                <a:lnTo>
                  <a:pt x="9094" y="16867"/>
                </a:lnTo>
                <a:lnTo>
                  <a:pt x="11024" y="15214"/>
                </a:lnTo>
                <a:lnTo>
                  <a:pt x="13302" y="13119"/>
                </a:lnTo>
                <a:lnTo>
                  <a:pt x="15813" y="11722"/>
                </a:lnTo>
                <a:lnTo>
                  <a:pt x="18480" y="10791"/>
                </a:lnTo>
                <a:lnTo>
                  <a:pt x="21249" y="10171"/>
                </a:lnTo>
                <a:lnTo>
                  <a:pt x="25080" y="9757"/>
                </a:lnTo>
                <a:lnTo>
                  <a:pt x="29619" y="9481"/>
                </a:lnTo>
                <a:lnTo>
                  <a:pt x="38960" y="9175"/>
                </a:lnTo>
                <a:lnTo>
                  <a:pt x="46420" y="9039"/>
                </a:lnTo>
                <a:lnTo>
                  <a:pt x="50790" y="8010"/>
                </a:lnTo>
                <a:lnTo>
                  <a:pt x="55688" y="6332"/>
                </a:lnTo>
                <a:lnTo>
                  <a:pt x="60938" y="4221"/>
                </a:lnTo>
                <a:lnTo>
                  <a:pt x="65430" y="2814"/>
                </a:lnTo>
                <a:lnTo>
                  <a:pt x="69417" y="1876"/>
                </a:lnTo>
                <a:lnTo>
                  <a:pt x="73067" y="1251"/>
                </a:lnTo>
                <a:lnTo>
                  <a:pt x="77484" y="834"/>
                </a:lnTo>
                <a:lnTo>
                  <a:pt x="82414" y="556"/>
                </a:lnTo>
                <a:lnTo>
                  <a:pt x="92191" y="247"/>
                </a:lnTo>
                <a:lnTo>
                  <a:pt x="106552" y="49"/>
                </a:lnTo>
                <a:lnTo>
                  <a:pt x="116085" y="0"/>
                </a:lnTo>
              </a:path>
            </a:pathLst>
          </a:custGeom>
          <a:noFill/>
          <a:ln w="38160">
            <a:solidFill>
              <a:srgbClr val="009300"/>
            </a:solidFill>
            <a:round/>
          </a:ln>
        </p:spPr>
        <p:style>
          <a:lnRef idx="0"/>
          <a:fillRef idx="0"/>
          <a:effectRef idx="0"/>
          <a:fontRef idx="minor"/>
        </p:style>
        <p:txBody>
          <a:bodyPr wrap="none" tIns="-27720" bIns="-27720" anchor="t">
            <a:noAutofit/>
          </a:bodyPr>
          <a:p>
            <a:endParaRPr b="0" lang="en-US" sz="2400" spc="-1" strike="noStrike">
              <a:solidFill>
                <a:srgbClr val="ffffcc"/>
              </a:solidFill>
              <a:latin typeface="Times New Roman"/>
            </a:endParaRPr>
          </a:p>
        </p:txBody>
      </p:sp>
      <p:sp>
        <p:nvSpPr>
          <p:cNvPr id="128" name="SMARTInkAnnotation7"/>
          <p:cNvSpPr/>
          <p:nvPr/>
        </p:nvSpPr>
        <p:spPr>
          <a:xfrm>
            <a:off x="6419880" y="2490840"/>
            <a:ext cx="54000" cy="9360"/>
          </a:xfrm>
          <a:custGeom>
            <a:avLst/>
            <a:gdLst>
              <a:gd name="textAreaLeft" fmla="*/ 0 w 54000"/>
              <a:gd name="textAreaRight" fmla="*/ 54360 w 54000"/>
              <a:gd name="textAreaTop" fmla="*/ 0 h 9360"/>
              <a:gd name="textAreaBottom" fmla="*/ 9720 h 9360"/>
            </a:gdLst>
            <a:ahLst/>
            <a:rect l="textAreaLeft" t="textAreaTop" r="textAreaRight" b="textAreaBottom"/>
            <a:pathLst>
              <a:path w="53580" h="8931">
                <a:moveTo>
                  <a:pt x="0" y="8930"/>
                </a:moveTo>
                <a:lnTo>
                  <a:pt x="4741" y="8930"/>
                </a:lnTo>
                <a:lnTo>
                  <a:pt x="6138" y="7938"/>
                </a:lnTo>
                <a:lnTo>
                  <a:pt x="7068" y="6284"/>
                </a:lnTo>
                <a:lnTo>
                  <a:pt x="7689" y="4189"/>
                </a:lnTo>
                <a:lnTo>
                  <a:pt x="9095" y="2793"/>
                </a:lnTo>
                <a:lnTo>
                  <a:pt x="11025" y="1862"/>
                </a:lnTo>
                <a:lnTo>
                  <a:pt x="13303" y="1242"/>
                </a:lnTo>
                <a:lnTo>
                  <a:pt x="15814" y="828"/>
                </a:lnTo>
                <a:lnTo>
                  <a:pt x="18481" y="552"/>
                </a:lnTo>
                <a:lnTo>
                  <a:pt x="21250" y="368"/>
                </a:lnTo>
                <a:lnTo>
                  <a:pt x="24088" y="246"/>
                </a:lnTo>
                <a:lnTo>
                  <a:pt x="29889" y="109"/>
                </a:lnTo>
                <a:lnTo>
                  <a:pt x="-11957" y="0"/>
                </a:lnTo>
              </a:path>
            </a:pathLst>
          </a:custGeom>
          <a:noFill/>
          <a:ln w="38160">
            <a:solidFill>
              <a:srgbClr val="009300"/>
            </a:solidFill>
            <a:round/>
          </a:ln>
        </p:spPr>
        <p:style>
          <a:lnRef idx="0"/>
          <a:fillRef idx="0"/>
          <a:effectRef idx="0"/>
          <a:fontRef idx="minor"/>
        </p:style>
        <p:txBody>
          <a:bodyPr wrap="none" tIns="-36000" bIns="-36000" anchor="t">
            <a:noAutofit/>
          </a:bodyPr>
          <a:p>
            <a:endParaRPr b="0" lang="en-US" sz="2400" spc="-1" strike="noStrike">
              <a:solidFill>
                <a:srgbClr val="ffffcc"/>
              </a:solidFill>
              <a:latin typeface="Times New Roman"/>
            </a:endParaRPr>
          </a:p>
        </p:txBody>
      </p:sp>
      <p:sp>
        <p:nvSpPr>
          <p:cNvPr id="129" name="SMARTInkAnnotation8"/>
          <p:cNvSpPr/>
          <p:nvPr/>
        </p:nvSpPr>
        <p:spPr>
          <a:xfrm>
            <a:off x="6572160" y="2249640"/>
            <a:ext cx="142920" cy="420480"/>
          </a:xfrm>
          <a:custGeom>
            <a:avLst/>
            <a:gdLst>
              <a:gd name="textAreaLeft" fmla="*/ 0 w 142920"/>
              <a:gd name="textAreaRight" fmla="*/ 143280 w 142920"/>
              <a:gd name="textAreaTop" fmla="*/ 0 h 420480"/>
              <a:gd name="textAreaBottom" fmla="*/ 420840 h 420480"/>
            </a:gdLst>
            <a:ahLst/>
            <a:rect l="textAreaLeft" t="textAreaTop" r="textAreaRight" b="textAreaBottom"/>
            <a:pathLst>
              <a:path w="142838" h="419526">
                <a:moveTo>
                  <a:pt x="53576" y="0"/>
                </a:moveTo>
                <a:lnTo>
                  <a:pt x="58316" y="0"/>
                </a:lnTo>
                <a:lnTo>
                  <a:pt x="59712" y="992"/>
                </a:lnTo>
                <a:lnTo>
                  <a:pt x="60643" y="2646"/>
                </a:lnTo>
                <a:lnTo>
                  <a:pt x="61265" y="4740"/>
                </a:lnTo>
                <a:lnTo>
                  <a:pt x="62138" y="17169"/>
                </a:lnTo>
                <a:lnTo>
                  <a:pt x="62396" y="33419"/>
                </a:lnTo>
                <a:lnTo>
                  <a:pt x="62495" y="80949"/>
                </a:lnTo>
                <a:lnTo>
                  <a:pt x="61507" y="89685"/>
                </a:lnTo>
                <a:lnTo>
                  <a:pt x="59855" y="98485"/>
                </a:lnTo>
                <a:lnTo>
                  <a:pt x="57762" y="107328"/>
                </a:lnTo>
                <a:lnTo>
                  <a:pt x="56367" y="116201"/>
                </a:lnTo>
                <a:lnTo>
                  <a:pt x="55437" y="125092"/>
                </a:lnTo>
                <a:lnTo>
                  <a:pt x="54816" y="133996"/>
                </a:lnTo>
                <a:lnTo>
                  <a:pt x="54402" y="143901"/>
                </a:lnTo>
                <a:lnTo>
                  <a:pt x="53943" y="165490"/>
                </a:lnTo>
                <a:lnTo>
                  <a:pt x="52828" y="175811"/>
                </a:lnTo>
                <a:lnTo>
                  <a:pt x="51093" y="185668"/>
                </a:lnTo>
                <a:lnTo>
                  <a:pt x="48944" y="195216"/>
                </a:lnTo>
                <a:lnTo>
                  <a:pt x="47512" y="205550"/>
                </a:lnTo>
                <a:lnTo>
                  <a:pt x="46556" y="216408"/>
                </a:lnTo>
                <a:lnTo>
                  <a:pt x="45920" y="227616"/>
                </a:lnTo>
                <a:lnTo>
                  <a:pt x="44503" y="239056"/>
                </a:lnTo>
                <a:lnTo>
                  <a:pt x="42566" y="250652"/>
                </a:lnTo>
                <a:lnTo>
                  <a:pt x="40283" y="262351"/>
                </a:lnTo>
                <a:lnTo>
                  <a:pt x="38760" y="273127"/>
                </a:lnTo>
                <a:lnTo>
                  <a:pt x="37746" y="283288"/>
                </a:lnTo>
                <a:lnTo>
                  <a:pt x="37069" y="293038"/>
                </a:lnTo>
                <a:lnTo>
                  <a:pt x="35626" y="302515"/>
                </a:lnTo>
                <a:lnTo>
                  <a:pt x="33672" y="311809"/>
                </a:lnTo>
                <a:lnTo>
                  <a:pt x="31376" y="320982"/>
                </a:lnTo>
                <a:lnTo>
                  <a:pt x="29848" y="330074"/>
                </a:lnTo>
                <a:lnTo>
                  <a:pt x="28826" y="339112"/>
                </a:lnTo>
                <a:lnTo>
                  <a:pt x="28146" y="348113"/>
                </a:lnTo>
                <a:lnTo>
                  <a:pt x="26701" y="356099"/>
                </a:lnTo>
                <a:lnTo>
                  <a:pt x="24745" y="363407"/>
                </a:lnTo>
                <a:lnTo>
                  <a:pt x="22449" y="370263"/>
                </a:lnTo>
                <a:lnTo>
                  <a:pt x="19927" y="376819"/>
                </a:lnTo>
                <a:lnTo>
                  <a:pt x="17251" y="383173"/>
                </a:lnTo>
                <a:lnTo>
                  <a:pt x="14477" y="389394"/>
                </a:lnTo>
                <a:lnTo>
                  <a:pt x="11393" y="398952"/>
                </a:lnTo>
                <a:lnTo>
                  <a:pt x="9657" y="409911"/>
                </a:lnTo>
                <a:lnTo>
                  <a:pt x="9415" y="413172"/>
                </a:lnTo>
                <a:lnTo>
                  <a:pt x="8259" y="415346"/>
                </a:lnTo>
                <a:lnTo>
                  <a:pt x="6497" y="416796"/>
                </a:lnTo>
                <a:lnTo>
                  <a:pt x="378" y="419525"/>
                </a:lnTo>
                <a:lnTo>
                  <a:pt x="31" y="407251"/>
                </a:lnTo>
                <a:lnTo>
                  <a:pt x="0" y="385142"/>
                </a:lnTo>
                <a:lnTo>
                  <a:pt x="2645" y="374242"/>
                </a:lnTo>
                <a:lnTo>
                  <a:pt x="4738" y="368557"/>
                </a:lnTo>
                <a:lnTo>
                  <a:pt x="6134" y="361790"/>
                </a:lnTo>
                <a:lnTo>
                  <a:pt x="7066" y="354303"/>
                </a:lnTo>
                <a:lnTo>
                  <a:pt x="7685" y="346335"/>
                </a:lnTo>
                <a:lnTo>
                  <a:pt x="9092" y="339038"/>
                </a:lnTo>
                <a:lnTo>
                  <a:pt x="11022" y="332189"/>
                </a:lnTo>
                <a:lnTo>
                  <a:pt x="13300" y="325639"/>
                </a:lnTo>
                <a:lnTo>
                  <a:pt x="15811" y="319288"/>
                </a:lnTo>
                <a:lnTo>
                  <a:pt x="18477" y="313069"/>
                </a:lnTo>
                <a:lnTo>
                  <a:pt x="21247" y="306939"/>
                </a:lnTo>
                <a:lnTo>
                  <a:pt x="24086" y="299876"/>
                </a:lnTo>
                <a:lnTo>
                  <a:pt x="29886" y="284091"/>
                </a:lnTo>
                <a:lnTo>
                  <a:pt x="32822" y="277698"/>
                </a:lnTo>
                <a:lnTo>
                  <a:pt x="35771" y="272444"/>
                </a:lnTo>
                <a:lnTo>
                  <a:pt x="38728" y="267950"/>
                </a:lnTo>
                <a:lnTo>
                  <a:pt x="41693" y="262969"/>
                </a:lnTo>
                <a:lnTo>
                  <a:pt x="44662" y="257664"/>
                </a:lnTo>
                <a:lnTo>
                  <a:pt x="47633" y="252143"/>
                </a:lnTo>
                <a:lnTo>
                  <a:pt x="50606" y="247470"/>
                </a:lnTo>
                <a:lnTo>
                  <a:pt x="53580" y="243363"/>
                </a:lnTo>
                <a:lnTo>
                  <a:pt x="56555" y="239632"/>
                </a:lnTo>
                <a:lnTo>
                  <a:pt x="59531" y="235161"/>
                </a:lnTo>
                <a:lnTo>
                  <a:pt x="62507" y="230196"/>
                </a:lnTo>
                <a:lnTo>
                  <a:pt x="65483" y="224901"/>
                </a:lnTo>
                <a:lnTo>
                  <a:pt x="68459" y="221372"/>
                </a:lnTo>
                <a:lnTo>
                  <a:pt x="71436" y="219019"/>
                </a:lnTo>
                <a:lnTo>
                  <a:pt x="74412" y="217450"/>
                </a:lnTo>
                <a:lnTo>
                  <a:pt x="77388" y="215412"/>
                </a:lnTo>
                <a:lnTo>
                  <a:pt x="80365" y="213061"/>
                </a:lnTo>
                <a:lnTo>
                  <a:pt x="83340" y="210501"/>
                </a:lnTo>
                <a:lnTo>
                  <a:pt x="86318" y="208795"/>
                </a:lnTo>
                <a:lnTo>
                  <a:pt x="89294" y="207657"/>
                </a:lnTo>
                <a:lnTo>
                  <a:pt x="92270" y="206899"/>
                </a:lnTo>
                <a:lnTo>
                  <a:pt x="95248" y="206394"/>
                </a:lnTo>
                <a:lnTo>
                  <a:pt x="98224" y="206057"/>
                </a:lnTo>
                <a:lnTo>
                  <a:pt x="101200" y="205832"/>
                </a:lnTo>
                <a:lnTo>
                  <a:pt x="104177" y="205682"/>
                </a:lnTo>
                <a:lnTo>
                  <a:pt x="110130" y="205516"/>
                </a:lnTo>
                <a:lnTo>
                  <a:pt x="112115" y="206464"/>
                </a:lnTo>
                <a:lnTo>
                  <a:pt x="113438" y="208087"/>
                </a:lnTo>
                <a:lnTo>
                  <a:pt x="114319" y="210162"/>
                </a:lnTo>
                <a:lnTo>
                  <a:pt x="115900" y="211546"/>
                </a:lnTo>
                <a:lnTo>
                  <a:pt x="117945" y="212468"/>
                </a:lnTo>
                <a:lnTo>
                  <a:pt x="120302" y="213083"/>
                </a:lnTo>
                <a:lnTo>
                  <a:pt x="122864" y="215477"/>
                </a:lnTo>
                <a:lnTo>
                  <a:pt x="125565" y="219057"/>
                </a:lnTo>
                <a:lnTo>
                  <a:pt x="128358" y="223429"/>
                </a:lnTo>
                <a:lnTo>
                  <a:pt x="131460" y="230932"/>
                </a:lnTo>
                <a:lnTo>
                  <a:pt x="133832" y="238566"/>
                </a:lnTo>
                <a:lnTo>
                  <a:pt x="138193" y="248573"/>
                </a:lnTo>
                <a:lnTo>
                  <a:pt x="140793" y="259636"/>
                </a:lnTo>
                <a:lnTo>
                  <a:pt x="141949" y="271167"/>
                </a:lnTo>
                <a:lnTo>
                  <a:pt x="142462" y="282907"/>
                </a:lnTo>
                <a:lnTo>
                  <a:pt x="142751" y="305412"/>
                </a:lnTo>
                <a:lnTo>
                  <a:pt x="142837" y="326192"/>
                </a:lnTo>
                <a:lnTo>
                  <a:pt x="140211" y="338781"/>
                </a:lnTo>
                <a:lnTo>
                  <a:pt x="136729" y="349999"/>
                </a:lnTo>
                <a:lnTo>
                  <a:pt x="134768" y="362885"/>
                </a:lnTo>
                <a:lnTo>
                  <a:pt x="134310" y="373279"/>
                </a:lnTo>
                <a:lnTo>
                  <a:pt x="133943" y="392906"/>
                </a:lnTo>
              </a:path>
            </a:pathLst>
          </a:custGeom>
          <a:noFill/>
          <a:ln w="38160">
            <a:solidFill>
              <a:srgbClr val="009300"/>
            </a:solidFill>
            <a:round/>
          </a:ln>
        </p:spPr>
        <p:style>
          <a:lnRef idx="0"/>
          <a:fillRef idx="0"/>
          <a:effectRef idx="0"/>
          <a:fontRef idx="minor"/>
        </p:style>
        <p:txBody>
          <a:bodyPr wrap="none" anchor="t">
            <a:noAutofit/>
          </a:bodyPr>
          <a:p>
            <a:endParaRPr b="0" lang="en-US" sz="2400" spc="-1" strike="noStrike">
              <a:solidFill>
                <a:srgbClr val="ffffcc"/>
              </a:solidFill>
              <a:latin typeface="Times New Roman"/>
            </a:endParaRPr>
          </a:p>
        </p:txBody>
      </p:sp>
      <p:sp>
        <p:nvSpPr>
          <p:cNvPr id="130" name="SMARTInkAnnotation9"/>
          <p:cNvSpPr/>
          <p:nvPr/>
        </p:nvSpPr>
        <p:spPr>
          <a:xfrm>
            <a:off x="6799320" y="2527200"/>
            <a:ext cx="58680" cy="147600"/>
          </a:xfrm>
          <a:custGeom>
            <a:avLst/>
            <a:gdLst>
              <a:gd name="textAreaLeft" fmla="*/ 0 w 58680"/>
              <a:gd name="textAreaRight" fmla="*/ 59040 w 58680"/>
              <a:gd name="textAreaTop" fmla="*/ 0 h 147600"/>
              <a:gd name="textAreaBottom" fmla="*/ 147960 h 147600"/>
            </a:gdLst>
            <a:ahLst/>
            <a:rect l="textAreaLeft" t="textAreaTop" r="textAreaRight" b="textAreaBottom"/>
            <a:pathLst>
              <a:path w="58457" h="147665">
                <a:moveTo>
                  <a:pt x="40596" y="0"/>
                </a:moveTo>
                <a:lnTo>
                  <a:pt x="27034" y="0"/>
                </a:lnTo>
                <a:lnTo>
                  <a:pt x="25601" y="992"/>
                </a:lnTo>
                <a:lnTo>
                  <a:pt x="24647" y="2646"/>
                </a:lnTo>
                <a:lnTo>
                  <a:pt x="24010" y="4740"/>
                </a:lnTo>
                <a:lnTo>
                  <a:pt x="22593" y="7129"/>
                </a:lnTo>
                <a:lnTo>
                  <a:pt x="20656" y="9713"/>
                </a:lnTo>
                <a:lnTo>
                  <a:pt x="18373" y="12429"/>
                </a:lnTo>
                <a:lnTo>
                  <a:pt x="16851" y="16223"/>
                </a:lnTo>
                <a:lnTo>
                  <a:pt x="15836" y="20737"/>
                </a:lnTo>
                <a:lnTo>
                  <a:pt x="15160" y="25731"/>
                </a:lnTo>
                <a:lnTo>
                  <a:pt x="13716" y="30053"/>
                </a:lnTo>
                <a:lnTo>
                  <a:pt x="11762" y="33926"/>
                </a:lnTo>
                <a:lnTo>
                  <a:pt x="9467" y="37500"/>
                </a:lnTo>
                <a:lnTo>
                  <a:pt x="7937" y="41867"/>
                </a:lnTo>
                <a:lnTo>
                  <a:pt x="6917" y="46763"/>
                </a:lnTo>
                <a:lnTo>
                  <a:pt x="6237" y="52011"/>
                </a:lnTo>
                <a:lnTo>
                  <a:pt x="4791" y="56502"/>
                </a:lnTo>
                <a:lnTo>
                  <a:pt x="2836" y="60488"/>
                </a:lnTo>
                <a:lnTo>
                  <a:pt x="540" y="64138"/>
                </a:lnTo>
                <a:lnTo>
                  <a:pt x="0" y="68556"/>
                </a:lnTo>
                <a:lnTo>
                  <a:pt x="633" y="73485"/>
                </a:lnTo>
                <a:lnTo>
                  <a:pt x="2048" y="78756"/>
                </a:lnTo>
                <a:lnTo>
                  <a:pt x="2991" y="83262"/>
                </a:lnTo>
                <a:lnTo>
                  <a:pt x="3619" y="87258"/>
                </a:lnTo>
                <a:lnTo>
                  <a:pt x="4039" y="90914"/>
                </a:lnTo>
                <a:lnTo>
                  <a:pt x="4318" y="95336"/>
                </a:lnTo>
                <a:lnTo>
                  <a:pt x="4628" y="105541"/>
                </a:lnTo>
                <a:lnTo>
                  <a:pt x="5704" y="110048"/>
                </a:lnTo>
                <a:lnTo>
                  <a:pt x="7413" y="114045"/>
                </a:lnTo>
                <a:lnTo>
                  <a:pt x="9543" y="117702"/>
                </a:lnTo>
                <a:lnTo>
                  <a:pt x="11957" y="121132"/>
                </a:lnTo>
                <a:lnTo>
                  <a:pt x="14558" y="124411"/>
                </a:lnTo>
                <a:lnTo>
                  <a:pt x="17284" y="127589"/>
                </a:lnTo>
                <a:lnTo>
                  <a:pt x="20094" y="130700"/>
                </a:lnTo>
                <a:lnTo>
                  <a:pt x="25862" y="136802"/>
                </a:lnTo>
                <a:lnTo>
                  <a:pt x="28788" y="138826"/>
                </a:lnTo>
                <a:lnTo>
                  <a:pt x="31732" y="140176"/>
                </a:lnTo>
                <a:lnTo>
                  <a:pt x="34686" y="141076"/>
                </a:lnTo>
                <a:lnTo>
                  <a:pt x="37648" y="142668"/>
                </a:lnTo>
                <a:lnTo>
                  <a:pt x="40616" y="144721"/>
                </a:lnTo>
                <a:lnTo>
                  <a:pt x="43586" y="147082"/>
                </a:lnTo>
                <a:lnTo>
                  <a:pt x="46557" y="147664"/>
                </a:lnTo>
                <a:lnTo>
                  <a:pt x="49531" y="147060"/>
                </a:lnTo>
                <a:lnTo>
                  <a:pt x="58456" y="142875"/>
                </a:lnTo>
              </a:path>
            </a:pathLst>
          </a:custGeom>
          <a:noFill/>
          <a:ln w="38160">
            <a:solidFill>
              <a:srgbClr val="009300"/>
            </a:solidFill>
            <a:round/>
          </a:ln>
        </p:spPr>
        <p:style>
          <a:lnRef idx="0"/>
          <a:fillRef idx="0"/>
          <a:effectRef idx="0"/>
          <a:fontRef idx="minor"/>
        </p:style>
        <p:txBody>
          <a:bodyPr wrap="none" anchor="t">
            <a:noAutofit/>
          </a:bodyPr>
          <a:p>
            <a:endParaRPr b="0" lang="en-US" sz="2400" spc="-1" strike="noStrike">
              <a:solidFill>
                <a:srgbClr val="ffffcc"/>
              </a:solidFill>
              <a:latin typeface="Times New Roman"/>
            </a:endParaRPr>
          </a:p>
        </p:txBody>
      </p:sp>
      <p:sp>
        <p:nvSpPr>
          <p:cNvPr id="131" name="SMARTInkAnnotation10"/>
          <p:cNvSpPr/>
          <p:nvPr/>
        </p:nvSpPr>
        <p:spPr>
          <a:xfrm>
            <a:off x="6867360" y="2384280"/>
            <a:ext cx="8280" cy="27000"/>
          </a:xfrm>
          <a:custGeom>
            <a:avLst/>
            <a:gdLst>
              <a:gd name="textAreaLeft" fmla="*/ 0 w 8280"/>
              <a:gd name="textAreaRight" fmla="*/ 8640 w 8280"/>
              <a:gd name="textAreaTop" fmla="*/ 0 h 27000"/>
              <a:gd name="textAreaBottom" fmla="*/ 27360 h 27000"/>
            </a:gdLst>
            <a:ahLst/>
            <a:rect l="textAreaLeft" t="textAreaTop" r="textAreaRight" b="textAreaBottom"/>
            <a:pathLst>
              <a:path w="8931" h="26790">
                <a:moveTo>
                  <a:pt x="0" y="26789"/>
                </a:moveTo>
                <a:lnTo>
                  <a:pt x="0" y="14360"/>
                </a:lnTo>
                <a:lnTo>
                  <a:pt x="992" y="12550"/>
                </a:lnTo>
                <a:lnTo>
                  <a:pt x="2645" y="11343"/>
                </a:lnTo>
                <a:lnTo>
                  <a:pt x="4740" y="10539"/>
                </a:lnTo>
                <a:lnTo>
                  <a:pt x="6137" y="9010"/>
                </a:lnTo>
                <a:lnTo>
                  <a:pt x="7068" y="6999"/>
                </a:lnTo>
                <a:lnTo>
                  <a:pt x="8930" y="0"/>
                </a:lnTo>
              </a:path>
            </a:pathLst>
          </a:custGeom>
          <a:noFill/>
          <a:ln w="38160">
            <a:solidFill>
              <a:srgbClr val="009300"/>
            </a:solidFill>
            <a:round/>
          </a:ln>
        </p:spPr>
        <p:style>
          <a:lnRef idx="0"/>
          <a:fillRef idx="0"/>
          <a:effectRef idx="0"/>
          <a:fontRef idx="minor"/>
        </p:style>
        <p:txBody>
          <a:bodyPr wrap="none" tIns="-18360" bIns="-18360" anchor="t">
            <a:noAutofit/>
          </a:bodyPr>
          <a:p>
            <a:endParaRPr b="0" lang="en-US" sz="2400" spc="-1" strike="noStrike">
              <a:solidFill>
                <a:srgbClr val="ffffcc"/>
              </a:solidFill>
              <a:latin typeface="Times New Roman"/>
            </a:endParaRPr>
          </a:p>
        </p:txBody>
      </p:sp>
      <p:sp>
        <p:nvSpPr>
          <p:cNvPr id="132" name="SMARTInkAnnotation11"/>
          <p:cNvSpPr/>
          <p:nvPr/>
        </p:nvSpPr>
        <p:spPr>
          <a:xfrm>
            <a:off x="6491160" y="2152800"/>
            <a:ext cx="687600" cy="527040"/>
          </a:xfrm>
          <a:custGeom>
            <a:avLst/>
            <a:gdLst>
              <a:gd name="textAreaLeft" fmla="*/ 0 w 687600"/>
              <a:gd name="textAreaRight" fmla="*/ 687960 w 687600"/>
              <a:gd name="textAreaTop" fmla="*/ 0 h 527040"/>
              <a:gd name="textAreaBottom" fmla="*/ 527400 h 527040"/>
            </a:gdLst>
            <a:ahLst/>
            <a:rect l="textAreaLeft" t="textAreaTop" r="textAreaRight" b="textAreaBottom"/>
            <a:pathLst>
              <a:path w="686213" h="526247">
                <a:moveTo>
                  <a:pt x="0" y="526246"/>
                </a:moveTo>
                <a:lnTo>
                  <a:pt x="4740" y="521505"/>
                </a:lnTo>
                <a:lnTo>
                  <a:pt x="7129" y="520109"/>
                </a:lnTo>
                <a:lnTo>
                  <a:pt x="15232" y="517151"/>
                </a:lnTo>
                <a:lnTo>
                  <a:pt x="26858" y="507766"/>
                </a:lnTo>
                <a:lnTo>
                  <a:pt x="33764" y="502157"/>
                </a:lnTo>
                <a:lnTo>
                  <a:pt x="54368" y="487827"/>
                </a:lnTo>
                <a:lnTo>
                  <a:pt x="60058" y="482773"/>
                </a:lnTo>
                <a:lnTo>
                  <a:pt x="74317" y="474513"/>
                </a:lnTo>
                <a:lnTo>
                  <a:pt x="89585" y="467535"/>
                </a:lnTo>
                <a:lnTo>
                  <a:pt x="110329" y="457036"/>
                </a:lnTo>
                <a:lnTo>
                  <a:pt x="126425" y="447199"/>
                </a:lnTo>
                <a:lnTo>
                  <a:pt x="140856" y="436213"/>
                </a:lnTo>
                <a:lnTo>
                  <a:pt x="154876" y="424716"/>
                </a:lnTo>
                <a:lnTo>
                  <a:pt x="171029" y="412991"/>
                </a:lnTo>
                <a:lnTo>
                  <a:pt x="185484" y="401166"/>
                </a:lnTo>
                <a:lnTo>
                  <a:pt x="199516" y="389295"/>
                </a:lnTo>
                <a:lnTo>
                  <a:pt x="215673" y="377405"/>
                </a:lnTo>
                <a:lnTo>
                  <a:pt x="232778" y="362860"/>
                </a:lnTo>
                <a:lnTo>
                  <a:pt x="250300" y="347466"/>
                </a:lnTo>
                <a:lnTo>
                  <a:pt x="268010" y="334009"/>
                </a:lnTo>
                <a:lnTo>
                  <a:pt x="285804" y="318768"/>
                </a:lnTo>
                <a:lnTo>
                  <a:pt x="304626" y="303065"/>
                </a:lnTo>
                <a:lnTo>
                  <a:pt x="315202" y="296099"/>
                </a:lnTo>
                <a:lnTo>
                  <a:pt x="336543" y="282076"/>
                </a:lnTo>
                <a:lnTo>
                  <a:pt x="365293" y="258438"/>
                </a:lnTo>
                <a:lnTo>
                  <a:pt x="383610" y="244832"/>
                </a:lnTo>
                <a:lnTo>
                  <a:pt x="401673" y="229524"/>
                </a:lnTo>
                <a:lnTo>
                  <a:pt x="419624" y="213791"/>
                </a:lnTo>
                <a:lnTo>
                  <a:pt x="437523" y="200184"/>
                </a:lnTo>
                <a:lnTo>
                  <a:pt x="455400" y="184876"/>
                </a:lnTo>
                <a:lnTo>
                  <a:pt x="473268" y="169143"/>
                </a:lnTo>
                <a:lnTo>
                  <a:pt x="491131" y="155536"/>
                </a:lnTo>
                <a:lnTo>
                  <a:pt x="506345" y="142874"/>
                </a:lnTo>
                <a:lnTo>
                  <a:pt x="519722" y="130632"/>
                </a:lnTo>
                <a:lnTo>
                  <a:pt x="532283" y="118576"/>
                </a:lnTo>
                <a:lnTo>
                  <a:pt x="550509" y="105373"/>
                </a:lnTo>
                <a:lnTo>
                  <a:pt x="563736" y="95177"/>
                </a:lnTo>
                <a:lnTo>
                  <a:pt x="570696" y="86282"/>
                </a:lnTo>
                <a:lnTo>
                  <a:pt x="573941" y="81132"/>
                </a:lnTo>
                <a:lnTo>
                  <a:pt x="577097" y="77698"/>
                </a:lnTo>
                <a:lnTo>
                  <a:pt x="580192" y="75410"/>
                </a:lnTo>
                <a:lnTo>
                  <a:pt x="589201" y="70911"/>
                </a:lnTo>
                <a:lnTo>
                  <a:pt x="568365" y="70834"/>
                </a:lnTo>
                <a:lnTo>
                  <a:pt x="520741" y="70832"/>
                </a:lnTo>
                <a:lnTo>
                  <a:pt x="508922" y="68186"/>
                </a:lnTo>
                <a:lnTo>
                  <a:pt x="497054" y="64695"/>
                </a:lnTo>
                <a:lnTo>
                  <a:pt x="479218" y="62729"/>
                </a:lnTo>
                <a:lnTo>
                  <a:pt x="461364" y="61155"/>
                </a:lnTo>
                <a:lnTo>
                  <a:pt x="440200" y="54882"/>
                </a:lnTo>
                <a:lnTo>
                  <a:pt x="426171" y="53350"/>
                </a:lnTo>
                <a:lnTo>
                  <a:pt x="423021" y="52231"/>
                </a:lnTo>
                <a:lnTo>
                  <a:pt x="410926" y="44154"/>
                </a:lnTo>
                <a:lnTo>
                  <a:pt x="410814" y="39335"/>
                </a:lnTo>
                <a:lnTo>
                  <a:pt x="411790" y="37928"/>
                </a:lnTo>
                <a:lnTo>
                  <a:pt x="413433" y="36989"/>
                </a:lnTo>
                <a:lnTo>
                  <a:pt x="423132" y="33023"/>
                </a:lnTo>
                <a:lnTo>
                  <a:pt x="444186" y="22794"/>
                </a:lnTo>
                <a:lnTo>
                  <a:pt x="455716" y="19716"/>
                </a:lnTo>
                <a:lnTo>
                  <a:pt x="476009" y="15337"/>
                </a:lnTo>
                <a:lnTo>
                  <a:pt x="492349" y="11441"/>
                </a:lnTo>
                <a:lnTo>
                  <a:pt x="509533" y="9709"/>
                </a:lnTo>
                <a:lnTo>
                  <a:pt x="527092" y="6293"/>
                </a:lnTo>
                <a:lnTo>
                  <a:pt x="544817" y="2460"/>
                </a:lnTo>
                <a:lnTo>
                  <a:pt x="562619" y="757"/>
                </a:lnTo>
                <a:lnTo>
                  <a:pt x="580451" y="0"/>
                </a:lnTo>
                <a:lnTo>
                  <a:pt x="597306" y="655"/>
                </a:lnTo>
                <a:lnTo>
                  <a:pt x="617953" y="5610"/>
                </a:lnTo>
                <a:lnTo>
                  <a:pt x="635644" y="8512"/>
                </a:lnTo>
                <a:lnTo>
                  <a:pt x="653661" y="17879"/>
                </a:lnTo>
                <a:lnTo>
                  <a:pt x="659016" y="20647"/>
                </a:lnTo>
                <a:lnTo>
                  <a:pt x="662587" y="23485"/>
                </a:lnTo>
                <a:lnTo>
                  <a:pt x="664967" y="26368"/>
                </a:lnTo>
                <a:lnTo>
                  <a:pt x="670962" y="37813"/>
                </a:lnTo>
                <a:lnTo>
                  <a:pt x="675237" y="47227"/>
                </a:lnTo>
                <a:lnTo>
                  <a:pt x="678635" y="58105"/>
                </a:lnTo>
                <a:lnTo>
                  <a:pt x="682947" y="64514"/>
                </a:lnTo>
                <a:lnTo>
                  <a:pt x="685525" y="73315"/>
                </a:lnTo>
                <a:lnTo>
                  <a:pt x="686212" y="78441"/>
                </a:lnTo>
                <a:lnTo>
                  <a:pt x="684330" y="89427"/>
                </a:lnTo>
                <a:lnTo>
                  <a:pt x="681178" y="100924"/>
                </a:lnTo>
                <a:lnTo>
                  <a:pt x="679777" y="112649"/>
                </a:lnTo>
                <a:lnTo>
                  <a:pt x="676509" y="124475"/>
                </a:lnTo>
                <a:lnTo>
                  <a:pt x="672741" y="136345"/>
                </a:lnTo>
                <a:lnTo>
                  <a:pt x="671067" y="148235"/>
                </a:lnTo>
                <a:lnTo>
                  <a:pt x="667677" y="160134"/>
                </a:lnTo>
                <a:lnTo>
                  <a:pt x="662836" y="175344"/>
                </a:lnTo>
                <a:lnTo>
                  <a:pt x="661401" y="188780"/>
                </a:lnTo>
                <a:lnTo>
                  <a:pt x="660976" y="202683"/>
                </a:lnTo>
                <a:lnTo>
                  <a:pt x="660797" y="213707"/>
                </a:lnTo>
              </a:path>
            </a:pathLst>
          </a:custGeom>
          <a:noFill/>
          <a:ln w="38160">
            <a:solidFill>
              <a:srgbClr val="009300"/>
            </a:solidFill>
            <a:round/>
          </a:ln>
        </p:spPr>
        <p:style>
          <a:lnRef idx="0"/>
          <a:fillRef idx="0"/>
          <a:effectRef idx="0"/>
          <a:fontRef idx="minor"/>
        </p:style>
        <p:txBody>
          <a:bodyPr wrap="none" anchor="t">
            <a:noAutofit/>
          </a:bodyPr>
          <a:p>
            <a:endParaRPr b="0" lang="en-US" sz="2400" spc="-1" strike="noStrike">
              <a:solidFill>
                <a:srgbClr val="ffffcc"/>
              </a:solidFill>
              <a:latin typeface="Times New Roman"/>
            </a:endParaRPr>
          </a:p>
        </p:txBody>
      </p:sp>
      <p:sp>
        <p:nvSpPr>
          <p:cNvPr id="133" name="SMARTInkAnnotation12"/>
          <p:cNvSpPr/>
          <p:nvPr/>
        </p:nvSpPr>
        <p:spPr>
          <a:xfrm>
            <a:off x="7234200" y="1938240"/>
            <a:ext cx="300240" cy="274680"/>
          </a:xfrm>
          <a:custGeom>
            <a:avLst/>
            <a:gdLst>
              <a:gd name="textAreaLeft" fmla="*/ 0 w 300240"/>
              <a:gd name="textAreaRight" fmla="*/ 300600 w 300240"/>
              <a:gd name="textAreaTop" fmla="*/ 0 h 274680"/>
              <a:gd name="textAreaBottom" fmla="*/ 275040 h 274680"/>
            </a:gdLst>
            <a:ahLst/>
            <a:rect l="textAreaLeft" t="textAreaTop" r="textAreaRight" b="textAreaBottom"/>
            <a:pathLst>
              <a:path w="300012" h="275269">
                <a:moveTo>
                  <a:pt x="203605" y="71437"/>
                </a:moveTo>
                <a:lnTo>
                  <a:pt x="173794" y="41626"/>
                </a:lnTo>
                <a:lnTo>
                  <a:pt x="170832" y="39657"/>
                </a:lnTo>
                <a:lnTo>
                  <a:pt x="164897" y="37469"/>
                </a:lnTo>
                <a:lnTo>
                  <a:pt x="156304" y="36496"/>
                </a:lnTo>
                <a:lnTo>
                  <a:pt x="151236" y="36237"/>
                </a:lnTo>
                <a:lnTo>
                  <a:pt x="140311" y="35949"/>
                </a:lnTo>
                <a:lnTo>
                  <a:pt x="117129" y="35764"/>
                </a:lnTo>
                <a:lnTo>
                  <a:pt x="111228" y="36741"/>
                </a:lnTo>
                <a:lnTo>
                  <a:pt x="105309" y="38384"/>
                </a:lnTo>
                <a:lnTo>
                  <a:pt x="99379" y="40472"/>
                </a:lnTo>
                <a:lnTo>
                  <a:pt x="93441" y="41864"/>
                </a:lnTo>
                <a:lnTo>
                  <a:pt x="87499" y="42792"/>
                </a:lnTo>
                <a:lnTo>
                  <a:pt x="81552" y="43411"/>
                </a:lnTo>
                <a:lnTo>
                  <a:pt x="75604" y="45808"/>
                </a:lnTo>
                <a:lnTo>
                  <a:pt x="69654" y="49390"/>
                </a:lnTo>
                <a:lnTo>
                  <a:pt x="63702" y="53762"/>
                </a:lnTo>
                <a:lnTo>
                  <a:pt x="57751" y="57670"/>
                </a:lnTo>
                <a:lnTo>
                  <a:pt x="51798" y="61267"/>
                </a:lnTo>
                <a:lnTo>
                  <a:pt x="45846" y="64657"/>
                </a:lnTo>
                <a:lnTo>
                  <a:pt x="40886" y="68901"/>
                </a:lnTo>
                <a:lnTo>
                  <a:pt x="36586" y="73715"/>
                </a:lnTo>
                <a:lnTo>
                  <a:pt x="32727" y="78909"/>
                </a:lnTo>
                <a:lnTo>
                  <a:pt x="29163" y="84356"/>
                </a:lnTo>
                <a:lnTo>
                  <a:pt x="25794" y="89972"/>
                </a:lnTo>
                <a:lnTo>
                  <a:pt x="22557" y="95699"/>
                </a:lnTo>
                <a:lnTo>
                  <a:pt x="16314" y="107356"/>
                </a:lnTo>
                <a:lnTo>
                  <a:pt x="13260" y="113243"/>
                </a:lnTo>
                <a:lnTo>
                  <a:pt x="10232" y="120143"/>
                </a:lnTo>
                <a:lnTo>
                  <a:pt x="7220" y="127720"/>
                </a:lnTo>
                <a:lnTo>
                  <a:pt x="4220" y="135748"/>
                </a:lnTo>
                <a:lnTo>
                  <a:pt x="2221" y="143085"/>
                </a:lnTo>
                <a:lnTo>
                  <a:pt x="889" y="149960"/>
                </a:lnTo>
                <a:lnTo>
                  <a:pt x="0" y="156528"/>
                </a:lnTo>
                <a:lnTo>
                  <a:pt x="399" y="163883"/>
                </a:lnTo>
                <a:lnTo>
                  <a:pt x="1659" y="171763"/>
                </a:lnTo>
                <a:lnTo>
                  <a:pt x="3489" y="179993"/>
                </a:lnTo>
                <a:lnTo>
                  <a:pt x="5702" y="187464"/>
                </a:lnTo>
                <a:lnTo>
                  <a:pt x="8170" y="194429"/>
                </a:lnTo>
                <a:lnTo>
                  <a:pt x="10806" y="201057"/>
                </a:lnTo>
                <a:lnTo>
                  <a:pt x="13558" y="207460"/>
                </a:lnTo>
                <a:lnTo>
                  <a:pt x="19260" y="219866"/>
                </a:lnTo>
                <a:lnTo>
                  <a:pt x="23161" y="225952"/>
                </a:lnTo>
                <a:lnTo>
                  <a:pt x="27747" y="231994"/>
                </a:lnTo>
                <a:lnTo>
                  <a:pt x="32787" y="238006"/>
                </a:lnTo>
                <a:lnTo>
                  <a:pt x="38133" y="243999"/>
                </a:lnTo>
                <a:lnTo>
                  <a:pt x="49364" y="255949"/>
                </a:lnTo>
                <a:lnTo>
                  <a:pt x="55137" y="259930"/>
                </a:lnTo>
                <a:lnTo>
                  <a:pt x="60970" y="262583"/>
                </a:lnTo>
                <a:lnTo>
                  <a:pt x="73736" y="266524"/>
                </a:lnTo>
                <a:lnTo>
                  <a:pt x="89330" y="271582"/>
                </a:lnTo>
                <a:lnTo>
                  <a:pt x="97657" y="273328"/>
                </a:lnTo>
                <a:lnTo>
                  <a:pt x="106182" y="274492"/>
                </a:lnTo>
                <a:lnTo>
                  <a:pt x="114845" y="275268"/>
                </a:lnTo>
                <a:lnTo>
                  <a:pt x="123595" y="274793"/>
                </a:lnTo>
                <a:lnTo>
                  <a:pt x="132405" y="273485"/>
                </a:lnTo>
                <a:lnTo>
                  <a:pt x="141256" y="271620"/>
                </a:lnTo>
                <a:lnTo>
                  <a:pt x="150132" y="269384"/>
                </a:lnTo>
                <a:lnTo>
                  <a:pt x="159028" y="266902"/>
                </a:lnTo>
                <a:lnTo>
                  <a:pt x="167934" y="264255"/>
                </a:lnTo>
                <a:lnTo>
                  <a:pt x="176848" y="260506"/>
                </a:lnTo>
                <a:lnTo>
                  <a:pt x="185766" y="256022"/>
                </a:lnTo>
                <a:lnTo>
                  <a:pt x="202622" y="246740"/>
                </a:lnTo>
                <a:lnTo>
                  <a:pt x="216728" y="239308"/>
                </a:lnTo>
                <a:lnTo>
                  <a:pt x="224260" y="233953"/>
                </a:lnTo>
                <a:lnTo>
                  <a:pt x="232258" y="227406"/>
                </a:lnTo>
                <a:lnTo>
                  <a:pt x="240566" y="220065"/>
                </a:lnTo>
                <a:lnTo>
                  <a:pt x="255089" y="206616"/>
                </a:lnTo>
                <a:lnTo>
                  <a:pt x="261740" y="200252"/>
                </a:lnTo>
                <a:lnTo>
                  <a:pt x="267166" y="194024"/>
                </a:lnTo>
                <a:lnTo>
                  <a:pt x="271775" y="187889"/>
                </a:lnTo>
                <a:lnTo>
                  <a:pt x="275841" y="181814"/>
                </a:lnTo>
                <a:lnTo>
                  <a:pt x="279544" y="175779"/>
                </a:lnTo>
                <a:lnTo>
                  <a:pt x="283004" y="169772"/>
                </a:lnTo>
                <a:lnTo>
                  <a:pt x="286302" y="163783"/>
                </a:lnTo>
                <a:lnTo>
                  <a:pt x="289495" y="156813"/>
                </a:lnTo>
                <a:lnTo>
                  <a:pt x="292615" y="149191"/>
                </a:lnTo>
                <a:lnTo>
                  <a:pt x="295687" y="141132"/>
                </a:lnTo>
                <a:lnTo>
                  <a:pt x="297735" y="133776"/>
                </a:lnTo>
                <a:lnTo>
                  <a:pt x="299101" y="126887"/>
                </a:lnTo>
                <a:lnTo>
                  <a:pt x="300011" y="120310"/>
                </a:lnTo>
                <a:lnTo>
                  <a:pt x="299626" y="112949"/>
                </a:lnTo>
                <a:lnTo>
                  <a:pt x="298376" y="105065"/>
                </a:lnTo>
                <a:lnTo>
                  <a:pt x="296551" y="96832"/>
                </a:lnTo>
                <a:lnTo>
                  <a:pt x="294342" y="89359"/>
                </a:lnTo>
                <a:lnTo>
                  <a:pt x="291878" y="82393"/>
                </a:lnTo>
                <a:lnTo>
                  <a:pt x="289243" y="75765"/>
                </a:lnTo>
                <a:lnTo>
                  <a:pt x="285501" y="69361"/>
                </a:lnTo>
                <a:lnTo>
                  <a:pt x="281023" y="63108"/>
                </a:lnTo>
                <a:lnTo>
                  <a:pt x="276053" y="56955"/>
                </a:lnTo>
                <a:lnTo>
                  <a:pt x="270755" y="51860"/>
                </a:lnTo>
                <a:lnTo>
                  <a:pt x="265238" y="47472"/>
                </a:lnTo>
                <a:lnTo>
                  <a:pt x="259576" y="43554"/>
                </a:lnTo>
                <a:lnTo>
                  <a:pt x="253818" y="38958"/>
                </a:lnTo>
                <a:lnTo>
                  <a:pt x="247994" y="33909"/>
                </a:lnTo>
                <a:lnTo>
                  <a:pt x="242127" y="28559"/>
                </a:lnTo>
                <a:lnTo>
                  <a:pt x="236232" y="24000"/>
                </a:lnTo>
                <a:lnTo>
                  <a:pt x="230317" y="19969"/>
                </a:lnTo>
                <a:lnTo>
                  <a:pt x="224389" y="16289"/>
                </a:lnTo>
                <a:lnTo>
                  <a:pt x="218453" y="13836"/>
                </a:lnTo>
                <a:lnTo>
                  <a:pt x="212512" y="12200"/>
                </a:lnTo>
                <a:lnTo>
                  <a:pt x="206565" y="11110"/>
                </a:lnTo>
                <a:lnTo>
                  <a:pt x="197314" y="7253"/>
                </a:lnTo>
                <a:lnTo>
                  <a:pt x="189895" y="3223"/>
                </a:lnTo>
                <a:lnTo>
                  <a:pt x="186528" y="2149"/>
                </a:lnTo>
                <a:lnTo>
                  <a:pt x="176816" y="0"/>
                </a:lnTo>
              </a:path>
            </a:pathLst>
          </a:custGeom>
          <a:noFill/>
          <a:ln w="38160">
            <a:solidFill>
              <a:srgbClr val="009300"/>
            </a:solidFill>
            <a:round/>
          </a:ln>
        </p:spPr>
        <p:style>
          <a:lnRef idx="0"/>
          <a:fillRef idx="0"/>
          <a:effectRef idx="0"/>
          <a:fontRef idx="minor"/>
        </p:style>
        <p:txBody>
          <a:bodyPr wrap="none" anchor="t">
            <a:noAutofit/>
          </a:bodyPr>
          <a:p>
            <a:endParaRPr b="0" lang="en-US" sz="2400" spc="-1" strike="noStrike">
              <a:solidFill>
                <a:srgbClr val="ffffcc"/>
              </a:solidFill>
              <a:latin typeface="Times New Roman"/>
            </a:endParaRPr>
          </a:p>
        </p:txBody>
      </p:sp>
      <p:sp>
        <p:nvSpPr>
          <p:cNvPr id="134" name="SMARTInkAnnotation13"/>
          <p:cNvSpPr/>
          <p:nvPr/>
        </p:nvSpPr>
        <p:spPr>
          <a:xfrm>
            <a:off x="5840280" y="1874880"/>
            <a:ext cx="168480" cy="187200"/>
          </a:xfrm>
          <a:custGeom>
            <a:avLst/>
            <a:gdLst>
              <a:gd name="textAreaLeft" fmla="*/ 0 w 168480"/>
              <a:gd name="textAreaRight" fmla="*/ 168840 w 168480"/>
              <a:gd name="textAreaTop" fmla="*/ 0 h 187200"/>
              <a:gd name="textAreaBottom" fmla="*/ 187560 h 187200"/>
            </a:gdLst>
            <a:ahLst/>
            <a:rect l="textAreaLeft" t="textAreaTop" r="textAreaRight" b="textAreaBottom"/>
            <a:pathLst>
              <a:path w="169138" h="187330">
                <a:moveTo>
                  <a:pt x="0" y="35574"/>
                </a:moveTo>
                <a:lnTo>
                  <a:pt x="0" y="30833"/>
                </a:lnTo>
                <a:lnTo>
                  <a:pt x="992" y="28444"/>
                </a:lnTo>
                <a:lnTo>
                  <a:pt x="4740" y="23145"/>
                </a:lnTo>
                <a:lnTo>
                  <a:pt x="9094" y="17795"/>
                </a:lnTo>
                <a:lnTo>
                  <a:pt x="13302" y="13450"/>
                </a:lnTo>
                <a:lnTo>
                  <a:pt x="16806" y="10903"/>
                </a:lnTo>
                <a:lnTo>
                  <a:pt x="21125" y="8213"/>
                </a:lnTo>
                <a:lnTo>
                  <a:pt x="25990" y="5427"/>
                </a:lnTo>
                <a:lnTo>
                  <a:pt x="30225" y="3569"/>
                </a:lnTo>
                <a:lnTo>
                  <a:pt x="34041" y="2331"/>
                </a:lnTo>
                <a:lnTo>
                  <a:pt x="37577" y="1506"/>
                </a:lnTo>
                <a:lnTo>
                  <a:pt x="41918" y="955"/>
                </a:lnTo>
                <a:lnTo>
                  <a:pt x="46797" y="589"/>
                </a:lnTo>
                <a:lnTo>
                  <a:pt x="52034" y="344"/>
                </a:lnTo>
                <a:lnTo>
                  <a:pt x="63144" y="72"/>
                </a:lnTo>
                <a:lnTo>
                  <a:pt x="68885" y="0"/>
                </a:lnTo>
                <a:lnTo>
                  <a:pt x="74697" y="944"/>
                </a:lnTo>
                <a:lnTo>
                  <a:pt x="80556" y="2565"/>
                </a:lnTo>
                <a:lnTo>
                  <a:pt x="86446" y="4638"/>
                </a:lnTo>
                <a:lnTo>
                  <a:pt x="92357" y="7013"/>
                </a:lnTo>
                <a:lnTo>
                  <a:pt x="98282" y="9587"/>
                </a:lnTo>
                <a:lnTo>
                  <a:pt x="110157" y="15095"/>
                </a:lnTo>
                <a:lnTo>
                  <a:pt x="122050" y="20850"/>
                </a:lnTo>
                <a:lnTo>
                  <a:pt x="127006" y="23773"/>
                </a:lnTo>
                <a:lnTo>
                  <a:pt x="131305" y="26714"/>
                </a:lnTo>
                <a:lnTo>
                  <a:pt x="135160" y="29668"/>
                </a:lnTo>
                <a:lnTo>
                  <a:pt x="138725" y="33620"/>
                </a:lnTo>
                <a:lnTo>
                  <a:pt x="142092" y="38241"/>
                </a:lnTo>
                <a:lnTo>
                  <a:pt x="145330" y="43305"/>
                </a:lnTo>
                <a:lnTo>
                  <a:pt x="148480" y="48665"/>
                </a:lnTo>
                <a:lnTo>
                  <a:pt x="151572" y="54223"/>
                </a:lnTo>
                <a:lnTo>
                  <a:pt x="157654" y="65691"/>
                </a:lnTo>
                <a:lnTo>
                  <a:pt x="163664" y="77402"/>
                </a:lnTo>
                <a:lnTo>
                  <a:pt x="165664" y="83303"/>
                </a:lnTo>
                <a:lnTo>
                  <a:pt x="166998" y="89221"/>
                </a:lnTo>
                <a:lnTo>
                  <a:pt x="167887" y="95151"/>
                </a:lnTo>
                <a:lnTo>
                  <a:pt x="168479" y="101089"/>
                </a:lnTo>
                <a:lnTo>
                  <a:pt x="168873" y="107032"/>
                </a:lnTo>
                <a:lnTo>
                  <a:pt x="169137" y="112978"/>
                </a:lnTo>
                <a:lnTo>
                  <a:pt x="168321" y="118926"/>
                </a:lnTo>
                <a:lnTo>
                  <a:pt x="166784" y="124877"/>
                </a:lnTo>
                <a:lnTo>
                  <a:pt x="164767" y="130828"/>
                </a:lnTo>
                <a:lnTo>
                  <a:pt x="162431" y="135787"/>
                </a:lnTo>
                <a:lnTo>
                  <a:pt x="159881" y="140086"/>
                </a:lnTo>
                <a:lnTo>
                  <a:pt x="157189" y="143944"/>
                </a:lnTo>
                <a:lnTo>
                  <a:pt x="154402" y="148500"/>
                </a:lnTo>
                <a:lnTo>
                  <a:pt x="151552" y="153522"/>
                </a:lnTo>
                <a:lnTo>
                  <a:pt x="148659" y="158854"/>
                </a:lnTo>
                <a:lnTo>
                  <a:pt x="144746" y="163401"/>
                </a:lnTo>
                <a:lnTo>
                  <a:pt x="140154" y="167425"/>
                </a:lnTo>
                <a:lnTo>
                  <a:pt x="135108" y="171099"/>
                </a:lnTo>
                <a:lnTo>
                  <a:pt x="130751" y="174541"/>
                </a:lnTo>
                <a:lnTo>
                  <a:pt x="126854" y="177828"/>
                </a:lnTo>
                <a:lnTo>
                  <a:pt x="123265" y="181011"/>
                </a:lnTo>
                <a:lnTo>
                  <a:pt x="118888" y="183134"/>
                </a:lnTo>
                <a:lnTo>
                  <a:pt x="113985" y="184549"/>
                </a:lnTo>
                <a:lnTo>
                  <a:pt x="108732" y="185492"/>
                </a:lnTo>
                <a:lnTo>
                  <a:pt x="104238" y="186121"/>
                </a:lnTo>
                <a:lnTo>
                  <a:pt x="100250" y="186540"/>
                </a:lnTo>
                <a:lnTo>
                  <a:pt x="96599" y="186819"/>
                </a:lnTo>
                <a:lnTo>
                  <a:pt x="92181" y="187006"/>
                </a:lnTo>
                <a:lnTo>
                  <a:pt x="74561" y="187329"/>
                </a:lnTo>
                <a:lnTo>
                  <a:pt x="72527" y="186353"/>
                </a:lnTo>
                <a:lnTo>
                  <a:pt x="67622" y="182623"/>
                </a:lnTo>
                <a:lnTo>
                  <a:pt x="64925" y="181232"/>
                </a:lnTo>
                <a:lnTo>
                  <a:pt x="62134" y="180304"/>
                </a:lnTo>
                <a:lnTo>
                  <a:pt x="55268" y="178815"/>
                </a:lnTo>
                <a:lnTo>
                  <a:pt x="55697" y="177701"/>
                </a:lnTo>
                <a:lnTo>
                  <a:pt x="60048" y="172384"/>
                </a:lnTo>
                <a:lnTo>
                  <a:pt x="64668" y="167439"/>
                </a:lnTo>
                <a:lnTo>
                  <a:pt x="66924" y="165156"/>
                </a:lnTo>
                <a:lnTo>
                  <a:pt x="69421" y="163633"/>
                </a:lnTo>
                <a:lnTo>
                  <a:pt x="72078" y="162619"/>
                </a:lnTo>
                <a:lnTo>
                  <a:pt x="74841" y="161942"/>
                </a:lnTo>
                <a:lnTo>
                  <a:pt x="77675" y="161491"/>
                </a:lnTo>
                <a:lnTo>
                  <a:pt x="80557" y="161191"/>
                </a:lnTo>
                <a:lnTo>
                  <a:pt x="83469" y="160990"/>
                </a:lnTo>
                <a:lnTo>
                  <a:pt x="87396" y="161849"/>
                </a:lnTo>
                <a:lnTo>
                  <a:pt x="91999" y="163413"/>
                </a:lnTo>
                <a:lnTo>
                  <a:pt x="97052" y="165448"/>
                </a:lnTo>
                <a:lnTo>
                  <a:pt x="101411" y="166805"/>
                </a:lnTo>
                <a:lnTo>
                  <a:pt x="105311" y="167710"/>
                </a:lnTo>
                <a:lnTo>
                  <a:pt x="108903" y="168313"/>
                </a:lnTo>
                <a:lnTo>
                  <a:pt x="113281" y="169707"/>
                </a:lnTo>
                <a:lnTo>
                  <a:pt x="118186" y="171629"/>
                </a:lnTo>
                <a:lnTo>
                  <a:pt x="133945" y="178449"/>
                </a:lnTo>
              </a:path>
            </a:pathLst>
          </a:custGeom>
          <a:noFill/>
          <a:ln w="38160">
            <a:solidFill>
              <a:srgbClr val="009300"/>
            </a:solidFill>
            <a:round/>
          </a:ln>
        </p:spPr>
        <p:style>
          <a:lnRef idx="0"/>
          <a:fillRef idx="0"/>
          <a:effectRef idx="0"/>
          <a:fontRef idx="minor"/>
        </p:style>
        <p:txBody>
          <a:bodyPr wrap="none" anchor="t">
            <a:noAutofit/>
          </a:bodyPr>
          <a:p>
            <a:endParaRPr b="0" lang="en-US" sz="2400" spc="-1" strike="noStrike">
              <a:solidFill>
                <a:srgbClr val="ffffcc"/>
              </a:solidFill>
              <a:latin typeface="Times New Roman"/>
            </a:endParaRPr>
          </a:p>
        </p:txBody>
      </p:sp>
      <p:sp>
        <p:nvSpPr>
          <p:cNvPr id="135" name="Freeform 17"/>
          <p:cNvSpPr/>
          <p:nvPr/>
        </p:nvSpPr>
        <p:spPr>
          <a:xfrm>
            <a:off x="6062760" y="2054160"/>
            <a:ext cx="3240" cy="360"/>
          </a:xfrm>
          <a:custGeom>
            <a:avLst/>
            <a:gdLst>
              <a:gd name="textAreaLeft" fmla="*/ 0 w 3240"/>
              <a:gd name="textAreaRight" fmla="*/ 3600 w 3240"/>
              <a:gd name="textAreaTop" fmla="*/ 0 h 360"/>
              <a:gd name="textAreaBottom" fmla="*/ 720 h 360"/>
            </a:gdLst>
            <a:ahLst/>
            <a:rect l="textAreaLeft" t="textAreaTop" r="textAreaRight" b="textAreaBottom"/>
            <a:pathLst>
              <a:path w="2646" h="1">
                <a:moveTo>
                  <a:pt x="0" y="0"/>
                </a:moveTo>
                <a:lnTo>
                  <a:pt x="2645" y="0"/>
                </a:lnTo>
                <a:close/>
              </a:path>
            </a:pathLst>
          </a:custGeom>
          <a:solidFill>
            <a:srgbClr val="cc0099"/>
          </a:solidFill>
          <a:ln w="38160">
            <a:solidFill>
              <a:srgbClr val="009300"/>
            </a:solidFill>
            <a:round/>
          </a:ln>
        </p:spPr>
        <p:style>
          <a:lnRef idx="0"/>
          <a:fillRef idx="0"/>
          <a:effectRef idx="0"/>
          <a:fontRef idx="minor"/>
        </p:style>
        <p:txBody>
          <a:bodyPr wrap="none" tIns="-45000" bIns="-45000" anchor="t">
            <a:noAutofit/>
          </a:bodyPr>
          <a:p>
            <a:endParaRPr b="0" lang="en-US" sz="2400" spc="-1" strike="noStrike">
              <a:solidFill>
                <a:srgbClr val="ffffcc"/>
              </a:solidFill>
              <a:latin typeface="Times New Roman"/>
            </a:endParaRPr>
          </a:p>
        </p:txBody>
      </p:sp>
      <p:sp>
        <p:nvSpPr>
          <p:cNvPr id="136" name="SMARTInkAnnotation15"/>
          <p:cNvSpPr/>
          <p:nvPr/>
        </p:nvSpPr>
        <p:spPr>
          <a:xfrm>
            <a:off x="6073920" y="1857240"/>
            <a:ext cx="176040" cy="255600"/>
          </a:xfrm>
          <a:custGeom>
            <a:avLst/>
            <a:gdLst>
              <a:gd name="textAreaLeft" fmla="*/ 0 w 176040"/>
              <a:gd name="textAreaRight" fmla="*/ 176400 w 176040"/>
              <a:gd name="textAreaTop" fmla="*/ 0 h 255600"/>
              <a:gd name="textAreaBottom" fmla="*/ 255960 h 255600"/>
            </a:gdLst>
            <a:ahLst/>
            <a:rect l="textAreaLeft" t="textAreaTop" r="textAreaRight" b="textAreaBottom"/>
            <a:pathLst>
              <a:path w="175421" h="254674">
                <a:moveTo>
                  <a:pt x="141098" y="17460"/>
                </a:moveTo>
                <a:lnTo>
                  <a:pt x="114493" y="4157"/>
                </a:lnTo>
                <a:lnTo>
                  <a:pt x="110463" y="2638"/>
                </a:lnTo>
                <a:lnTo>
                  <a:pt x="106784" y="1626"/>
                </a:lnTo>
                <a:lnTo>
                  <a:pt x="103339" y="951"/>
                </a:lnTo>
                <a:lnTo>
                  <a:pt x="100050" y="501"/>
                </a:lnTo>
                <a:lnTo>
                  <a:pt x="96866" y="200"/>
                </a:lnTo>
                <a:lnTo>
                  <a:pt x="93750" y="0"/>
                </a:lnTo>
                <a:lnTo>
                  <a:pt x="89689" y="859"/>
                </a:lnTo>
                <a:lnTo>
                  <a:pt x="84998" y="2424"/>
                </a:lnTo>
                <a:lnTo>
                  <a:pt x="79885" y="4459"/>
                </a:lnTo>
                <a:lnTo>
                  <a:pt x="74493" y="5816"/>
                </a:lnTo>
                <a:lnTo>
                  <a:pt x="68912" y="6721"/>
                </a:lnTo>
                <a:lnTo>
                  <a:pt x="63209" y="7324"/>
                </a:lnTo>
                <a:lnTo>
                  <a:pt x="57421" y="8718"/>
                </a:lnTo>
                <a:lnTo>
                  <a:pt x="51579" y="10640"/>
                </a:lnTo>
                <a:lnTo>
                  <a:pt x="45700" y="12913"/>
                </a:lnTo>
                <a:lnTo>
                  <a:pt x="40789" y="15421"/>
                </a:lnTo>
                <a:lnTo>
                  <a:pt x="36521" y="18085"/>
                </a:lnTo>
                <a:lnTo>
                  <a:pt x="32685" y="20853"/>
                </a:lnTo>
                <a:lnTo>
                  <a:pt x="29135" y="23691"/>
                </a:lnTo>
                <a:lnTo>
                  <a:pt x="25777" y="26575"/>
                </a:lnTo>
                <a:lnTo>
                  <a:pt x="22545" y="29489"/>
                </a:lnTo>
                <a:lnTo>
                  <a:pt x="16309" y="35374"/>
                </a:lnTo>
                <a:lnTo>
                  <a:pt x="4221" y="47236"/>
                </a:lnTo>
                <a:lnTo>
                  <a:pt x="2222" y="50209"/>
                </a:lnTo>
                <a:lnTo>
                  <a:pt x="0" y="56158"/>
                </a:lnTo>
                <a:lnTo>
                  <a:pt x="399" y="59134"/>
                </a:lnTo>
                <a:lnTo>
                  <a:pt x="1659" y="62110"/>
                </a:lnTo>
                <a:lnTo>
                  <a:pt x="3490" y="65086"/>
                </a:lnTo>
                <a:lnTo>
                  <a:pt x="4710" y="69054"/>
                </a:lnTo>
                <a:lnTo>
                  <a:pt x="5524" y="73684"/>
                </a:lnTo>
                <a:lnTo>
                  <a:pt x="6067" y="78755"/>
                </a:lnTo>
                <a:lnTo>
                  <a:pt x="8413" y="83128"/>
                </a:lnTo>
                <a:lnTo>
                  <a:pt x="11962" y="87036"/>
                </a:lnTo>
                <a:lnTo>
                  <a:pt x="16311" y="90633"/>
                </a:lnTo>
                <a:lnTo>
                  <a:pt x="20205" y="94023"/>
                </a:lnTo>
                <a:lnTo>
                  <a:pt x="23791" y="97275"/>
                </a:lnTo>
                <a:lnTo>
                  <a:pt x="27174" y="100436"/>
                </a:lnTo>
                <a:lnTo>
                  <a:pt x="31415" y="103535"/>
                </a:lnTo>
                <a:lnTo>
                  <a:pt x="36226" y="106593"/>
                </a:lnTo>
                <a:lnTo>
                  <a:pt x="41417" y="109624"/>
                </a:lnTo>
                <a:lnTo>
                  <a:pt x="46863" y="112637"/>
                </a:lnTo>
                <a:lnTo>
                  <a:pt x="58206" y="118631"/>
                </a:lnTo>
                <a:lnTo>
                  <a:pt x="65000" y="121618"/>
                </a:lnTo>
                <a:lnTo>
                  <a:pt x="72506" y="124602"/>
                </a:lnTo>
                <a:lnTo>
                  <a:pt x="80487" y="127583"/>
                </a:lnTo>
                <a:lnTo>
                  <a:pt x="87793" y="130563"/>
                </a:lnTo>
                <a:lnTo>
                  <a:pt x="94646" y="133541"/>
                </a:lnTo>
                <a:lnTo>
                  <a:pt x="107555" y="139497"/>
                </a:lnTo>
                <a:lnTo>
                  <a:pt x="119906" y="145451"/>
                </a:lnTo>
                <a:lnTo>
                  <a:pt x="124986" y="148428"/>
                </a:lnTo>
                <a:lnTo>
                  <a:pt x="129364" y="151405"/>
                </a:lnTo>
                <a:lnTo>
                  <a:pt x="133276" y="154382"/>
                </a:lnTo>
                <a:lnTo>
                  <a:pt x="136875" y="157358"/>
                </a:lnTo>
                <a:lnTo>
                  <a:pt x="140267" y="160334"/>
                </a:lnTo>
                <a:lnTo>
                  <a:pt x="143521" y="163311"/>
                </a:lnTo>
                <a:lnTo>
                  <a:pt x="149781" y="169265"/>
                </a:lnTo>
                <a:lnTo>
                  <a:pt x="161885" y="181171"/>
                </a:lnTo>
                <a:lnTo>
                  <a:pt x="163886" y="184147"/>
                </a:lnTo>
                <a:lnTo>
                  <a:pt x="166108" y="190100"/>
                </a:lnTo>
                <a:lnTo>
                  <a:pt x="169742" y="196054"/>
                </a:lnTo>
                <a:lnTo>
                  <a:pt x="172100" y="199030"/>
                </a:lnTo>
                <a:lnTo>
                  <a:pt x="173673" y="202007"/>
                </a:lnTo>
                <a:lnTo>
                  <a:pt x="175420" y="207960"/>
                </a:lnTo>
                <a:lnTo>
                  <a:pt x="174893" y="210936"/>
                </a:lnTo>
                <a:lnTo>
                  <a:pt x="171663" y="216889"/>
                </a:lnTo>
                <a:lnTo>
                  <a:pt x="166919" y="222843"/>
                </a:lnTo>
                <a:lnTo>
                  <a:pt x="161503" y="228796"/>
                </a:lnTo>
                <a:lnTo>
                  <a:pt x="152877" y="237726"/>
                </a:lnTo>
                <a:lnTo>
                  <a:pt x="146995" y="243678"/>
                </a:lnTo>
                <a:lnTo>
                  <a:pt x="144037" y="245663"/>
                </a:lnTo>
                <a:lnTo>
                  <a:pt x="141073" y="246986"/>
                </a:lnTo>
                <a:lnTo>
                  <a:pt x="138105" y="247868"/>
                </a:lnTo>
                <a:lnTo>
                  <a:pt x="134142" y="248456"/>
                </a:lnTo>
                <a:lnTo>
                  <a:pt x="129515" y="248848"/>
                </a:lnTo>
                <a:lnTo>
                  <a:pt x="124446" y="249109"/>
                </a:lnTo>
                <a:lnTo>
                  <a:pt x="120074" y="250276"/>
                </a:lnTo>
                <a:lnTo>
                  <a:pt x="116169" y="252045"/>
                </a:lnTo>
                <a:lnTo>
                  <a:pt x="112573" y="254217"/>
                </a:lnTo>
                <a:lnTo>
                  <a:pt x="109183" y="254673"/>
                </a:lnTo>
                <a:lnTo>
                  <a:pt x="105930" y="253985"/>
                </a:lnTo>
                <a:lnTo>
                  <a:pt x="102769" y="252534"/>
                </a:lnTo>
                <a:lnTo>
                  <a:pt x="99671" y="251566"/>
                </a:lnTo>
                <a:lnTo>
                  <a:pt x="96613" y="250922"/>
                </a:lnTo>
                <a:lnTo>
                  <a:pt x="93582" y="250492"/>
                </a:lnTo>
                <a:lnTo>
                  <a:pt x="90569" y="250205"/>
                </a:lnTo>
                <a:lnTo>
                  <a:pt x="87569" y="250014"/>
                </a:lnTo>
                <a:lnTo>
                  <a:pt x="81588" y="249802"/>
                </a:lnTo>
                <a:lnTo>
                  <a:pt x="75623" y="249707"/>
                </a:lnTo>
                <a:lnTo>
                  <a:pt x="72643" y="248690"/>
                </a:lnTo>
                <a:lnTo>
                  <a:pt x="69665" y="247020"/>
                </a:lnTo>
                <a:lnTo>
                  <a:pt x="62495" y="241950"/>
                </a:lnTo>
                <a:lnTo>
                  <a:pt x="58870" y="241256"/>
                </a:lnTo>
                <a:lnTo>
                  <a:pt x="51801" y="240702"/>
                </a:lnTo>
              </a:path>
            </a:pathLst>
          </a:custGeom>
          <a:noFill/>
          <a:ln w="38160">
            <a:solidFill>
              <a:srgbClr val="009300"/>
            </a:solidFill>
            <a:round/>
          </a:ln>
        </p:spPr>
        <p:style>
          <a:lnRef idx="0"/>
          <a:fillRef idx="0"/>
          <a:effectRef idx="0"/>
          <a:fontRef idx="minor"/>
        </p:style>
        <p:txBody>
          <a:bodyPr wrap="none" anchor="t">
            <a:noAutofit/>
          </a:bodyPr>
          <a:p>
            <a:endParaRPr b="0" lang="en-US" sz="2400" spc="-1" strike="noStrike">
              <a:solidFill>
                <a:srgbClr val="ffffcc"/>
              </a:solidFill>
              <a:latin typeface="Times New Roman"/>
            </a:endParaRPr>
          </a:p>
        </p:txBody>
      </p:sp>
      <p:sp>
        <p:nvSpPr>
          <p:cNvPr id="137" name="SMARTInkAnnotation16"/>
          <p:cNvSpPr/>
          <p:nvPr/>
        </p:nvSpPr>
        <p:spPr>
          <a:xfrm>
            <a:off x="6259680" y="2017800"/>
            <a:ext cx="179280" cy="125280"/>
          </a:xfrm>
          <a:custGeom>
            <a:avLst/>
            <a:gdLst>
              <a:gd name="textAreaLeft" fmla="*/ 0 w 179280"/>
              <a:gd name="textAreaRight" fmla="*/ 179640 w 179280"/>
              <a:gd name="textAreaTop" fmla="*/ 0 h 125280"/>
              <a:gd name="textAreaBottom" fmla="*/ 125640 h 125280"/>
            </a:gdLst>
            <a:ahLst/>
            <a:rect l="textAreaLeft" t="textAreaTop" r="textAreaRight" b="textAreaBottom"/>
            <a:pathLst>
              <a:path w="178473" h="124970">
                <a:moveTo>
                  <a:pt x="17858" y="35672"/>
                </a:moveTo>
                <a:lnTo>
                  <a:pt x="17858" y="45152"/>
                </a:lnTo>
                <a:lnTo>
                  <a:pt x="16867" y="49930"/>
                </a:lnTo>
                <a:lnTo>
                  <a:pt x="15213" y="55099"/>
                </a:lnTo>
                <a:lnTo>
                  <a:pt x="13118" y="60529"/>
                </a:lnTo>
                <a:lnTo>
                  <a:pt x="11722" y="65142"/>
                </a:lnTo>
                <a:lnTo>
                  <a:pt x="10791" y="69209"/>
                </a:lnTo>
                <a:lnTo>
                  <a:pt x="10170" y="72913"/>
                </a:lnTo>
                <a:lnTo>
                  <a:pt x="9757" y="77366"/>
                </a:lnTo>
                <a:lnTo>
                  <a:pt x="9481" y="82320"/>
                </a:lnTo>
                <a:lnTo>
                  <a:pt x="9297" y="87606"/>
                </a:lnTo>
                <a:lnTo>
                  <a:pt x="8182" y="92123"/>
                </a:lnTo>
                <a:lnTo>
                  <a:pt x="6446" y="96126"/>
                </a:lnTo>
                <a:lnTo>
                  <a:pt x="1273" y="104940"/>
                </a:lnTo>
                <a:lnTo>
                  <a:pt x="565" y="108791"/>
                </a:lnTo>
                <a:lnTo>
                  <a:pt x="377" y="111207"/>
                </a:lnTo>
                <a:lnTo>
                  <a:pt x="251" y="113810"/>
                </a:lnTo>
                <a:lnTo>
                  <a:pt x="10" y="124475"/>
                </a:lnTo>
                <a:lnTo>
                  <a:pt x="0" y="103965"/>
                </a:lnTo>
                <a:lnTo>
                  <a:pt x="992" y="101044"/>
                </a:lnTo>
                <a:lnTo>
                  <a:pt x="2645" y="98105"/>
                </a:lnTo>
                <a:lnTo>
                  <a:pt x="4740" y="95153"/>
                </a:lnTo>
                <a:lnTo>
                  <a:pt x="6137" y="91201"/>
                </a:lnTo>
                <a:lnTo>
                  <a:pt x="7068" y="86582"/>
                </a:lnTo>
                <a:lnTo>
                  <a:pt x="7689" y="81518"/>
                </a:lnTo>
                <a:lnTo>
                  <a:pt x="9093" y="76158"/>
                </a:lnTo>
                <a:lnTo>
                  <a:pt x="11024" y="70600"/>
                </a:lnTo>
                <a:lnTo>
                  <a:pt x="13303" y="64910"/>
                </a:lnTo>
                <a:lnTo>
                  <a:pt x="15814" y="60125"/>
                </a:lnTo>
                <a:lnTo>
                  <a:pt x="18480" y="55942"/>
                </a:lnTo>
                <a:lnTo>
                  <a:pt x="21249" y="52162"/>
                </a:lnTo>
                <a:lnTo>
                  <a:pt x="25080" y="47658"/>
                </a:lnTo>
                <a:lnTo>
                  <a:pt x="29618" y="42670"/>
                </a:lnTo>
                <a:lnTo>
                  <a:pt x="42841" y="28815"/>
                </a:lnTo>
                <a:lnTo>
                  <a:pt x="46419" y="25148"/>
                </a:lnTo>
                <a:lnTo>
                  <a:pt x="48805" y="21710"/>
                </a:lnTo>
                <a:lnTo>
                  <a:pt x="50396" y="18426"/>
                </a:lnTo>
                <a:lnTo>
                  <a:pt x="51456" y="15245"/>
                </a:lnTo>
                <a:lnTo>
                  <a:pt x="53156" y="12132"/>
                </a:lnTo>
                <a:lnTo>
                  <a:pt x="55281" y="9065"/>
                </a:lnTo>
                <a:lnTo>
                  <a:pt x="57690" y="6027"/>
                </a:lnTo>
                <a:lnTo>
                  <a:pt x="60288" y="4002"/>
                </a:lnTo>
                <a:lnTo>
                  <a:pt x="63012" y="2653"/>
                </a:lnTo>
                <a:lnTo>
                  <a:pt x="70944" y="111"/>
                </a:lnTo>
                <a:lnTo>
                  <a:pt x="76032" y="0"/>
                </a:lnTo>
                <a:lnTo>
                  <a:pt x="77477" y="976"/>
                </a:lnTo>
                <a:lnTo>
                  <a:pt x="78440" y="2619"/>
                </a:lnTo>
                <a:lnTo>
                  <a:pt x="79986" y="7645"/>
                </a:lnTo>
                <a:lnTo>
                  <a:pt x="80113" y="10042"/>
                </a:lnTo>
                <a:lnTo>
                  <a:pt x="80291" y="21904"/>
                </a:lnTo>
                <a:lnTo>
                  <a:pt x="80364" y="52246"/>
                </a:lnTo>
                <a:lnTo>
                  <a:pt x="79372" y="56643"/>
                </a:lnTo>
                <a:lnTo>
                  <a:pt x="77719" y="60566"/>
                </a:lnTo>
                <a:lnTo>
                  <a:pt x="75625" y="64174"/>
                </a:lnTo>
                <a:lnTo>
                  <a:pt x="74229" y="67572"/>
                </a:lnTo>
                <a:lnTo>
                  <a:pt x="73299" y="70829"/>
                </a:lnTo>
                <a:lnTo>
                  <a:pt x="71804" y="78445"/>
                </a:lnTo>
                <a:lnTo>
                  <a:pt x="71600" y="82133"/>
                </a:lnTo>
                <a:lnTo>
                  <a:pt x="71438" y="89213"/>
                </a:lnTo>
                <a:lnTo>
                  <a:pt x="71438" y="84498"/>
                </a:lnTo>
                <a:lnTo>
                  <a:pt x="72430" y="82113"/>
                </a:lnTo>
                <a:lnTo>
                  <a:pt x="74083" y="79531"/>
                </a:lnTo>
                <a:lnTo>
                  <a:pt x="76178" y="76818"/>
                </a:lnTo>
                <a:lnTo>
                  <a:pt x="78566" y="74016"/>
                </a:lnTo>
                <a:lnTo>
                  <a:pt x="81151" y="71156"/>
                </a:lnTo>
                <a:lnTo>
                  <a:pt x="83866" y="68258"/>
                </a:lnTo>
                <a:lnTo>
                  <a:pt x="86668" y="64341"/>
                </a:lnTo>
                <a:lnTo>
                  <a:pt x="89529" y="59745"/>
                </a:lnTo>
                <a:lnTo>
                  <a:pt x="92427" y="54697"/>
                </a:lnTo>
                <a:lnTo>
                  <a:pt x="95353" y="50340"/>
                </a:lnTo>
                <a:lnTo>
                  <a:pt x="98295" y="46442"/>
                </a:lnTo>
                <a:lnTo>
                  <a:pt x="101248" y="42852"/>
                </a:lnTo>
                <a:lnTo>
                  <a:pt x="104210" y="39466"/>
                </a:lnTo>
                <a:lnTo>
                  <a:pt x="107176" y="36217"/>
                </a:lnTo>
                <a:lnTo>
                  <a:pt x="113118" y="29961"/>
                </a:lnTo>
                <a:lnTo>
                  <a:pt x="127993" y="14868"/>
                </a:lnTo>
                <a:lnTo>
                  <a:pt x="130969" y="12873"/>
                </a:lnTo>
                <a:lnTo>
                  <a:pt x="133946" y="11543"/>
                </a:lnTo>
                <a:lnTo>
                  <a:pt x="136922" y="10656"/>
                </a:lnTo>
                <a:lnTo>
                  <a:pt x="139898" y="10065"/>
                </a:lnTo>
                <a:lnTo>
                  <a:pt x="142874" y="9671"/>
                </a:lnTo>
                <a:lnTo>
                  <a:pt x="150040" y="9038"/>
                </a:lnTo>
                <a:lnTo>
                  <a:pt x="153666" y="8952"/>
                </a:lnTo>
                <a:lnTo>
                  <a:pt x="156022" y="8929"/>
                </a:lnTo>
                <a:lnTo>
                  <a:pt x="158585" y="10898"/>
                </a:lnTo>
                <a:lnTo>
                  <a:pt x="161286" y="14195"/>
                </a:lnTo>
                <a:lnTo>
                  <a:pt x="164079" y="18377"/>
                </a:lnTo>
                <a:lnTo>
                  <a:pt x="165940" y="22158"/>
                </a:lnTo>
                <a:lnTo>
                  <a:pt x="167181" y="25670"/>
                </a:lnTo>
                <a:lnTo>
                  <a:pt x="168009" y="29004"/>
                </a:lnTo>
                <a:lnTo>
                  <a:pt x="169553" y="32219"/>
                </a:lnTo>
                <a:lnTo>
                  <a:pt x="171574" y="35354"/>
                </a:lnTo>
                <a:lnTo>
                  <a:pt x="173914" y="38437"/>
                </a:lnTo>
                <a:lnTo>
                  <a:pt x="175473" y="41483"/>
                </a:lnTo>
                <a:lnTo>
                  <a:pt x="176513" y="44507"/>
                </a:lnTo>
                <a:lnTo>
                  <a:pt x="177206" y="47515"/>
                </a:lnTo>
                <a:lnTo>
                  <a:pt x="177669" y="51505"/>
                </a:lnTo>
                <a:lnTo>
                  <a:pt x="177977" y="56149"/>
                </a:lnTo>
                <a:lnTo>
                  <a:pt x="178319" y="65609"/>
                </a:lnTo>
                <a:lnTo>
                  <a:pt x="178472" y="73120"/>
                </a:lnTo>
                <a:lnTo>
                  <a:pt x="177520" y="76512"/>
                </a:lnTo>
                <a:lnTo>
                  <a:pt x="175893" y="79766"/>
                </a:lnTo>
                <a:lnTo>
                  <a:pt x="173816" y="82927"/>
                </a:lnTo>
                <a:lnTo>
                  <a:pt x="172433" y="86027"/>
                </a:lnTo>
                <a:lnTo>
                  <a:pt x="171510" y="89086"/>
                </a:lnTo>
                <a:lnTo>
                  <a:pt x="170894" y="92117"/>
                </a:lnTo>
                <a:lnTo>
                  <a:pt x="170484" y="95130"/>
                </a:lnTo>
                <a:lnTo>
                  <a:pt x="170211" y="98131"/>
                </a:lnTo>
                <a:lnTo>
                  <a:pt x="170028" y="101123"/>
                </a:lnTo>
                <a:lnTo>
                  <a:pt x="169826" y="107094"/>
                </a:lnTo>
                <a:lnTo>
                  <a:pt x="169684" y="115853"/>
                </a:lnTo>
                <a:lnTo>
                  <a:pt x="169663" y="124969"/>
                </a:lnTo>
              </a:path>
            </a:pathLst>
          </a:custGeom>
          <a:noFill/>
          <a:ln w="38160">
            <a:solidFill>
              <a:srgbClr val="009300"/>
            </a:solidFill>
            <a:round/>
          </a:ln>
        </p:spPr>
        <p:style>
          <a:lnRef idx="0"/>
          <a:fillRef idx="0"/>
          <a:effectRef idx="0"/>
          <a:fontRef idx="minor"/>
        </p:style>
        <p:txBody>
          <a:bodyPr wrap="none" anchor="t">
            <a:noAutofit/>
          </a:bodyPr>
          <a:p>
            <a:endParaRPr b="0" lang="en-US" sz="2400" spc="-1" strike="noStrike">
              <a:solidFill>
                <a:srgbClr val="ffffcc"/>
              </a:solidFill>
              <a:latin typeface="Times New Roman"/>
            </a:endParaRPr>
          </a:p>
        </p:txBody>
      </p:sp>
      <p:sp>
        <p:nvSpPr>
          <p:cNvPr id="138" name="SMARTInkAnnotation17"/>
          <p:cNvSpPr/>
          <p:nvPr/>
        </p:nvSpPr>
        <p:spPr>
          <a:xfrm>
            <a:off x="5589720" y="4062240"/>
            <a:ext cx="134640" cy="241560"/>
          </a:xfrm>
          <a:custGeom>
            <a:avLst/>
            <a:gdLst>
              <a:gd name="textAreaLeft" fmla="*/ 0 w 134640"/>
              <a:gd name="textAreaRight" fmla="*/ 135000 w 134640"/>
              <a:gd name="textAreaTop" fmla="*/ 0 h 241560"/>
              <a:gd name="textAreaBottom" fmla="*/ 241920 h 241560"/>
            </a:gdLst>
            <a:ahLst/>
            <a:rect l="textAreaLeft" t="textAreaTop" r="textAreaRight" b="textAreaBottom"/>
            <a:pathLst>
              <a:path w="133801" h="240980">
                <a:moveTo>
                  <a:pt x="35719" y="71315"/>
                </a:moveTo>
                <a:lnTo>
                  <a:pt x="35719" y="76055"/>
                </a:lnTo>
                <a:lnTo>
                  <a:pt x="34726" y="78443"/>
                </a:lnTo>
                <a:lnTo>
                  <a:pt x="30978" y="83743"/>
                </a:lnTo>
                <a:lnTo>
                  <a:pt x="29581" y="86546"/>
                </a:lnTo>
                <a:lnTo>
                  <a:pt x="28030" y="92305"/>
                </a:lnTo>
                <a:lnTo>
                  <a:pt x="27340" y="98172"/>
                </a:lnTo>
                <a:lnTo>
                  <a:pt x="27156" y="101126"/>
                </a:lnTo>
                <a:lnTo>
                  <a:pt x="26042" y="104088"/>
                </a:lnTo>
                <a:lnTo>
                  <a:pt x="22157" y="110023"/>
                </a:lnTo>
                <a:lnTo>
                  <a:pt x="20725" y="113988"/>
                </a:lnTo>
                <a:lnTo>
                  <a:pt x="19769" y="118615"/>
                </a:lnTo>
                <a:lnTo>
                  <a:pt x="19133" y="123684"/>
                </a:lnTo>
                <a:lnTo>
                  <a:pt x="18708" y="128056"/>
                </a:lnTo>
                <a:lnTo>
                  <a:pt x="18236" y="135559"/>
                </a:lnTo>
                <a:lnTo>
                  <a:pt x="18027" y="144847"/>
                </a:lnTo>
                <a:lnTo>
                  <a:pt x="17971" y="150102"/>
                </a:lnTo>
                <a:lnTo>
                  <a:pt x="16941" y="155590"/>
                </a:lnTo>
                <a:lnTo>
                  <a:pt x="15263" y="161232"/>
                </a:lnTo>
                <a:lnTo>
                  <a:pt x="13152" y="166978"/>
                </a:lnTo>
                <a:lnTo>
                  <a:pt x="11744" y="171802"/>
                </a:lnTo>
                <a:lnTo>
                  <a:pt x="10806" y="176008"/>
                </a:lnTo>
                <a:lnTo>
                  <a:pt x="9764" y="183330"/>
                </a:lnTo>
                <a:lnTo>
                  <a:pt x="9300" y="189891"/>
                </a:lnTo>
                <a:lnTo>
                  <a:pt x="8185" y="193029"/>
                </a:lnTo>
                <a:lnTo>
                  <a:pt x="4299" y="199163"/>
                </a:lnTo>
                <a:lnTo>
                  <a:pt x="1911" y="205196"/>
                </a:lnTo>
                <a:lnTo>
                  <a:pt x="15" y="214120"/>
                </a:lnTo>
                <a:lnTo>
                  <a:pt x="1" y="214186"/>
                </a:lnTo>
                <a:lnTo>
                  <a:pt x="0" y="214190"/>
                </a:lnTo>
                <a:lnTo>
                  <a:pt x="0" y="184020"/>
                </a:lnTo>
                <a:lnTo>
                  <a:pt x="992" y="181178"/>
                </a:lnTo>
                <a:lnTo>
                  <a:pt x="4740" y="175374"/>
                </a:lnTo>
                <a:lnTo>
                  <a:pt x="7067" y="169488"/>
                </a:lnTo>
                <a:lnTo>
                  <a:pt x="8102" y="163564"/>
                </a:lnTo>
                <a:lnTo>
                  <a:pt x="8562" y="157624"/>
                </a:lnTo>
                <a:lnTo>
                  <a:pt x="9676" y="153659"/>
                </a:lnTo>
                <a:lnTo>
                  <a:pt x="11412" y="149031"/>
                </a:lnTo>
                <a:lnTo>
                  <a:pt x="13561" y="143962"/>
                </a:lnTo>
                <a:lnTo>
                  <a:pt x="14994" y="139590"/>
                </a:lnTo>
                <a:lnTo>
                  <a:pt x="16585" y="132086"/>
                </a:lnTo>
                <a:lnTo>
                  <a:pt x="18002" y="127704"/>
                </a:lnTo>
                <a:lnTo>
                  <a:pt x="19939" y="122798"/>
                </a:lnTo>
                <a:lnTo>
                  <a:pt x="22222" y="117543"/>
                </a:lnTo>
                <a:lnTo>
                  <a:pt x="27406" y="106413"/>
                </a:lnTo>
                <a:lnTo>
                  <a:pt x="30176" y="100666"/>
                </a:lnTo>
                <a:lnTo>
                  <a:pt x="32024" y="95844"/>
                </a:lnTo>
                <a:lnTo>
                  <a:pt x="33255" y="91636"/>
                </a:lnTo>
                <a:lnTo>
                  <a:pt x="34076" y="87839"/>
                </a:lnTo>
                <a:lnTo>
                  <a:pt x="35616" y="83323"/>
                </a:lnTo>
                <a:lnTo>
                  <a:pt x="37634" y="78328"/>
                </a:lnTo>
                <a:lnTo>
                  <a:pt x="39973" y="73014"/>
                </a:lnTo>
                <a:lnTo>
                  <a:pt x="42522" y="68479"/>
                </a:lnTo>
                <a:lnTo>
                  <a:pt x="45216" y="64463"/>
                </a:lnTo>
                <a:lnTo>
                  <a:pt x="48004" y="60793"/>
                </a:lnTo>
                <a:lnTo>
                  <a:pt x="49862" y="56363"/>
                </a:lnTo>
                <a:lnTo>
                  <a:pt x="51100" y="51425"/>
                </a:lnTo>
                <a:lnTo>
                  <a:pt x="51926" y="46149"/>
                </a:lnTo>
                <a:lnTo>
                  <a:pt x="53469" y="41639"/>
                </a:lnTo>
                <a:lnTo>
                  <a:pt x="55490" y="37640"/>
                </a:lnTo>
                <a:lnTo>
                  <a:pt x="57829" y="33982"/>
                </a:lnTo>
                <a:lnTo>
                  <a:pt x="60381" y="30551"/>
                </a:lnTo>
                <a:lnTo>
                  <a:pt x="63073" y="27271"/>
                </a:lnTo>
                <a:lnTo>
                  <a:pt x="65862" y="24093"/>
                </a:lnTo>
                <a:lnTo>
                  <a:pt x="67720" y="20982"/>
                </a:lnTo>
                <a:lnTo>
                  <a:pt x="69785" y="14879"/>
                </a:lnTo>
                <a:lnTo>
                  <a:pt x="71328" y="12855"/>
                </a:lnTo>
                <a:lnTo>
                  <a:pt x="73349" y="11506"/>
                </a:lnTo>
                <a:lnTo>
                  <a:pt x="75688" y="10606"/>
                </a:lnTo>
                <a:lnTo>
                  <a:pt x="77247" y="9014"/>
                </a:lnTo>
                <a:lnTo>
                  <a:pt x="78287" y="6960"/>
                </a:lnTo>
                <a:lnTo>
                  <a:pt x="80330" y="0"/>
                </a:lnTo>
                <a:lnTo>
                  <a:pt x="80366" y="17923"/>
                </a:lnTo>
                <a:lnTo>
                  <a:pt x="81358" y="21829"/>
                </a:lnTo>
                <a:lnTo>
                  <a:pt x="85107" y="28816"/>
                </a:lnTo>
                <a:lnTo>
                  <a:pt x="86503" y="33061"/>
                </a:lnTo>
                <a:lnTo>
                  <a:pt x="87434" y="37874"/>
                </a:lnTo>
                <a:lnTo>
                  <a:pt x="88055" y="43068"/>
                </a:lnTo>
                <a:lnTo>
                  <a:pt x="88468" y="48515"/>
                </a:lnTo>
                <a:lnTo>
                  <a:pt x="88745" y="54130"/>
                </a:lnTo>
                <a:lnTo>
                  <a:pt x="88928" y="59858"/>
                </a:lnTo>
                <a:lnTo>
                  <a:pt x="90043" y="65661"/>
                </a:lnTo>
                <a:lnTo>
                  <a:pt x="91779" y="71514"/>
                </a:lnTo>
                <a:lnTo>
                  <a:pt x="93928" y="77401"/>
                </a:lnTo>
                <a:lnTo>
                  <a:pt x="95361" y="83309"/>
                </a:lnTo>
                <a:lnTo>
                  <a:pt x="96316" y="89233"/>
                </a:lnTo>
                <a:lnTo>
                  <a:pt x="96952" y="95166"/>
                </a:lnTo>
                <a:lnTo>
                  <a:pt x="98369" y="101106"/>
                </a:lnTo>
                <a:lnTo>
                  <a:pt x="100306" y="107051"/>
                </a:lnTo>
                <a:lnTo>
                  <a:pt x="102589" y="112998"/>
                </a:lnTo>
                <a:lnTo>
                  <a:pt x="105104" y="118947"/>
                </a:lnTo>
                <a:lnTo>
                  <a:pt x="107772" y="124898"/>
                </a:lnTo>
                <a:lnTo>
                  <a:pt x="110543" y="130849"/>
                </a:lnTo>
                <a:lnTo>
                  <a:pt x="112391" y="136801"/>
                </a:lnTo>
                <a:lnTo>
                  <a:pt x="113622" y="142753"/>
                </a:lnTo>
                <a:lnTo>
                  <a:pt x="114443" y="148706"/>
                </a:lnTo>
                <a:lnTo>
                  <a:pt x="115983" y="155651"/>
                </a:lnTo>
                <a:lnTo>
                  <a:pt x="118002" y="163258"/>
                </a:lnTo>
                <a:lnTo>
                  <a:pt x="120339" y="171305"/>
                </a:lnTo>
                <a:lnTo>
                  <a:pt x="122890" y="177663"/>
                </a:lnTo>
                <a:lnTo>
                  <a:pt x="125583" y="182893"/>
                </a:lnTo>
                <a:lnTo>
                  <a:pt x="132293" y="193676"/>
                </a:lnTo>
                <a:lnTo>
                  <a:pt x="133211" y="197796"/>
                </a:lnTo>
                <a:lnTo>
                  <a:pt x="133800" y="203786"/>
                </a:lnTo>
                <a:lnTo>
                  <a:pt x="132856" y="204277"/>
                </a:lnTo>
                <a:lnTo>
                  <a:pt x="129162" y="204823"/>
                </a:lnTo>
                <a:lnTo>
                  <a:pt x="126243" y="205131"/>
                </a:lnTo>
                <a:lnTo>
                  <a:pt x="122916" y="207848"/>
                </a:lnTo>
                <a:lnTo>
                  <a:pt x="120638" y="209962"/>
                </a:lnTo>
                <a:lnTo>
                  <a:pt x="117137" y="211371"/>
                </a:lnTo>
                <a:lnTo>
                  <a:pt x="112818" y="212311"/>
                </a:lnTo>
                <a:lnTo>
                  <a:pt x="107954" y="212937"/>
                </a:lnTo>
                <a:lnTo>
                  <a:pt x="103719" y="213355"/>
                </a:lnTo>
                <a:lnTo>
                  <a:pt x="99903" y="213633"/>
                </a:lnTo>
                <a:lnTo>
                  <a:pt x="96368" y="213818"/>
                </a:lnTo>
                <a:lnTo>
                  <a:pt x="87148" y="214025"/>
                </a:lnTo>
                <a:lnTo>
                  <a:pt x="81910" y="214080"/>
                </a:lnTo>
                <a:lnTo>
                  <a:pt x="76435" y="215109"/>
                </a:lnTo>
                <a:lnTo>
                  <a:pt x="70800" y="216787"/>
                </a:lnTo>
                <a:lnTo>
                  <a:pt x="65059" y="218898"/>
                </a:lnTo>
                <a:lnTo>
                  <a:pt x="60240" y="220305"/>
                </a:lnTo>
                <a:lnTo>
                  <a:pt x="56034" y="221243"/>
                </a:lnTo>
                <a:lnTo>
                  <a:pt x="52239" y="221868"/>
                </a:lnTo>
                <a:lnTo>
                  <a:pt x="48717" y="222285"/>
                </a:lnTo>
                <a:lnTo>
                  <a:pt x="45377" y="222563"/>
                </a:lnTo>
                <a:lnTo>
                  <a:pt x="42157" y="222749"/>
                </a:lnTo>
                <a:lnTo>
                  <a:pt x="38027" y="223865"/>
                </a:lnTo>
                <a:lnTo>
                  <a:pt x="33288" y="225600"/>
                </a:lnTo>
                <a:lnTo>
                  <a:pt x="20906" y="230776"/>
                </a:lnTo>
                <a:lnTo>
                  <a:pt x="18898" y="232192"/>
                </a:lnTo>
                <a:lnTo>
                  <a:pt x="16568" y="234129"/>
                </a:lnTo>
                <a:lnTo>
                  <a:pt x="8930" y="240979"/>
                </a:lnTo>
              </a:path>
            </a:pathLst>
          </a:custGeom>
          <a:noFill/>
          <a:ln w="38160">
            <a:solidFill>
              <a:srgbClr val="009300"/>
            </a:solidFill>
            <a:round/>
          </a:ln>
        </p:spPr>
        <p:style>
          <a:lnRef idx="0"/>
          <a:fillRef idx="0"/>
          <a:effectRef idx="0"/>
          <a:fontRef idx="minor"/>
        </p:style>
        <p:txBody>
          <a:bodyPr wrap="none" anchor="t">
            <a:noAutofit/>
          </a:bodyPr>
          <a:p>
            <a:endParaRPr b="0" lang="en-US" sz="2400" spc="-1" strike="noStrike">
              <a:solidFill>
                <a:srgbClr val="ffffcc"/>
              </a:solidFill>
              <a:latin typeface="Times New Roman"/>
            </a:endParaRPr>
          </a:p>
        </p:txBody>
      </p:sp>
      <p:sp>
        <p:nvSpPr>
          <p:cNvPr id="139" name="SMARTInkAnnotation18"/>
          <p:cNvSpPr/>
          <p:nvPr/>
        </p:nvSpPr>
        <p:spPr>
          <a:xfrm>
            <a:off x="5769000" y="3983040"/>
            <a:ext cx="98280" cy="330120"/>
          </a:xfrm>
          <a:custGeom>
            <a:avLst/>
            <a:gdLst>
              <a:gd name="textAreaLeft" fmla="*/ 0 w 98280"/>
              <a:gd name="textAreaRight" fmla="*/ 98640 w 98280"/>
              <a:gd name="textAreaTop" fmla="*/ 0 h 330120"/>
              <a:gd name="textAreaBottom" fmla="*/ 330480 h 330120"/>
            </a:gdLst>
            <a:ahLst/>
            <a:rect l="textAreaLeft" t="textAreaTop" r="textAreaRight" b="textAreaBottom"/>
            <a:pathLst>
              <a:path w="98227" h="330400">
                <a:moveTo>
                  <a:pt x="8929" y="0"/>
                </a:moveTo>
                <a:lnTo>
                  <a:pt x="8929" y="50879"/>
                </a:lnTo>
                <a:lnTo>
                  <a:pt x="9921" y="57731"/>
                </a:lnTo>
                <a:lnTo>
                  <a:pt x="11574" y="65277"/>
                </a:lnTo>
                <a:lnTo>
                  <a:pt x="13669" y="73284"/>
                </a:lnTo>
                <a:lnTo>
                  <a:pt x="15067" y="81598"/>
                </a:lnTo>
                <a:lnTo>
                  <a:pt x="15997" y="90117"/>
                </a:lnTo>
                <a:lnTo>
                  <a:pt x="16618" y="98774"/>
                </a:lnTo>
                <a:lnTo>
                  <a:pt x="17031" y="107521"/>
                </a:lnTo>
                <a:lnTo>
                  <a:pt x="17491" y="125178"/>
                </a:lnTo>
                <a:lnTo>
                  <a:pt x="17849" y="205387"/>
                </a:lnTo>
                <a:lnTo>
                  <a:pt x="16860" y="214315"/>
                </a:lnTo>
                <a:lnTo>
                  <a:pt x="15209" y="223244"/>
                </a:lnTo>
                <a:lnTo>
                  <a:pt x="13115" y="232173"/>
                </a:lnTo>
                <a:lnTo>
                  <a:pt x="11720" y="240110"/>
                </a:lnTo>
                <a:lnTo>
                  <a:pt x="10790" y="247386"/>
                </a:lnTo>
                <a:lnTo>
                  <a:pt x="10170" y="254221"/>
                </a:lnTo>
                <a:lnTo>
                  <a:pt x="8763" y="260762"/>
                </a:lnTo>
                <a:lnTo>
                  <a:pt x="6834" y="267107"/>
                </a:lnTo>
                <a:lnTo>
                  <a:pt x="4557" y="273321"/>
                </a:lnTo>
                <a:lnTo>
                  <a:pt x="2025" y="282872"/>
                </a:lnTo>
                <a:lnTo>
                  <a:pt x="899" y="290423"/>
                </a:lnTo>
                <a:lnTo>
                  <a:pt x="178" y="300711"/>
                </a:lnTo>
                <a:lnTo>
                  <a:pt x="10" y="303440"/>
                </a:lnTo>
                <a:lnTo>
                  <a:pt x="0" y="291166"/>
                </a:lnTo>
                <a:lnTo>
                  <a:pt x="2646" y="282866"/>
                </a:lnTo>
                <a:lnTo>
                  <a:pt x="4740" y="277874"/>
                </a:lnTo>
                <a:lnTo>
                  <a:pt x="6137" y="272562"/>
                </a:lnTo>
                <a:lnTo>
                  <a:pt x="7067" y="267036"/>
                </a:lnTo>
                <a:lnTo>
                  <a:pt x="7688" y="261368"/>
                </a:lnTo>
                <a:lnTo>
                  <a:pt x="9094" y="255605"/>
                </a:lnTo>
                <a:lnTo>
                  <a:pt x="11024" y="249778"/>
                </a:lnTo>
                <a:lnTo>
                  <a:pt x="13302" y="243909"/>
                </a:lnTo>
                <a:lnTo>
                  <a:pt x="14821" y="238012"/>
                </a:lnTo>
                <a:lnTo>
                  <a:pt x="15833" y="232097"/>
                </a:lnTo>
                <a:lnTo>
                  <a:pt x="16509" y="226169"/>
                </a:lnTo>
                <a:lnTo>
                  <a:pt x="17951" y="220232"/>
                </a:lnTo>
                <a:lnTo>
                  <a:pt x="19905" y="214291"/>
                </a:lnTo>
                <a:lnTo>
                  <a:pt x="22199" y="208345"/>
                </a:lnTo>
                <a:lnTo>
                  <a:pt x="24722" y="202396"/>
                </a:lnTo>
                <a:lnTo>
                  <a:pt x="30169" y="190495"/>
                </a:lnTo>
                <a:lnTo>
                  <a:pt x="38815" y="172639"/>
                </a:lnTo>
                <a:lnTo>
                  <a:pt x="40760" y="167679"/>
                </a:lnTo>
                <a:lnTo>
                  <a:pt x="42919" y="159521"/>
                </a:lnTo>
                <a:lnTo>
                  <a:pt x="44487" y="155957"/>
                </a:lnTo>
                <a:lnTo>
                  <a:pt x="46525" y="152588"/>
                </a:lnTo>
                <a:lnTo>
                  <a:pt x="48876" y="149351"/>
                </a:lnTo>
                <a:lnTo>
                  <a:pt x="51436" y="146200"/>
                </a:lnTo>
                <a:lnTo>
                  <a:pt x="54134" y="143107"/>
                </a:lnTo>
                <a:lnTo>
                  <a:pt x="62362" y="134104"/>
                </a:lnTo>
                <a:lnTo>
                  <a:pt x="65088" y="136662"/>
                </a:lnTo>
                <a:lnTo>
                  <a:pt x="67205" y="138733"/>
                </a:lnTo>
                <a:lnTo>
                  <a:pt x="68616" y="141106"/>
                </a:lnTo>
                <a:lnTo>
                  <a:pt x="70183" y="146388"/>
                </a:lnTo>
                <a:lnTo>
                  <a:pt x="70880" y="154688"/>
                </a:lnTo>
                <a:lnTo>
                  <a:pt x="71065" y="159681"/>
                </a:lnTo>
                <a:lnTo>
                  <a:pt x="72182" y="164993"/>
                </a:lnTo>
                <a:lnTo>
                  <a:pt x="73918" y="170518"/>
                </a:lnTo>
                <a:lnTo>
                  <a:pt x="76067" y="176187"/>
                </a:lnTo>
                <a:lnTo>
                  <a:pt x="77500" y="181950"/>
                </a:lnTo>
                <a:lnTo>
                  <a:pt x="78456" y="187777"/>
                </a:lnTo>
                <a:lnTo>
                  <a:pt x="79092" y="193645"/>
                </a:lnTo>
                <a:lnTo>
                  <a:pt x="79518" y="200534"/>
                </a:lnTo>
                <a:lnTo>
                  <a:pt x="79989" y="216126"/>
                </a:lnTo>
                <a:lnTo>
                  <a:pt x="81107" y="223459"/>
                </a:lnTo>
                <a:lnTo>
                  <a:pt x="82845" y="230333"/>
                </a:lnTo>
                <a:lnTo>
                  <a:pt x="84995" y="236898"/>
                </a:lnTo>
                <a:lnTo>
                  <a:pt x="86429" y="243261"/>
                </a:lnTo>
                <a:lnTo>
                  <a:pt x="87384" y="249486"/>
                </a:lnTo>
                <a:lnTo>
                  <a:pt x="88022" y="255621"/>
                </a:lnTo>
                <a:lnTo>
                  <a:pt x="88447" y="261695"/>
                </a:lnTo>
                <a:lnTo>
                  <a:pt x="88729" y="267730"/>
                </a:lnTo>
                <a:lnTo>
                  <a:pt x="89044" y="279725"/>
                </a:lnTo>
                <a:lnTo>
                  <a:pt x="89287" y="314990"/>
                </a:lnTo>
                <a:lnTo>
                  <a:pt x="90282" y="318142"/>
                </a:lnTo>
                <a:lnTo>
                  <a:pt x="91938" y="321236"/>
                </a:lnTo>
                <a:lnTo>
                  <a:pt x="98226" y="330399"/>
                </a:lnTo>
              </a:path>
            </a:pathLst>
          </a:custGeom>
          <a:noFill/>
          <a:ln w="38160">
            <a:solidFill>
              <a:srgbClr val="009300"/>
            </a:solidFill>
            <a:round/>
          </a:ln>
        </p:spPr>
        <p:style>
          <a:lnRef idx="0"/>
          <a:fillRef idx="0"/>
          <a:effectRef idx="0"/>
          <a:fontRef idx="minor"/>
        </p:style>
        <p:txBody>
          <a:bodyPr wrap="none" anchor="t">
            <a:noAutofit/>
          </a:bodyPr>
          <a:p>
            <a:endParaRPr b="0" lang="en-US" sz="2400" spc="-1" strike="noStrike">
              <a:solidFill>
                <a:srgbClr val="ffffcc"/>
              </a:solidFill>
              <a:latin typeface="Times New Roman"/>
            </a:endParaRPr>
          </a:p>
        </p:txBody>
      </p:sp>
      <p:sp>
        <p:nvSpPr>
          <p:cNvPr id="140" name="SMARTInkAnnotation19"/>
          <p:cNvSpPr/>
          <p:nvPr/>
        </p:nvSpPr>
        <p:spPr>
          <a:xfrm>
            <a:off x="5964120" y="4106880"/>
            <a:ext cx="108000" cy="19080"/>
          </a:xfrm>
          <a:custGeom>
            <a:avLst/>
            <a:gdLst>
              <a:gd name="textAreaLeft" fmla="*/ 0 w 108000"/>
              <a:gd name="textAreaRight" fmla="*/ 108360 w 108000"/>
              <a:gd name="textAreaTop" fmla="*/ 0 h 19080"/>
              <a:gd name="textAreaBottom" fmla="*/ 19440 h 19080"/>
            </a:gdLst>
            <a:ahLst/>
            <a:rect l="textAreaLeft" t="textAreaTop" r="textAreaRight" b="textAreaBottom"/>
            <a:pathLst>
              <a:path w="107158" h="17860">
                <a:moveTo>
                  <a:pt x="0" y="17859"/>
                </a:moveTo>
                <a:lnTo>
                  <a:pt x="20991" y="17859"/>
                </a:lnTo>
                <a:lnTo>
                  <a:pt x="24909" y="16867"/>
                </a:lnTo>
                <a:lnTo>
                  <a:pt x="29504" y="15213"/>
                </a:lnTo>
                <a:lnTo>
                  <a:pt x="34552" y="13118"/>
                </a:lnTo>
                <a:lnTo>
                  <a:pt x="39902" y="11722"/>
                </a:lnTo>
                <a:lnTo>
                  <a:pt x="45453" y="10791"/>
                </a:lnTo>
                <a:lnTo>
                  <a:pt x="51138" y="10170"/>
                </a:lnTo>
                <a:lnTo>
                  <a:pt x="55921" y="9757"/>
                </a:lnTo>
                <a:lnTo>
                  <a:pt x="60101" y="9481"/>
                </a:lnTo>
                <a:lnTo>
                  <a:pt x="63881" y="9297"/>
                </a:lnTo>
                <a:lnTo>
                  <a:pt x="73370" y="9092"/>
                </a:lnTo>
                <a:lnTo>
                  <a:pt x="78680" y="9038"/>
                </a:lnTo>
                <a:lnTo>
                  <a:pt x="83211" y="8009"/>
                </a:lnTo>
                <a:lnTo>
                  <a:pt x="87224" y="6332"/>
                </a:lnTo>
                <a:lnTo>
                  <a:pt x="90892" y="4222"/>
                </a:lnTo>
                <a:lnTo>
                  <a:pt x="94329" y="2814"/>
                </a:lnTo>
                <a:lnTo>
                  <a:pt x="97613" y="1876"/>
                </a:lnTo>
                <a:lnTo>
                  <a:pt x="107157" y="0"/>
                </a:lnTo>
              </a:path>
            </a:pathLst>
          </a:custGeom>
          <a:noFill/>
          <a:ln w="38160">
            <a:solidFill>
              <a:srgbClr val="009300"/>
            </a:solidFill>
            <a:round/>
          </a:ln>
        </p:spPr>
        <p:style>
          <a:lnRef idx="0"/>
          <a:fillRef idx="0"/>
          <a:effectRef idx="0"/>
          <a:fontRef idx="minor"/>
        </p:style>
        <p:txBody>
          <a:bodyPr wrap="none" tIns="-26280" bIns="-26280" anchor="t">
            <a:noAutofit/>
          </a:bodyPr>
          <a:p>
            <a:endParaRPr b="0" lang="en-US" sz="2400" spc="-1" strike="noStrike">
              <a:solidFill>
                <a:srgbClr val="ffffcc"/>
              </a:solidFill>
              <a:latin typeface="Times New Roman"/>
            </a:endParaRPr>
          </a:p>
        </p:txBody>
      </p:sp>
      <p:sp>
        <p:nvSpPr>
          <p:cNvPr id="141" name="SMARTInkAnnotation20"/>
          <p:cNvSpPr/>
          <p:nvPr/>
        </p:nvSpPr>
        <p:spPr>
          <a:xfrm>
            <a:off x="5956200" y="4214880"/>
            <a:ext cx="115920" cy="17280"/>
          </a:xfrm>
          <a:custGeom>
            <a:avLst/>
            <a:gdLst>
              <a:gd name="textAreaLeft" fmla="*/ 0 w 115920"/>
              <a:gd name="textAreaRight" fmla="*/ 116280 w 115920"/>
              <a:gd name="textAreaTop" fmla="*/ 0 h 17280"/>
              <a:gd name="textAreaBottom" fmla="*/ 17640 h 17280"/>
            </a:gdLst>
            <a:ahLst/>
            <a:rect l="textAreaLeft" t="textAreaTop" r="textAreaRight" b="textAreaBottom"/>
            <a:pathLst>
              <a:path w="116087" h="17850">
                <a:moveTo>
                  <a:pt x="0" y="0"/>
                </a:moveTo>
                <a:lnTo>
                  <a:pt x="0" y="4740"/>
                </a:lnTo>
                <a:lnTo>
                  <a:pt x="992" y="6136"/>
                </a:lnTo>
                <a:lnTo>
                  <a:pt x="2645" y="7068"/>
                </a:lnTo>
                <a:lnTo>
                  <a:pt x="4740" y="7688"/>
                </a:lnTo>
                <a:lnTo>
                  <a:pt x="7129" y="9094"/>
                </a:lnTo>
                <a:lnTo>
                  <a:pt x="9713" y="11024"/>
                </a:lnTo>
                <a:lnTo>
                  <a:pt x="12428" y="13302"/>
                </a:lnTo>
                <a:lnTo>
                  <a:pt x="15231" y="14821"/>
                </a:lnTo>
                <a:lnTo>
                  <a:pt x="18091" y="15834"/>
                </a:lnTo>
                <a:lnTo>
                  <a:pt x="20990" y="16509"/>
                </a:lnTo>
                <a:lnTo>
                  <a:pt x="23916" y="16959"/>
                </a:lnTo>
                <a:lnTo>
                  <a:pt x="26857" y="17259"/>
                </a:lnTo>
                <a:lnTo>
                  <a:pt x="29811" y="17459"/>
                </a:lnTo>
                <a:lnTo>
                  <a:pt x="32773" y="17592"/>
                </a:lnTo>
                <a:lnTo>
                  <a:pt x="38708" y="17740"/>
                </a:lnTo>
                <a:lnTo>
                  <a:pt x="68985" y="17849"/>
                </a:lnTo>
                <a:lnTo>
                  <a:pt x="73771" y="16860"/>
                </a:lnTo>
                <a:lnTo>
                  <a:pt x="77954" y="15209"/>
                </a:lnTo>
                <a:lnTo>
                  <a:pt x="81735" y="13115"/>
                </a:lnTo>
                <a:lnTo>
                  <a:pt x="86240" y="11720"/>
                </a:lnTo>
                <a:lnTo>
                  <a:pt x="91227" y="10790"/>
                </a:lnTo>
                <a:lnTo>
                  <a:pt x="96537" y="10170"/>
                </a:lnTo>
                <a:lnTo>
                  <a:pt x="101069" y="8764"/>
                </a:lnTo>
                <a:lnTo>
                  <a:pt x="105082" y="6835"/>
                </a:lnTo>
                <a:lnTo>
                  <a:pt x="116086" y="0"/>
                </a:lnTo>
              </a:path>
            </a:pathLst>
          </a:custGeom>
          <a:noFill/>
          <a:ln w="38160">
            <a:solidFill>
              <a:srgbClr val="009300"/>
            </a:solidFill>
            <a:round/>
          </a:ln>
        </p:spPr>
        <p:style>
          <a:lnRef idx="0"/>
          <a:fillRef idx="0"/>
          <a:effectRef idx="0"/>
          <a:fontRef idx="minor"/>
        </p:style>
        <p:txBody>
          <a:bodyPr wrap="none" tIns="-28080" bIns="-28080" anchor="t">
            <a:noAutofit/>
          </a:bodyPr>
          <a:p>
            <a:endParaRPr b="0" lang="en-US" sz="2400" spc="-1" strike="noStrike">
              <a:solidFill>
                <a:srgbClr val="ffffcc"/>
              </a:solidFill>
              <a:latin typeface="Times New Roman"/>
            </a:endParaRPr>
          </a:p>
        </p:txBody>
      </p:sp>
      <p:sp>
        <p:nvSpPr>
          <p:cNvPr id="142" name="SMARTInkAnnotation21"/>
          <p:cNvSpPr/>
          <p:nvPr/>
        </p:nvSpPr>
        <p:spPr>
          <a:xfrm>
            <a:off x="6126120" y="3956040"/>
            <a:ext cx="98640" cy="384120"/>
          </a:xfrm>
          <a:custGeom>
            <a:avLst/>
            <a:gdLst>
              <a:gd name="textAreaLeft" fmla="*/ 0 w 98640"/>
              <a:gd name="textAreaRight" fmla="*/ 99000 w 98640"/>
              <a:gd name="textAreaTop" fmla="*/ 0 h 384120"/>
              <a:gd name="textAreaBottom" fmla="*/ 384480 h 384120"/>
            </a:gdLst>
            <a:ahLst/>
            <a:rect l="textAreaLeft" t="textAreaTop" r="textAreaRight" b="textAreaBottom"/>
            <a:pathLst>
              <a:path w="98194" h="383978">
                <a:moveTo>
                  <a:pt x="8896" y="0"/>
                </a:moveTo>
                <a:lnTo>
                  <a:pt x="16586" y="7688"/>
                </a:lnTo>
                <a:lnTo>
                  <a:pt x="17459" y="18043"/>
                </a:lnTo>
                <a:lnTo>
                  <a:pt x="18573" y="21950"/>
                </a:lnTo>
                <a:lnTo>
                  <a:pt x="20309" y="25547"/>
                </a:lnTo>
                <a:lnTo>
                  <a:pt x="22458" y="28938"/>
                </a:lnTo>
                <a:lnTo>
                  <a:pt x="24846" y="40643"/>
                </a:lnTo>
                <a:lnTo>
                  <a:pt x="25483" y="47931"/>
                </a:lnTo>
                <a:lnTo>
                  <a:pt x="25907" y="54775"/>
                </a:lnTo>
                <a:lnTo>
                  <a:pt x="26379" y="67670"/>
                </a:lnTo>
                <a:lnTo>
                  <a:pt x="27497" y="74879"/>
                </a:lnTo>
                <a:lnTo>
                  <a:pt x="29235" y="82662"/>
                </a:lnTo>
                <a:lnTo>
                  <a:pt x="31385" y="90826"/>
                </a:lnTo>
                <a:lnTo>
                  <a:pt x="32818" y="99246"/>
                </a:lnTo>
                <a:lnTo>
                  <a:pt x="33774" y="107836"/>
                </a:lnTo>
                <a:lnTo>
                  <a:pt x="34412" y="116539"/>
                </a:lnTo>
                <a:lnTo>
                  <a:pt x="34836" y="125318"/>
                </a:lnTo>
                <a:lnTo>
                  <a:pt x="35308" y="143009"/>
                </a:lnTo>
                <a:lnTo>
                  <a:pt x="35653" y="196464"/>
                </a:lnTo>
                <a:lnTo>
                  <a:pt x="34672" y="205391"/>
                </a:lnTo>
                <a:lnTo>
                  <a:pt x="33025" y="214318"/>
                </a:lnTo>
                <a:lnTo>
                  <a:pt x="30936" y="223245"/>
                </a:lnTo>
                <a:lnTo>
                  <a:pt x="29543" y="232174"/>
                </a:lnTo>
                <a:lnTo>
                  <a:pt x="28614" y="241103"/>
                </a:lnTo>
                <a:lnTo>
                  <a:pt x="27994" y="250032"/>
                </a:lnTo>
                <a:lnTo>
                  <a:pt x="26590" y="258961"/>
                </a:lnTo>
                <a:lnTo>
                  <a:pt x="24661" y="267891"/>
                </a:lnTo>
                <a:lnTo>
                  <a:pt x="22384" y="276821"/>
                </a:lnTo>
                <a:lnTo>
                  <a:pt x="20864" y="285750"/>
                </a:lnTo>
                <a:lnTo>
                  <a:pt x="19852" y="294680"/>
                </a:lnTo>
                <a:lnTo>
                  <a:pt x="19176" y="303609"/>
                </a:lnTo>
                <a:lnTo>
                  <a:pt x="17735" y="311547"/>
                </a:lnTo>
                <a:lnTo>
                  <a:pt x="15781" y="318823"/>
                </a:lnTo>
                <a:lnTo>
                  <a:pt x="13486" y="325658"/>
                </a:lnTo>
                <a:lnTo>
                  <a:pt x="11957" y="332199"/>
                </a:lnTo>
                <a:lnTo>
                  <a:pt x="10937" y="338544"/>
                </a:lnTo>
                <a:lnTo>
                  <a:pt x="9803" y="349893"/>
                </a:lnTo>
                <a:lnTo>
                  <a:pt x="9300" y="358245"/>
                </a:lnTo>
                <a:lnTo>
                  <a:pt x="8173" y="361861"/>
                </a:lnTo>
                <a:lnTo>
                  <a:pt x="6430" y="365265"/>
                </a:lnTo>
                <a:lnTo>
                  <a:pt x="0" y="374996"/>
                </a:lnTo>
                <a:lnTo>
                  <a:pt x="4718" y="370291"/>
                </a:lnTo>
                <a:lnTo>
                  <a:pt x="6111" y="366916"/>
                </a:lnTo>
                <a:lnTo>
                  <a:pt x="7659" y="357873"/>
                </a:lnTo>
                <a:lnTo>
                  <a:pt x="8346" y="347239"/>
                </a:lnTo>
                <a:lnTo>
                  <a:pt x="8652" y="335899"/>
                </a:lnTo>
                <a:lnTo>
                  <a:pt x="8788" y="324244"/>
                </a:lnTo>
                <a:lnTo>
                  <a:pt x="11494" y="312450"/>
                </a:lnTo>
                <a:lnTo>
                  <a:pt x="13605" y="306526"/>
                </a:lnTo>
                <a:lnTo>
                  <a:pt x="15950" y="297299"/>
                </a:lnTo>
                <a:lnTo>
                  <a:pt x="17985" y="288898"/>
                </a:lnTo>
                <a:lnTo>
                  <a:pt x="19917" y="283880"/>
                </a:lnTo>
                <a:lnTo>
                  <a:pt x="22197" y="278551"/>
                </a:lnTo>
                <a:lnTo>
                  <a:pt x="24708" y="274005"/>
                </a:lnTo>
                <a:lnTo>
                  <a:pt x="27376" y="269982"/>
                </a:lnTo>
                <a:lnTo>
                  <a:pt x="30146" y="266309"/>
                </a:lnTo>
                <a:lnTo>
                  <a:pt x="32984" y="262867"/>
                </a:lnTo>
                <a:lnTo>
                  <a:pt x="35870" y="259581"/>
                </a:lnTo>
                <a:lnTo>
                  <a:pt x="38785" y="256398"/>
                </a:lnTo>
                <a:lnTo>
                  <a:pt x="40729" y="253283"/>
                </a:lnTo>
                <a:lnTo>
                  <a:pt x="42888" y="247177"/>
                </a:lnTo>
                <a:lnTo>
                  <a:pt x="44455" y="244160"/>
                </a:lnTo>
                <a:lnTo>
                  <a:pt x="46494" y="241156"/>
                </a:lnTo>
                <a:lnTo>
                  <a:pt x="48844" y="238161"/>
                </a:lnTo>
                <a:lnTo>
                  <a:pt x="51403" y="235173"/>
                </a:lnTo>
                <a:lnTo>
                  <a:pt x="54101" y="232188"/>
                </a:lnTo>
                <a:lnTo>
                  <a:pt x="60821" y="225009"/>
                </a:lnTo>
                <a:lnTo>
                  <a:pt x="62364" y="224420"/>
                </a:lnTo>
                <a:lnTo>
                  <a:pt x="64386" y="224027"/>
                </a:lnTo>
                <a:lnTo>
                  <a:pt x="70018" y="223397"/>
                </a:lnTo>
                <a:lnTo>
                  <a:pt x="71472" y="223346"/>
                </a:lnTo>
                <a:lnTo>
                  <a:pt x="75735" y="223288"/>
                </a:lnTo>
                <a:lnTo>
                  <a:pt x="77267" y="224265"/>
                </a:lnTo>
                <a:lnTo>
                  <a:pt x="78290" y="225908"/>
                </a:lnTo>
                <a:lnTo>
                  <a:pt x="78972" y="227996"/>
                </a:lnTo>
                <a:lnTo>
                  <a:pt x="80418" y="230380"/>
                </a:lnTo>
                <a:lnTo>
                  <a:pt x="82374" y="232962"/>
                </a:lnTo>
                <a:lnTo>
                  <a:pt x="84671" y="235675"/>
                </a:lnTo>
                <a:lnTo>
                  <a:pt x="86202" y="239468"/>
                </a:lnTo>
                <a:lnTo>
                  <a:pt x="87903" y="248975"/>
                </a:lnTo>
                <a:lnTo>
                  <a:pt x="89348" y="254288"/>
                </a:lnTo>
                <a:lnTo>
                  <a:pt x="91305" y="259814"/>
                </a:lnTo>
                <a:lnTo>
                  <a:pt x="93601" y="265483"/>
                </a:lnTo>
                <a:lnTo>
                  <a:pt x="96153" y="277073"/>
                </a:lnTo>
                <a:lnTo>
                  <a:pt x="97287" y="288839"/>
                </a:lnTo>
                <a:lnTo>
                  <a:pt x="97790" y="300682"/>
                </a:lnTo>
                <a:lnTo>
                  <a:pt x="98074" y="318507"/>
                </a:lnTo>
                <a:lnTo>
                  <a:pt x="98193" y="383977"/>
                </a:lnTo>
              </a:path>
            </a:pathLst>
          </a:custGeom>
          <a:noFill/>
          <a:ln w="38160">
            <a:solidFill>
              <a:srgbClr val="009300"/>
            </a:solidFill>
            <a:round/>
          </a:ln>
        </p:spPr>
        <p:style>
          <a:lnRef idx="0"/>
          <a:fillRef idx="0"/>
          <a:effectRef idx="0"/>
          <a:fontRef idx="minor"/>
        </p:style>
        <p:txBody>
          <a:bodyPr wrap="none" anchor="t">
            <a:noAutofit/>
          </a:bodyPr>
          <a:p>
            <a:endParaRPr b="0" lang="en-US" sz="2400" spc="-1" strike="noStrike">
              <a:solidFill>
                <a:srgbClr val="ffffcc"/>
              </a:solidFill>
              <a:latin typeface="Times New Roman"/>
            </a:endParaRPr>
          </a:p>
        </p:txBody>
      </p:sp>
      <p:sp>
        <p:nvSpPr>
          <p:cNvPr id="143" name="SMARTInkAnnotation22"/>
          <p:cNvSpPr/>
          <p:nvPr/>
        </p:nvSpPr>
        <p:spPr>
          <a:xfrm>
            <a:off x="6296040" y="4232160"/>
            <a:ext cx="52200" cy="169920"/>
          </a:xfrm>
          <a:custGeom>
            <a:avLst/>
            <a:gdLst>
              <a:gd name="textAreaLeft" fmla="*/ 0 w 52200"/>
              <a:gd name="textAreaRight" fmla="*/ 52560 w 52200"/>
              <a:gd name="textAreaTop" fmla="*/ 0 h 169920"/>
              <a:gd name="textAreaBottom" fmla="*/ 170280 h 169920"/>
            </a:gdLst>
            <a:ahLst/>
            <a:rect l="textAreaLeft" t="textAreaTop" r="textAreaRight" b="textAreaBottom"/>
            <a:pathLst>
              <a:path w="53578" h="169545">
                <a:moveTo>
                  <a:pt x="53577" y="35599"/>
                </a:moveTo>
                <a:lnTo>
                  <a:pt x="53577" y="13377"/>
                </a:lnTo>
                <a:lnTo>
                  <a:pt x="52585" y="11854"/>
                </a:lnTo>
                <a:lnTo>
                  <a:pt x="50932" y="10839"/>
                </a:lnTo>
                <a:lnTo>
                  <a:pt x="48837" y="10163"/>
                </a:lnTo>
                <a:lnTo>
                  <a:pt x="47440" y="8720"/>
                </a:lnTo>
                <a:lnTo>
                  <a:pt x="46510" y="6766"/>
                </a:lnTo>
                <a:lnTo>
                  <a:pt x="45889" y="4471"/>
                </a:lnTo>
                <a:lnTo>
                  <a:pt x="44483" y="2941"/>
                </a:lnTo>
                <a:lnTo>
                  <a:pt x="42552" y="1920"/>
                </a:lnTo>
                <a:lnTo>
                  <a:pt x="37068" y="283"/>
                </a:lnTo>
                <a:lnTo>
                  <a:pt x="35625" y="149"/>
                </a:lnTo>
                <a:lnTo>
                  <a:pt x="33672" y="60"/>
                </a:lnTo>
                <a:lnTo>
                  <a:pt x="31377" y="0"/>
                </a:lnTo>
                <a:lnTo>
                  <a:pt x="28856" y="952"/>
                </a:lnTo>
                <a:lnTo>
                  <a:pt x="26182" y="2579"/>
                </a:lnTo>
                <a:lnTo>
                  <a:pt x="23408" y="4656"/>
                </a:lnTo>
                <a:lnTo>
                  <a:pt x="20566" y="7033"/>
                </a:lnTo>
                <a:lnTo>
                  <a:pt x="17678" y="9610"/>
                </a:lnTo>
                <a:lnTo>
                  <a:pt x="14763" y="12320"/>
                </a:lnTo>
                <a:lnTo>
                  <a:pt x="12818" y="15119"/>
                </a:lnTo>
                <a:lnTo>
                  <a:pt x="11521" y="17977"/>
                </a:lnTo>
                <a:lnTo>
                  <a:pt x="10657" y="20874"/>
                </a:lnTo>
                <a:lnTo>
                  <a:pt x="9089" y="23798"/>
                </a:lnTo>
                <a:lnTo>
                  <a:pt x="7051" y="26740"/>
                </a:lnTo>
                <a:lnTo>
                  <a:pt x="4700" y="29693"/>
                </a:lnTo>
                <a:lnTo>
                  <a:pt x="3134" y="32654"/>
                </a:lnTo>
                <a:lnTo>
                  <a:pt x="2089" y="35620"/>
                </a:lnTo>
                <a:lnTo>
                  <a:pt x="1393" y="38590"/>
                </a:lnTo>
                <a:lnTo>
                  <a:pt x="929" y="41562"/>
                </a:lnTo>
                <a:lnTo>
                  <a:pt x="619" y="44535"/>
                </a:lnTo>
                <a:lnTo>
                  <a:pt x="412" y="47510"/>
                </a:lnTo>
                <a:lnTo>
                  <a:pt x="274" y="51476"/>
                </a:lnTo>
                <a:lnTo>
                  <a:pt x="81" y="66541"/>
                </a:lnTo>
                <a:lnTo>
                  <a:pt x="0" y="136283"/>
                </a:lnTo>
                <a:lnTo>
                  <a:pt x="992" y="140425"/>
                </a:lnTo>
                <a:lnTo>
                  <a:pt x="2645" y="145170"/>
                </a:lnTo>
                <a:lnTo>
                  <a:pt x="7688" y="157564"/>
                </a:lnTo>
                <a:lnTo>
                  <a:pt x="8377" y="161905"/>
                </a:lnTo>
                <a:lnTo>
                  <a:pt x="8928" y="169544"/>
                </a:lnTo>
              </a:path>
            </a:pathLst>
          </a:custGeom>
          <a:noFill/>
          <a:ln w="38160">
            <a:solidFill>
              <a:srgbClr val="009300"/>
            </a:solidFill>
            <a:round/>
          </a:ln>
        </p:spPr>
        <p:style>
          <a:lnRef idx="0"/>
          <a:fillRef idx="0"/>
          <a:effectRef idx="0"/>
          <a:fontRef idx="minor"/>
        </p:style>
        <p:txBody>
          <a:bodyPr wrap="none" anchor="t">
            <a:noAutofit/>
          </a:bodyPr>
          <a:p>
            <a:endParaRPr b="0" lang="en-US" sz="2400" spc="-1" strike="noStrike">
              <a:solidFill>
                <a:srgbClr val="ffffcc"/>
              </a:solidFill>
              <a:latin typeface="Times New Roman"/>
            </a:endParaRPr>
          </a:p>
        </p:txBody>
      </p:sp>
      <p:sp>
        <p:nvSpPr>
          <p:cNvPr id="144" name="SMARTInkAnnotation23"/>
          <p:cNvSpPr/>
          <p:nvPr/>
        </p:nvSpPr>
        <p:spPr>
          <a:xfrm>
            <a:off x="6249960" y="4313160"/>
            <a:ext cx="54000" cy="360"/>
          </a:xfrm>
          <a:custGeom>
            <a:avLst/>
            <a:gdLst>
              <a:gd name="textAreaLeft" fmla="*/ 0 w 54000"/>
              <a:gd name="textAreaRight" fmla="*/ 54360 w 54000"/>
              <a:gd name="textAreaTop" fmla="*/ 0 h 360"/>
              <a:gd name="textAreaBottom" fmla="*/ 720 h 360"/>
            </a:gdLst>
            <a:ahLst/>
            <a:rect l="textAreaLeft" t="textAreaTop" r="textAreaRight" b="textAreaBottom"/>
            <a:pathLst>
              <a:path w="53579" h="1">
                <a:moveTo>
                  <a:pt x="0" y="0"/>
                </a:moveTo>
                <a:lnTo>
                  <a:pt x="-11958" y="0"/>
                </a:lnTo>
              </a:path>
            </a:pathLst>
          </a:custGeom>
          <a:solidFill>
            <a:srgbClr val="cc0099"/>
          </a:solidFill>
          <a:ln w="38160">
            <a:solidFill>
              <a:srgbClr val="009300"/>
            </a:solidFill>
            <a:round/>
          </a:ln>
        </p:spPr>
        <p:style>
          <a:lnRef idx="0"/>
          <a:fillRef idx="0"/>
          <a:effectRef idx="0"/>
          <a:fontRef idx="minor"/>
        </p:style>
        <p:txBody>
          <a:bodyPr wrap="none" tIns="-45000" bIns="-45000" anchor="t">
            <a:noAutofit/>
          </a:bodyPr>
          <a:p>
            <a:endParaRPr b="0" lang="en-US" sz="2400" spc="-1" strike="noStrike">
              <a:solidFill>
                <a:srgbClr val="ffffcc"/>
              </a:solidFill>
              <a:latin typeface="Times New Roman"/>
            </a:endParaRPr>
          </a:p>
        </p:txBody>
      </p:sp>
      <p:sp>
        <p:nvSpPr>
          <p:cNvPr id="145" name="SMARTInkAnnotation24"/>
          <p:cNvSpPr/>
          <p:nvPr/>
        </p:nvSpPr>
        <p:spPr>
          <a:xfrm>
            <a:off x="6402240" y="4286160"/>
            <a:ext cx="36720" cy="9720"/>
          </a:xfrm>
          <a:custGeom>
            <a:avLst/>
            <a:gdLst>
              <a:gd name="textAreaLeft" fmla="*/ 0 w 36720"/>
              <a:gd name="textAreaRight" fmla="*/ 37080 w 36720"/>
              <a:gd name="textAreaTop" fmla="*/ 0 h 9720"/>
              <a:gd name="textAreaBottom" fmla="*/ 10080 h 9720"/>
            </a:gdLst>
            <a:ahLst/>
            <a:rect l="textAreaLeft" t="textAreaTop" r="textAreaRight" b="textAreaBottom"/>
            <a:pathLst>
              <a:path w="35720" h="8930">
                <a:moveTo>
                  <a:pt x="0" y="8929"/>
                </a:moveTo>
                <a:lnTo>
                  <a:pt x="12429" y="8929"/>
                </a:lnTo>
                <a:lnTo>
                  <a:pt x="15232" y="7937"/>
                </a:lnTo>
                <a:lnTo>
                  <a:pt x="18092" y="6283"/>
                </a:lnTo>
                <a:lnTo>
                  <a:pt x="20991" y="4188"/>
                </a:lnTo>
                <a:lnTo>
                  <a:pt x="23916" y="2792"/>
                </a:lnTo>
                <a:lnTo>
                  <a:pt x="26858" y="1861"/>
                </a:lnTo>
                <a:lnTo>
                  <a:pt x="-29817" y="0"/>
                </a:lnTo>
              </a:path>
            </a:pathLst>
          </a:custGeom>
          <a:noFill/>
          <a:ln w="38160">
            <a:solidFill>
              <a:srgbClr val="009300"/>
            </a:solidFill>
            <a:round/>
          </a:ln>
        </p:spPr>
        <p:style>
          <a:lnRef idx="0"/>
          <a:fillRef idx="0"/>
          <a:effectRef idx="0"/>
          <a:fontRef idx="minor"/>
        </p:style>
        <p:txBody>
          <a:bodyPr wrap="none" tIns="-35640" bIns="-35640" anchor="t">
            <a:noAutofit/>
          </a:bodyPr>
          <a:p>
            <a:endParaRPr b="0" lang="en-US" sz="2400" spc="-1" strike="noStrike">
              <a:solidFill>
                <a:srgbClr val="ffffcc"/>
              </a:solidFill>
              <a:latin typeface="Times New Roman"/>
            </a:endParaRPr>
          </a:p>
        </p:txBody>
      </p:sp>
      <p:sp>
        <p:nvSpPr>
          <p:cNvPr id="146" name="SMARTInkAnnotation25"/>
          <p:cNvSpPr/>
          <p:nvPr/>
        </p:nvSpPr>
        <p:spPr>
          <a:xfrm>
            <a:off x="6527880" y="4044960"/>
            <a:ext cx="125280" cy="419040"/>
          </a:xfrm>
          <a:custGeom>
            <a:avLst/>
            <a:gdLst>
              <a:gd name="textAreaLeft" fmla="*/ 0 w 125280"/>
              <a:gd name="textAreaRight" fmla="*/ 125640 w 125280"/>
              <a:gd name="textAreaTop" fmla="*/ 0 h 419040"/>
              <a:gd name="textAreaBottom" fmla="*/ 419400 h 419040"/>
            </a:gdLst>
            <a:ahLst/>
            <a:rect l="textAreaLeft" t="textAreaTop" r="textAreaRight" b="textAreaBottom"/>
            <a:pathLst>
              <a:path w="124985" h="419168">
                <a:moveTo>
                  <a:pt x="17827" y="0"/>
                </a:moveTo>
                <a:lnTo>
                  <a:pt x="17827" y="7688"/>
                </a:lnTo>
                <a:lnTo>
                  <a:pt x="20472" y="13670"/>
                </a:lnTo>
                <a:lnTo>
                  <a:pt x="22567" y="18043"/>
                </a:lnTo>
                <a:lnTo>
                  <a:pt x="24895" y="28193"/>
                </a:lnTo>
                <a:lnTo>
                  <a:pt x="25929" y="39319"/>
                </a:lnTo>
                <a:lnTo>
                  <a:pt x="26388" y="50879"/>
                </a:lnTo>
                <a:lnTo>
                  <a:pt x="26647" y="68543"/>
                </a:lnTo>
                <a:lnTo>
                  <a:pt x="26757" y="231808"/>
                </a:lnTo>
                <a:lnTo>
                  <a:pt x="25765" y="241851"/>
                </a:lnTo>
                <a:lnTo>
                  <a:pt x="24111" y="252515"/>
                </a:lnTo>
                <a:lnTo>
                  <a:pt x="22017" y="263594"/>
                </a:lnTo>
                <a:lnTo>
                  <a:pt x="20620" y="273955"/>
                </a:lnTo>
                <a:lnTo>
                  <a:pt x="19689" y="283840"/>
                </a:lnTo>
                <a:lnTo>
                  <a:pt x="19068" y="293406"/>
                </a:lnTo>
                <a:lnTo>
                  <a:pt x="18654" y="302761"/>
                </a:lnTo>
                <a:lnTo>
                  <a:pt x="18195" y="321091"/>
                </a:lnTo>
                <a:lnTo>
                  <a:pt x="17936" y="348146"/>
                </a:lnTo>
                <a:lnTo>
                  <a:pt x="16907" y="356120"/>
                </a:lnTo>
                <a:lnTo>
                  <a:pt x="15230" y="363421"/>
                </a:lnTo>
                <a:lnTo>
                  <a:pt x="11712" y="375833"/>
                </a:lnTo>
                <a:lnTo>
                  <a:pt x="9731" y="388399"/>
                </a:lnTo>
                <a:lnTo>
                  <a:pt x="9145" y="398406"/>
                </a:lnTo>
                <a:lnTo>
                  <a:pt x="8947" y="410676"/>
                </a:lnTo>
                <a:lnTo>
                  <a:pt x="8899" y="419167"/>
                </a:lnTo>
                <a:lnTo>
                  <a:pt x="6252" y="416815"/>
                </a:lnTo>
                <a:lnTo>
                  <a:pt x="4158" y="414798"/>
                </a:lnTo>
                <a:lnTo>
                  <a:pt x="2760" y="412462"/>
                </a:lnTo>
                <a:lnTo>
                  <a:pt x="1209" y="407220"/>
                </a:lnTo>
                <a:lnTo>
                  <a:pt x="212" y="394778"/>
                </a:lnTo>
                <a:lnTo>
                  <a:pt x="16" y="374241"/>
                </a:lnTo>
                <a:lnTo>
                  <a:pt x="0" y="368556"/>
                </a:lnTo>
                <a:lnTo>
                  <a:pt x="2628" y="356949"/>
                </a:lnTo>
                <a:lnTo>
                  <a:pt x="6111" y="345175"/>
                </a:lnTo>
                <a:lnTo>
                  <a:pt x="7659" y="333328"/>
                </a:lnTo>
                <a:lnTo>
                  <a:pt x="8072" y="326398"/>
                </a:lnTo>
                <a:lnTo>
                  <a:pt x="8530" y="310761"/>
                </a:lnTo>
                <a:lnTo>
                  <a:pt x="9645" y="303416"/>
                </a:lnTo>
                <a:lnTo>
                  <a:pt x="11380" y="296535"/>
                </a:lnTo>
                <a:lnTo>
                  <a:pt x="14962" y="283598"/>
                </a:lnTo>
                <a:lnTo>
                  <a:pt x="16553" y="271234"/>
                </a:lnTo>
                <a:lnTo>
                  <a:pt x="19906" y="259123"/>
                </a:lnTo>
                <a:lnTo>
                  <a:pt x="23712" y="247127"/>
                </a:lnTo>
                <a:lnTo>
                  <a:pt x="25404" y="235181"/>
                </a:lnTo>
                <a:lnTo>
                  <a:pt x="28800" y="223256"/>
                </a:lnTo>
                <a:lnTo>
                  <a:pt x="32626" y="212334"/>
                </a:lnTo>
                <a:lnTo>
                  <a:pt x="34327" y="204173"/>
                </a:lnTo>
                <a:lnTo>
                  <a:pt x="37728" y="197238"/>
                </a:lnTo>
                <a:lnTo>
                  <a:pt x="40025" y="194000"/>
                </a:lnTo>
                <a:lnTo>
                  <a:pt x="42547" y="191841"/>
                </a:lnTo>
                <a:lnTo>
                  <a:pt x="45220" y="190402"/>
                </a:lnTo>
                <a:lnTo>
                  <a:pt x="47995" y="189443"/>
                </a:lnTo>
                <a:lnTo>
                  <a:pt x="50838" y="187811"/>
                </a:lnTo>
                <a:lnTo>
                  <a:pt x="53725" y="185730"/>
                </a:lnTo>
                <a:lnTo>
                  <a:pt x="60747" y="180003"/>
                </a:lnTo>
                <a:lnTo>
                  <a:pt x="62315" y="180526"/>
                </a:lnTo>
                <a:lnTo>
                  <a:pt x="64353" y="181866"/>
                </a:lnTo>
                <a:lnTo>
                  <a:pt x="66704" y="183752"/>
                </a:lnTo>
                <a:lnTo>
                  <a:pt x="69263" y="185009"/>
                </a:lnTo>
                <a:lnTo>
                  <a:pt x="71961" y="185847"/>
                </a:lnTo>
                <a:lnTo>
                  <a:pt x="74753" y="186406"/>
                </a:lnTo>
                <a:lnTo>
                  <a:pt x="76613" y="188762"/>
                </a:lnTo>
                <a:lnTo>
                  <a:pt x="77854" y="192318"/>
                </a:lnTo>
                <a:lnTo>
                  <a:pt x="78681" y="196673"/>
                </a:lnTo>
                <a:lnTo>
                  <a:pt x="82246" y="204158"/>
                </a:lnTo>
                <a:lnTo>
                  <a:pt x="84585" y="207542"/>
                </a:lnTo>
                <a:lnTo>
                  <a:pt x="87137" y="211784"/>
                </a:lnTo>
                <a:lnTo>
                  <a:pt x="89831" y="216595"/>
                </a:lnTo>
                <a:lnTo>
                  <a:pt x="95469" y="227233"/>
                </a:lnTo>
                <a:lnTo>
                  <a:pt x="101282" y="238576"/>
                </a:lnTo>
                <a:lnTo>
                  <a:pt x="104528" y="250232"/>
                </a:lnTo>
                <a:lnTo>
                  <a:pt x="106962" y="263018"/>
                </a:lnTo>
                <a:lnTo>
                  <a:pt x="109000" y="270596"/>
                </a:lnTo>
                <a:lnTo>
                  <a:pt x="111351" y="278624"/>
                </a:lnTo>
                <a:lnTo>
                  <a:pt x="112919" y="285960"/>
                </a:lnTo>
                <a:lnTo>
                  <a:pt x="113963" y="292835"/>
                </a:lnTo>
                <a:lnTo>
                  <a:pt x="115125" y="305766"/>
                </a:lnTo>
                <a:lnTo>
                  <a:pt x="115641" y="318127"/>
                </a:lnTo>
                <a:lnTo>
                  <a:pt x="118516" y="330237"/>
                </a:lnTo>
                <a:lnTo>
                  <a:pt x="122109" y="341240"/>
                </a:lnTo>
                <a:lnTo>
                  <a:pt x="124132" y="354005"/>
                </a:lnTo>
                <a:lnTo>
                  <a:pt x="124605" y="364372"/>
                </a:lnTo>
                <a:lnTo>
                  <a:pt x="124950" y="381798"/>
                </a:lnTo>
                <a:lnTo>
                  <a:pt x="124984" y="392906"/>
                </a:lnTo>
              </a:path>
            </a:pathLst>
          </a:custGeom>
          <a:noFill/>
          <a:ln w="38160">
            <a:solidFill>
              <a:srgbClr val="009300"/>
            </a:solidFill>
            <a:round/>
          </a:ln>
        </p:spPr>
        <p:style>
          <a:lnRef idx="0"/>
          <a:fillRef idx="0"/>
          <a:effectRef idx="0"/>
          <a:fontRef idx="minor"/>
        </p:style>
        <p:txBody>
          <a:bodyPr wrap="none" anchor="t">
            <a:noAutofit/>
          </a:bodyPr>
          <a:p>
            <a:endParaRPr b="0" lang="en-US" sz="2400" spc="-1" strike="noStrike">
              <a:solidFill>
                <a:srgbClr val="ffffcc"/>
              </a:solidFill>
              <a:latin typeface="Times New Roman"/>
            </a:endParaRPr>
          </a:p>
        </p:txBody>
      </p:sp>
      <p:sp>
        <p:nvSpPr>
          <p:cNvPr id="147" name="SMARTInkAnnotation26"/>
          <p:cNvSpPr/>
          <p:nvPr/>
        </p:nvSpPr>
        <p:spPr>
          <a:xfrm>
            <a:off x="6697800" y="4367160"/>
            <a:ext cx="17280" cy="98640"/>
          </a:xfrm>
          <a:custGeom>
            <a:avLst/>
            <a:gdLst>
              <a:gd name="textAreaLeft" fmla="*/ 0 w 17280"/>
              <a:gd name="textAreaRight" fmla="*/ 17640 w 17280"/>
              <a:gd name="textAreaTop" fmla="*/ 0 h 98640"/>
              <a:gd name="textAreaBottom" fmla="*/ 99000 h 98640"/>
            </a:gdLst>
            <a:ahLst/>
            <a:rect l="textAreaLeft" t="textAreaTop" r="textAreaRight" b="textAreaBottom"/>
            <a:pathLst>
              <a:path w="17852" h="98227">
                <a:moveTo>
                  <a:pt x="17851" y="0"/>
                </a:moveTo>
                <a:lnTo>
                  <a:pt x="10162" y="7688"/>
                </a:lnTo>
                <a:lnTo>
                  <a:pt x="9748" y="9094"/>
                </a:lnTo>
                <a:lnTo>
                  <a:pt x="9472" y="11023"/>
                </a:lnTo>
                <a:lnTo>
                  <a:pt x="9288" y="13302"/>
                </a:lnTo>
                <a:lnTo>
                  <a:pt x="8174" y="15813"/>
                </a:lnTo>
                <a:lnTo>
                  <a:pt x="6438" y="18480"/>
                </a:lnTo>
                <a:lnTo>
                  <a:pt x="4289" y="21250"/>
                </a:lnTo>
                <a:lnTo>
                  <a:pt x="2855" y="24088"/>
                </a:lnTo>
                <a:lnTo>
                  <a:pt x="1901" y="26973"/>
                </a:lnTo>
                <a:lnTo>
                  <a:pt x="1265" y="29888"/>
                </a:lnTo>
                <a:lnTo>
                  <a:pt x="840" y="32824"/>
                </a:lnTo>
                <a:lnTo>
                  <a:pt x="557" y="35773"/>
                </a:lnTo>
                <a:lnTo>
                  <a:pt x="368" y="38731"/>
                </a:lnTo>
                <a:lnTo>
                  <a:pt x="242" y="41696"/>
                </a:lnTo>
                <a:lnTo>
                  <a:pt x="103" y="47635"/>
                </a:lnTo>
                <a:lnTo>
                  <a:pt x="0" y="65485"/>
                </a:lnTo>
                <a:lnTo>
                  <a:pt x="990" y="68461"/>
                </a:lnTo>
                <a:lnTo>
                  <a:pt x="2641" y="71438"/>
                </a:lnTo>
                <a:lnTo>
                  <a:pt x="4733" y="74414"/>
                </a:lnTo>
                <a:lnTo>
                  <a:pt x="6130" y="77390"/>
                </a:lnTo>
                <a:lnTo>
                  <a:pt x="7060" y="80367"/>
                </a:lnTo>
                <a:lnTo>
                  <a:pt x="7681" y="83343"/>
                </a:lnTo>
                <a:lnTo>
                  <a:pt x="9085" y="86320"/>
                </a:lnTo>
                <a:lnTo>
                  <a:pt x="11015" y="89297"/>
                </a:lnTo>
                <a:lnTo>
                  <a:pt x="17851" y="98226"/>
                </a:lnTo>
              </a:path>
            </a:pathLst>
          </a:custGeom>
          <a:noFill/>
          <a:ln w="38160">
            <a:solidFill>
              <a:srgbClr val="009300"/>
            </a:solidFill>
            <a:round/>
          </a:ln>
        </p:spPr>
        <p:style>
          <a:lnRef idx="0"/>
          <a:fillRef idx="0"/>
          <a:effectRef idx="0"/>
          <a:fontRef idx="minor"/>
        </p:style>
        <p:txBody>
          <a:bodyPr wrap="none" anchor="t">
            <a:noAutofit/>
          </a:bodyPr>
          <a:p>
            <a:endParaRPr b="0" lang="en-US" sz="2400" spc="-1" strike="noStrike">
              <a:solidFill>
                <a:srgbClr val="ffffcc"/>
              </a:solidFill>
              <a:latin typeface="Times New Roman"/>
            </a:endParaRPr>
          </a:p>
        </p:txBody>
      </p:sp>
      <p:sp>
        <p:nvSpPr>
          <p:cNvPr id="148" name="Freeform 30"/>
          <p:cNvSpPr/>
          <p:nvPr/>
        </p:nvSpPr>
        <p:spPr>
          <a:xfrm>
            <a:off x="6742080" y="4232160"/>
            <a:ext cx="3240" cy="360"/>
          </a:xfrm>
          <a:custGeom>
            <a:avLst/>
            <a:gdLst>
              <a:gd name="textAreaLeft" fmla="*/ 0 w 3240"/>
              <a:gd name="textAreaRight" fmla="*/ 3600 w 3240"/>
              <a:gd name="textAreaTop" fmla="*/ 0 h 360"/>
              <a:gd name="textAreaBottom" fmla="*/ 720 h 360"/>
            </a:gdLst>
            <a:ahLst/>
            <a:rect l="textAreaLeft" t="textAreaTop" r="textAreaRight" b="textAreaBottom"/>
            <a:pathLst>
              <a:path w="2645" h="1">
                <a:moveTo>
                  <a:pt x="0" y="0"/>
                </a:moveTo>
                <a:lnTo>
                  <a:pt x="2644" y="0"/>
                </a:lnTo>
                <a:close/>
              </a:path>
            </a:pathLst>
          </a:custGeom>
          <a:solidFill>
            <a:srgbClr val="cc0099"/>
          </a:solidFill>
          <a:ln w="38160">
            <a:solidFill>
              <a:srgbClr val="009300"/>
            </a:solidFill>
            <a:round/>
          </a:ln>
        </p:spPr>
        <p:style>
          <a:lnRef idx="0"/>
          <a:fillRef idx="0"/>
          <a:effectRef idx="0"/>
          <a:fontRef idx="minor"/>
        </p:style>
        <p:txBody>
          <a:bodyPr wrap="none" tIns="-45000" bIns="-45000" anchor="t">
            <a:noAutofit/>
          </a:bodyPr>
          <a:p>
            <a:endParaRPr b="0" lang="en-US" sz="2400" spc="-1" strike="noStrike">
              <a:solidFill>
                <a:srgbClr val="ffffcc"/>
              </a:solidFill>
              <a:latin typeface="Times New Roman"/>
            </a:endParaRPr>
          </a:p>
        </p:txBody>
      </p:sp>
      <p:sp>
        <p:nvSpPr>
          <p:cNvPr id="149" name="SMARTInkAnnotation28"/>
          <p:cNvSpPr/>
          <p:nvPr/>
        </p:nvSpPr>
        <p:spPr>
          <a:xfrm>
            <a:off x="6831000" y="4259160"/>
            <a:ext cx="152280" cy="27000"/>
          </a:xfrm>
          <a:custGeom>
            <a:avLst/>
            <a:gdLst>
              <a:gd name="textAreaLeft" fmla="*/ 0 w 152280"/>
              <a:gd name="textAreaRight" fmla="*/ 152640 w 152280"/>
              <a:gd name="textAreaTop" fmla="*/ 0 h 27000"/>
              <a:gd name="textAreaBottom" fmla="*/ 27360 h 27000"/>
            </a:gdLst>
            <a:ahLst/>
            <a:rect l="textAreaLeft" t="textAreaTop" r="textAreaRight" b="textAreaBottom"/>
            <a:pathLst>
              <a:path w="151806" h="26791">
                <a:moveTo>
                  <a:pt x="0" y="26790"/>
                </a:moveTo>
                <a:lnTo>
                  <a:pt x="0" y="17968"/>
                </a:lnTo>
                <a:lnTo>
                  <a:pt x="2645" y="15263"/>
                </a:lnTo>
                <a:lnTo>
                  <a:pt x="13303" y="4560"/>
                </a:lnTo>
                <a:lnTo>
                  <a:pt x="15814" y="3040"/>
                </a:lnTo>
                <a:lnTo>
                  <a:pt x="18480" y="2027"/>
                </a:lnTo>
                <a:lnTo>
                  <a:pt x="21250" y="1351"/>
                </a:lnTo>
                <a:lnTo>
                  <a:pt x="24088" y="901"/>
                </a:lnTo>
                <a:lnTo>
                  <a:pt x="26973" y="601"/>
                </a:lnTo>
                <a:lnTo>
                  <a:pt x="29889" y="400"/>
                </a:lnTo>
                <a:lnTo>
                  <a:pt x="32825" y="267"/>
                </a:lnTo>
                <a:lnTo>
                  <a:pt x="38731" y="119"/>
                </a:lnTo>
                <a:lnTo>
                  <a:pt x="151805" y="0"/>
                </a:lnTo>
              </a:path>
            </a:pathLst>
          </a:custGeom>
          <a:noFill/>
          <a:ln w="38160">
            <a:solidFill>
              <a:srgbClr val="009300"/>
            </a:solidFill>
            <a:round/>
          </a:ln>
        </p:spPr>
        <p:style>
          <a:lnRef idx="0"/>
          <a:fillRef idx="0"/>
          <a:effectRef idx="0"/>
          <a:fontRef idx="minor"/>
        </p:style>
        <p:txBody>
          <a:bodyPr wrap="none" tIns="-18360" bIns="-18360" anchor="t">
            <a:noAutofit/>
          </a:bodyPr>
          <a:p>
            <a:endParaRPr b="0" lang="en-US" sz="2400" spc="-1" strike="noStrike">
              <a:solidFill>
                <a:srgbClr val="ffffcc"/>
              </a:solidFill>
              <a:latin typeface="Times New Roman"/>
            </a:endParaRPr>
          </a:p>
        </p:txBody>
      </p:sp>
      <p:sp>
        <p:nvSpPr>
          <p:cNvPr id="150" name="SMARTInkAnnotation29"/>
          <p:cNvSpPr/>
          <p:nvPr/>
        </p:nvSpPr>
        <p:spPr>
          <a:xfrm>
            <a:off x="6821640" y="4321080"/>
            <a:ext cx="144360" cy="36720"/>
          </a:xfrm>
          <a:custGeom>
            <a:avLst/>
            <a:gdLst>
              <a:gd name="textAreaLeft" fmla="*/ 0 w 144360"/>
              <a:gd name="textAreaRight" fmla="*/ 144720 w 144360"/>
              <a:gd name="textAreaTop" fmla="*/ 0 h 36720"/>
              <a:gd name="textAreaBottom" fmla="*/ 37080 h 36720"/>
            </a:gdLst>
            <a:ahLst/>
            <a:rect l="textAreaLeft" t="textAreaTop" r="textAreaRight" b="textAreaBottom"/>
            <a:pathLst>
              <a:path w="142876" h="35720">
                <a:moveTo>
                  <a:pt x="0" y="35719"/>
                </a:moveTo>
                <a:lnTo>
                  <a:pt x="0" y="28030"/>
                </a:lnTo>
                <a:lnTo>
                  <a:pt x="992" y="27617"/>
                </a:lnTo>
                <a:lnTo>
                  <a:pt x="4740" y="27157"/>
                </a:lnTo>
                <a:lnTo>
                  <a:pt x="6137" y="26042"/>
                </a:lnTo>
                <a:lnTo>
                  <a:pt x="7068" y="24307"/>
                </a:lnTo>
                <a:lnTo>
                  <a:pt x="7688" y="22157"/>
                </a:lnTo>
                <a:lnTo>
                  <a:pt x="9094" y="20725"/>
                </a:lnTo>
                <a:lnTo>
                  <a:pt x="11024" y="19770"/>
                </a:lnTo>
                <a:lnTo>
                  <a:pt x="13302" y="19133"/>
                </a:lnTo>
                <a:lnTo>
                  <a:pt x="16805" y="17717"/>
                </a:lnTo>
                <a:lnTo>
                  <a:pt x="21125" y="15780"/>
                </a:lnTo>
                <a:lnTo>
                  <a:pt x="25990" y="13496"/>
                </a:lnTo>
                <a:lnTo>
                  <a:pt x="30225" y="11974"/>
                </a:lnTo>
                <a:lnTo>
                  <a:pt x="34040" y="10959"/>
                </a:lnTo>
                <a:lnTo>
                  <a:pt x="37577" y="10283"/>
                </a:lnTo>
                <a:lnTo>
                  <a:pt x="41918" y="8840"/>
                </a:lnTo>
                <a:lnTo>
                  <a:pt x="46797" y="6885"/>
                </a:lnTo>
                <a:lnTo>
                  <a:pt x="52033" y="4591"/>
                </a:lnTo>
                <a:lnTo>
                  <a:pt x="57509" y="3060"/>
                </a:lnTo>
                <a:lnTo>
                  <a:pt x="63145" y="2040"/>
                </a:lnTo>
                <a:lnTo>
                  <a:pt x="68885" y="1360"/>
                </a:lnTo>
                <a:lnTo>
                  <a:pt x="74696" y="906"/>
                </a:lnTo>
                <a:lnTo>
                  <a:pt x="80555" y="605"/>
                </a:lnTo>
                <a:lnTo>
                  <a:pt x="92356" y="268"/>
                </a:lnTo>
                <a:lnTo>
                  <a:pt x="142875" y="0"/>
                </a:lnTo>
              </a:path>
            </a:pathLst>
          </a:custGeom>
          <a:noFill/>
          <a:ln w="38160">
            <a:solidFill>
              <a:srgbClr val="009300"/>
            </a:solidFill>
            <a:round/>
          </a:ln>
        </p:spPr>
        <p:style>
          <a:lnRef idx="0"/>
          <a:fillRef idx="0"/>
          <a:effectRef idx="0"/>
          <a:fontRef idx="minor"/>
        </p:style>
        <p:txBody>
          <a:bodyPr wrap="none" tIns="-8640" bIns="-8640" anchor="t">
            <a:noAutofit/>
          </a:bodyPr>
          <a:p>
            <a:endParaRPr b="0" lang="en-US" sz="2400" spc="-1" strike="noStrike">
              <a:solidFill>
                <a:srgbClr val="ffffcc"/>
              </a:solidFill>
              <a:latin typeface="Times New Roman"/>
            </a:endParaRPr>
          </a:p>
        </p:txBody>
      </p:sp>
      <p:sp>
        <p:nvSpPr>
          <p:cNvPr id="151" name="SMARTInkAnnotation30"/>
          <p:cNvSpPr/>
          <p:nvPr/>
        </p:nvSpPr>
        <p:spPr>
          <a:xfrm>
            <a:off x="7045200" y="4098960"/>
            <a:ext cx="139680" cy="342720"/>
          </a:xfrm>
          <a:custGeom>
            <a:avLst/>
            <a:gdLst>
              <a:gd name="textAreaLeft" fmla="*/ 0 w 139680"/>
              <a:gd name="textAreaRight" fmla="*/ 140040 w 139680"/>
              <a:gd name="textAreaTop" fmla="*/ 0 h 342720"/>
              <a:gd name="textAreaBottom" fmla="*/ 343080 h 342720"/>
            </a:gdLst>
            <a:ahLst/>
            <a:rect l="textAreaLeft" t="textAreaTop" r="textAreaRight" b="textAreaBottom"/>
            <a:pathLst>
              <a:path w="138735" h="343150">
                <a:moveTo>
                  <a:pt x="0" y="17824"/>
                </a:moveTo>
                <a:lnTo>
                  <a:pt x="0" y="13084"/>
                </a:lnTo>
                <a:lnTo>
                  <a:pt x="992" y="11688"/>
                </a:lnTo>
                <a:lnTo>
                  <a:pt x="2645" y="10757"/>
                </a:lnTo>
                <a:lnTo>
                  <a:pt x="4740" y="10136"/>
                </a:lnTo>
                <a:lnTo>
                  <a:pt x="6137" y="8730"/>
                </a:lnTo>
                <a:lnTo>
                  <a:pt x="7068" y="6800"/>
                </a:lnTo>
                <a:lnTo>
                  <a:pt x="7688" y="4522"/>
                </a:lnTo>
                <a:lnTo>
                  <a:pt x="9094" y="3003"/>
                </a:lnTo>
                <a:lnTo>
                  <a:pt x="11024" y="1990"/>
                </a:lnTo>
                <a:lnTo>
                  <a:pt x="13302" y="1315"/>
                </a:lnTo>
                <a:lnTo>
                  <a:pt x="15814" y="865"/>
                </a:lnTo>
                <a:lnTo>
                  <a:pt x="18479" y="565"/>
                </a:lnTo>
                <a:lnTo>
                  <a:pt x="21249" y="365"/>
                </a:lnTo>
                <a:lnTo>
                  <a:pt x="24088" y="231"/>
                </a:lnTo>
                <a:lnTo>
                  <a:pt x="29888" y="83"/>
                </a:lnTo>
                <a:lnTo>
                  <a:pt x="43472" y="0"/>
                </a:lnTo>
                <a:lnTo>
                  <a:pt x="47833" y="981"/>
                </a:lnTo>
                <a:lnTo>
                  <a:pt x="51732" y="2627"/>
                </a:lnTo>
                <a:lnTo>
                  <a:pt x="55324" y="4716"/>
                </a:lnTo>
                <a:lnTo>
                  <a:pt x="64606" y="9683"/>
                </a:lnTo>
                <a:lnTo>
                  <a:pt x="69860" y="12397"/>
                </a:lnTo>
                <a:lnTo>
                  <a:pt x="74354" y="16190"/>
                </a:lnTo>
                <a:lnTo>
                  <a:pt x="78342" y="20704"/>
                </a:lnTo>
                <a:lnTo>
                  <a:pt x="81994" y="25697"/>
                </a:lnTo>
                <a:lnTo>
                  <a:pt x="86412" y="30018"/>
                </a:lnTo>
                <a:lnTo>
                  <a:pt x="91342" y="33891"/>
                </a:lnTo>
                <a:lnTo>
                  <a:pt x="96613" y="37465"/>
                </a:lnTo>
                <a:lnTo>
                  <a:pt x="101120" y="42824"/>
                </a:lnTo>
                <a:lnTo>
                  <a:pt x="105116" y="49374"/>
                </a:lnTo>
                <a:lnTo>
                  <a:pt x="118659" y="76532"/>
                </a:lnTo>
                <a:lnTo>
                  <a:pt x="121771" y="83752"/>
                </a:lnTo>
                <a:lnTo>
                  <a:pt x="124837" y="91541"/>
                </a:lnTo>
                <a:lnTo>
                  <a:pt x="127874" y="99711"/>
                </a:lnTo>
                <a:lnTo>
                  <a:pt x="129897" y="108134"/>
                </a:lnTo>
                <a:lnTo>
                  <a:pt x="131246" y="116726"/>
                </a:lnTo>
                <a:lnTo>
                  <a:pt x="132145" y="125431"/>
                </a:lnTo>
                <a:lnTo>
                  <a:pt x="133738" y="134210"/>
                </a:lnTo>
                <a:lnTo>
                  <a:pt x="135792" y="143040"/>
                </a:lnTo>
                <a:lnTo>
                  <a:pt x="138153" y="151903"/>
                </a:lnTo>
                <a:lnTo>
                  <a:pt x="138734" y="161780"/>
                </a:lnTo>
                <a:lnTo>
                  <a:pt x="138129" y="172334"/>
                </a:lnTo>
                <a:lnTo>
                  <a:pt x="136734" y="183339"/>
                </a:lnTo>
                <a:lnTo>
                  <a:pt x="135805" y="193652"/>
                </a:lnTo>
                <a:lnTo>
                  <a:pt x="135185" y="203503"/>
                </a:lnTo>
                <a:lnTo>
                  <a:pt x="134772" y="213048"/>
                </a:lnTo>
                <a:lnTo>
                  <a:pt x="133504" y="222387"/>
                </a:lnTo>
                <a:lnTo>
                  <a:pt x="131666" y="231590"/>
                </a:lnTo>
                <a:lnTo>
                  <a:pt x="129449" y="240702"/>
                </a:lnTo>
                <a:lnTo>
                  <a:pt x="126979" y="249753"/>
                </a:lnTo>
                <a:lnTo>
                  <a:pt x="121589" y="267748"/>
                </a:lnTo>
                <a:lnTo>
                  <a:pt x="118762" y="275721"/>
                </a:lnTo>
                <a:lnTo>
                  <a:pt x="115885" y="283021"/>
                </a:lnTo>
                <a:lnTo>
                  <a:pt x="112976" y="289872"/>
                </a:lnTo>
                <a:lnTo>
                  <a:pt x="107097" y="302776"/>
                </a:lnTo>
                <a:lnTo>
                  <a:pt x="104140" y="308995"/>
                </a:lnTo>
                <a:lnTo>
                  <a:pt x="100185" y="314133"/>
                </a:lnTo>
                <a:lnTo>
                  <a:pt x="95564" y="318552"/>
                </a:lnTo>
                <a:lnTo>
                  <a:pt x="90498" y="322489"/>
                </a:lnTo>
                <a:lnTo>
                  <a:pt x="85137" y="326106"/>
                </a:lnTo>
                <a:lnTo>
                  <a:pt x="79578" y="329509"/>
                </a:lnTo>
                <a:lnTo>
                  <a:pt x="73888" y="332770"/>
                </a:lnTo>
                <a:lnTo>
                  <a:pt x="69103" y="335937"/>
                </a:lnTo>
                <a:lnTo>
                  <a:pt x="64920" y="339040"/>
                </a:lnTo>
                <a:lnTo>
                  <a:pt x="61139" y="342101"/>
                </a:lnTo>
                <a:lnTo>
                  <a:pt x="56634" y="343149"/>
                </a:lnTo>
                <a:lnTo>
                  <a:pt x="51646" y="342856"/>
                </a:lnTo>
                <a:lnTo>
                  <a:pt x="46337" y="341668"/>
                </a:lnTo>
                <a:lnTo>
                  <a:pt x="41806" y="340876"/>
                </a:lnTo>
                <a:lnTo>
                  <a:pt x="37792" y="340349"/>
                </a:lnTo>
                <a:lnTo>
                  <a:pt x="34124" y="339997"/>
                </a:lnTo>
                <a:lnTo>
                  <a:pt x="29695" y="338770"/>
                </a:lnTo>
                <a:lnTo>
                  <a:pt x="24757" y="336960"/>
                </a:lnTo>
                <a:lnTo>
                  <a:pt x="19482" y="334761"/>
                </a:lnTo>
                <a:lnTo>
                  <a:pt x="14973" y="332303"/>
                </a:lnTo>
                <a:lnTo>
                  <a:pt x="10973" y="329672"/>
                </a:lnTo>
                <a:lnTo>
                  <a:pt x="7316" y="326926"/>
                </a:lnTo>
                <a:lnTo>
                  <a:pt x="4877" y="324103"/>
                </a:lnTo>
                <a:lnTo>
                  <a:pt x="3251" y="321229"/>
                </a:lnTo>
                <a:lnTo>
                  <a:pt x="1445" y="315389"/>
                </a:lnTo>
                <a:lnTo>
                  <a:pt x="190" y="305326"/>
                </a:lnTo>
                <a:lnTo>
                  <a:pt x="17" y="296039"/>
                </a:lnTo>
                <a:lnTo>
                  <a:pt x="2652" y="292619"/>
                </a:lnTo>
                <a:lnTo>
                  <a:pt x="7689" y="287079"/>
                </a:lnTo>
                <a:lnTo>
                  <a:pt x="9095" y="287616"/>
                </a:lnTo>
                <a:lnTo>
                  <a:pt x="13303" y="290859"/>
                </a:lnTo>
                <a:lnTo>
                  <a:pt x="15814" y="292121"/>
                </a:lnTo>
                <a:lnTo>
                  <a:pt x="18479" y="292962"/>
                </a:lnTo>
                <a:lnTo>
                  <a:pt x="21249" y="293523"/>
                </a:lnTo>
                <a:lnTo>
                  <a:pt x="24088" y="294889"/>
                </a:lnTo>
                <a:lnTo>
                  <a:pt x="26973" y="296792"/>
                </a:lnTo>
                <a:lnTo>
                  <a:pt x="29888" y="299052"/>
                </a:lnTo>
                <a:lnTo>
                  <a:pt x="32824" y="300560"/>
                </a:lnTo>
                <a:lnTo>
                  <a:pt x="35773" y="301564"/>
                </a:lnTo>
                <a:lnTo>
                  <a:pt x="38731" y="302234"/>
                </a:lnTo>
                <a:lnTo>
                  <a:pt x="42688" y="304665"/>
                </a:lnTo>
                <a:lnTo>
                  <a:pt x="47309" y="308271"/>
                </a:lnTo>
                <a:lnTo>
                  <a:pt x="52376" y="312658"/>
                </a:lnTo>
                <a:lnTo>
                  <a:pt x="56745" y="316575"/>
                </a:lnTo>
                <a:lnTo>
                  <a:pt x="71437" y="330364"/>
                </a:lnTo>
              </a:path>
            </a:pathLst>
          </a:custGeom>
          <a:noFill/>
          <a:ln w="38160">
            <a:solidFill>
              <a:srgbClr val="009300"/>
            </a:solidFill>
            <a:round/>
          </a:ln>
        </p:spPr>
        <p:style>
          <a:lnRef idx="0"/>
          <a:fillRef idx="0"/>
          <a:effectRef idx="0"/>
          <a:fontRef idx="minor"/>
        </p:style>
        <p:txBody>
          <a:bodyPr wrap="none" anchor="t">
            <a:noAutofit/>
          </a:bodyPr>
          <a:p>
            <a:endParaRPr b="0" lang="en-US" sz="2400" spc="-1" strike="noStrike">
              <a:solidFill>
                <a:srgbClr val="ffffcc"/>
              </a:solidFill>
              <a:latin typeface="Times New Roman"/>
            </a:endParaRPr>
          </a:p>
        </p:txBody>
      </p:sp>
      <p:sp>
        <p:nvSpPr>
          <p:cNvPr id="152" name="Freeform 34"/>
          <p:cNvSpPr/>
          <p:nvPr/>
        </p:nvSpPr>
        <p:spPr>
          <a:xfrm>
            <a:off x="7197840" y="4456080"/>
            <a:ext cx="1440" cy="360"/>
          </a:xfrm>
          <a:custGeom>
            <a:avLst/>
            <a:gdLst>
              <a:gd name="textAreaLeft" fmla="*/ 0 w 1440"/>
              <a:gd name="textAreaRight" fmla="*/ 1800 w 1440"/>
              <a:gd name="textAreaTop" fmla="*/ 0 h 360"/>
              <a:gd name="textAreaBottom" fmla="*/ 720 h 360"/>
            </a:gdLst>
            <a:ahLst/>
            <a:rect l="textAreaLeft" t="textAreaTop" r="textAreaRight" b="textAreaBottom"/>
            <a:pathLst>
              <a:path w="2645" h="1">
                <a:moveTo>
                  <a:pt x="0" y="0"/>
                </a:moveTo>
                <a:lnTo>
                  <a:pt x="2644" y="0"/>
                </a:lnTo>
                <a:close/>
              </a:path>
            </a:pathLst>
          </a:custGeom>
          <a:solidFill>
            <a:srgbClr val="cc0099"/>
          </a:solidFill>
          <a:ln w="38160">
            <a:solidFill>
              <a:srgbClr val="009300"/>
            </a:solidFill>
            <a:round/>
          </a:ln>
        </p:spPr>
        <p:style>
          <a:lnRef idx="0"/>
          <a:fillRef idx="0"/>
          <a:effectRef idx="0"/>
          <a:fontRef idx="minor"/>
        </p:style>
        <p:txBody>
          <a:bodyPr wrap="none" tIns="-45000" bIns="-45000" anchor="t">
            <a:noAutofit/>
          </a:bodyPr>
          <a:p>
            <a:endParaRPr b="0" lang="en-US" sz="2400" spc="-1" strike="noStrike">
              <a:solidFill>
                <a:srgbClr val="ffffcc"/>
              </a:solidFill>
              <a:latin typeface="Times New Roman"/>
            </a:endParaRPr>
          </a:p>
        </p:txBody>
      </p:sp>
      <p:sp>
        <p:nvSpPr>
          <p:cNvPr id="153" name="SMARTInkAnnotation32"/>
          <p:cNvSpPr/>
          <p:nvPr/>
        </p:nvSpPr>
        <p:spPr>
          <a:xfrm>
            <a:off x="7259760" y="4197240"/>
            <a:ext cx="142920" cy="285840"/>
          </a:xfrm>
          <a:custGeom>
            <a:avLst/>
            <a:gdLst>
              <a:gd name="textAreaLeft" fmla="*/ 0 w 142920"/>
              <a:gd name="textAreaRight" fmla="*/ 143280 w 142920"/>
              <a:gd name="textAreaTop" fmla="*/ 0 h 285840"/>
              <a:gd name="textAreaBottom" fmla="*/ 286200 h 285840"/>
            </a:gdLst>
            <a:ahLst/>
            <a:rect l="textAreaLeft" t="textAreaTop" r="textAreaRight" b="textAreaBottom"/>
            <a:pathLst>
              <a:path w="142859" h="285629">
                <a:moveTo>
                  <a:pt x="142858" y="44526"/>
                </a:moveTo>
                <a:lnTo>
                  <a:pt x="142858" y="14638"/>
                </a:lnTo>
                <a:lnTo>
                  <a:pt x="141866" y="12694"/>
                </a:lnTo>
                <a:lnTo>
                  <a:pt x="140213" y="11399"/>
                </a:lnTo>
                <a:lnTo>
                  <a:pt x="138118" y="10535"/>
                </a:lnTo>
                <a:lnTo>
                  <a:pt x="135729" y="8967"/>
                </a:lnTo>
                <a:lnTo>
                  <a:pt x="133145" y="6930"/>
                </a:lnTo>
                <a:lnTo>
                  <a:pt x="130430" y="4579"/>
                </a:lnTo>
                <a:lnTo>
                  <a:pt x="127627" y="3012"/>
                </a:lnTo>
                <a:lnTo>
                  <a:pt x="124767" y="1967"/>
                </a:lnTo>
                <a:lnTo>
                  <a:pt x="121867" y="1270"/>
                </a:lnTo>
                <a:lnTo>
                  <a:pt x="117951" y="806"/>
                </a:lnTo>
                <a:lnTo>
                  <a:pt x="113355" y="497"/>
                </a:lnTo>
                <a:lnTo>
                  <a:pt x="108306" y="290"/>
                </a:lnTo>
                <a:lnTo>
                  <a:pt x="97405" y="61"/>
                </a:lnTo>
                <a:lnTo>
                  <a:pt x="91721" y="0"/>
                </a:lnTo>
                <a:lnTo>
                  <a:pt x="86938" y="951"/>
                </a:lnTo>
                <a:lnTo>
                  <a:pt x="82758" y="2577"/>
                </a:lnTo>
                <a:lnTo>
                  <a:pt x="78979" y="4654"/>
                </a:lnTo>
                <a:lnTo>
                  <a:pt x="74475" y="6039"/>
                </a:lnTo>
                <a:lnTo>
                  <a:pt x="69488" y="6961"/>
                </a:lnTo>
                <a:lnTo>
                  <a:pt x="64179" y="7576"/>
                </a:lnTo>
                <a:lnTo>
                  <a:pt x="58656" y="8979"/>
                </a:lnTo>
                <a:lnTo>
                  <a:pt x="52989" y="10906"/>
                </a:lnTo>
                <a:lnTo>
                  <a:pt x="47227" y="13183"/>
                </a:lnTo>
                <a:lnTo>
                  <a:pt x="42393" y="14700"/>
                </a:lnTo>
                <a:lnTo>
                  <a:pt x="38179" y="15712"/>
                </a:lnTo>
                <a:lnTo>
                  <a:pt x="34376" y="16387"/>
                </a:lnTo>
                <a:lnTo>
                  <a:pt x="29858" y="17829"/>
                </a:lnTo>
                <a:lnTo>
                  <a:pt x="24860" y="19783"/>
                </a:lnTo>
                <a:lnTo>
                  <a:pt x="19545" y="22077"/>
                </a:lnTo>
                <a:lnTo>
                  <a:pt x="15009" y="24599"/>
                </a:lnTo>
                <a:lnTo>
                  <a:pt x="10992" y="27272"/>
                </a:lnTo>
                <a:lnTo>
                  <a:pt x="7323" y="30047"/>
                </a:lnTo>
                <a:lnTo>
                  <a:pt x="4876" y="32889"/>
                </a:lnTo>
                <a:lnTo>
                  <a:pt x="3245" y="35776"/>
                </a:lnTo>
                <a:lnTo>
                  <a:pt x="1433" y="41629"/>
                </a:lnTo>
                <a:lnTo>
                  <a:pt x="414" y="50502"/>
                </a:lnTo>
                <a:lnTo>
                  <a:pt x="111" y="59416"/>
                </a:lnTo>
                <a:lnTo>
                  <a:pt x="0" y="74292"/>
                </a:lnTo>
                <a:lnTo>
                  <a:pt x="2637" y="82891"/>
                </a:lnTo>
                <a:lnTo>
                  <a:pt x="4729" y="87962"/>
                </a:lnTo>
                <a:lnTo>
                  <a:pt x="7116" y="92334"/>
                </a:lnTo>
                <a:lnTo>
                  <a:pt x="9700" y="96242"/>
                </a:lnTo>
                <a:lnTo>
                  <a:pt x="12414" y="99839"/>
                </a:lnTo>
                <a:lnTo>
                  <a:pt x="16208" y="103229"/>
                </a:lnTo>
                <a:lnTo>
                  <a:pt x="20722" y="106482"/>
                </a:lnTo>
                <a:lnTo>
                  <a:pt x="25716" y="109642"/>
                </a:lnTo>
                <a:lnTo>
                  <a:pt x="30036" y="112741"/>
                </a:lnTo>
                <a:lnTo>
                  <a:pt x="33909" y="115800"/>
                </a:lnTo>
                <a:lnTo>
                  <a:pt x="37483" y="118831"/>
                </a:lnTo>
                <a:lnTo>
                  <a:pt x="40858" y="121844"/>
                </a:lnTo>
                <a:lnTo>
                  <a:pt x="47253" y="127837"/>
                </a:lnTo>
                <a:lnTo>
                  <a:pt x="51342" y="130824"/>
                </a:lnTo>
                <a:lnTo>
                  <a:pt x="56050" y="133808"/>
                </a:lnTo>
                <a:lnTo>
                  <a:pt x="61174" y="136789"/>
                </a:lnTo>
                <a:lnTo>
                  <a:pt x="66574" y="139769"/>
                </a:lnTo>
                <a:lnTo>
                  <a:pt x="77866" y="145726"/>
                </a:lnTo>
                <a:lnTo>
                  <a:pt x="82663" y="149696"/>
                </a:lnTo>
                <a:lnTo>
                  <a:pt x="86853" y="154327"/>
                </a:lnTo>
                <a:lnTo>
                  <a:pt x="90639" y="159399"/>
                </a:lnTo>
                <a:lnTo>
                  <a:pt x="100136" y="172971"/>
                </a:lnTo>
                <a:lnTo>
                  <a:pt x="105447" y="180758"/>
                </a:lnTo>
                <a:lnTo>
                  <a:pt x="109980" y="186941"/>
                </a:lnTo>
                <a:lnTo>
                  <a:pt x="113994" y="192055"/>
                </a:lnTo>
                <a:lnTo>
                  <a:pt x="117662" y="196457"/>
                </a:lnTo>
                <a:lnTo>
                  <a:pt x="121101" y="201376"/>
                </a:lnTo>
                <a:lnTo>
                  <a:pt x="124384" y="206639"/>
                </a:lnTo>
                <a:lnTo>
                  <a:pt x="127565" y="212133"/>
                </a:lnTo>
                <a:lnTo>
                  <a:pt x="131102" y="220882"/>
                </a:lnTo>
                <a:lnTo>
                  <a:pt x="132671" y="229071"/>
                </a:lnTo>
                <a:lnTo>
                  <a:pt x="133090" y="234032"/>
                </a:lnTo>
                <a:lnTo>
                  <a:pt x="133556" y="243845"/>
                </a:lnTo>
                <a:lnTo>
                  <a:pt x="133763" y="251513"/>
                </a:lnTo>
                <a:lnTo>
                  <a:pt x="132826" y="254947"/>
                </a:lnTo>
                <a:lnTo>
                  <a:pt x="129138" y="261409"/>
                </a:lnTo>
                <a:lnTo>
                  <a:pt x="126767" y="264520"/>
                </a:lnTo>
                <a:lnTo>
                  <a:pt x="124194" y="267587"/>
                </a:lnTo>
                <a:lnTo>
                  <a:pt x="121485" y="270624"/>
                </a:lnTo>
                <a:lnTo>
                  <a:pt x="118687" y="272649"/>
                </a:lnTo>
                <a:lnTo>
                  <a:pt x="115831" y="273998"/>
                </a:lnTo>
                <a:lnTo>
                  <a:pt x="112934" y="274898"/>
                </a:lnTo>
                <a:lnTo>
                  <a:pt x="109018" y="275498"/>
                </a:lnTo>
                <a:lnTo>
                  <a:pt x="104423" y="275898"/>
                </a:lnTo>
                <a:lnTo>
                  <a:pt x="99376" y="276165"/>
                </a:lnTo>
                <a:lnTo>
                  <a:pt x="94026" y="277334"/>
                </a:lnTo>
                <a:lnTo>
                  <a:pt x="88476" y="279106"/>
                </a:lnTo>
                <a:lnTo>
                  <a:pt x="82791" y="281280"/>
                </a:lnTo>
                <a:lnTo>
                  <a:pt x="78008" y="282729"/>
                </a:lnTo>
                <a:lnTo>
                  <a:pt x="73829" y="283695"/>
                </a:lnTo>
                <a:lnTo>
                  <a:pt x="70050" y="284339"/>
                </a:lnTo>
                <a:lnTo>
                  <a:pt x="65545" y="284769"/>
                </a:lnTo>
                <a:lnTo>
                  <a:pt x="60559" y="285055"/>
                </a:lnTo>
                <a:lnTo>
                  <a:pt x="50718" y="285373"/>
                </a:lnTo>
                <a:lnTo>
                  <a:pt x="36317" y="285577"/>
                </a:lnTo>
                <a:lnTo>
                  <a:pt x="8913" y="285628"/>
                </a:lnTo>
              </a:path>
            </a:pathLst>
          </a:custGeom>
          <a:noFill/>
          <a:ln w="38160">
            <a:solidFill>
              <a:srgbClr val="009300"/>
            </a:solidFill>
            <a:round/>
          </a:ln>
        </p:spPr>
        <p:style>
          <a:lnRef idx="0"/>
          <a:fillRef idx="0"/>
          <a:effectRef idx="0"/>
          <a:fontRef idx="minor"/>
        </p:style>
        <p:txBody>
          <a:bodyPr wrap="none" anchor="t">
            <a:noAutofit/>
          </a:bodyPr>
          <a:p>
            <a:endParaRPr b="0" lang="en-US" sz="2400" spc="-1" strike="noStrike">
              <a:solidFill>
                <a:srgbClr val="ffffcc"/>
              </a:solidFill>
              <a:latin typeface="Times New Roman"/>
            </a:endParaRPr>
          </a:p>
        </p:txBody>
      </p:sp>
      <p:sp>
        <p:nvSpPr>
          <p:cNvPr id="154" name="SMARTInkAnnotation33"/>
          <p:cNvSpPr/>
          <p:nvPr/>
        </p:nvSpPr>
        <p:spPr>
          <a:xfrm>
            <a:off x="7412040" y="4419720"/>
            <a:ext cx="150840" cy="142920"/>
          </a:xfrm>
          <a:custGeom>
            <a:avLst/>
            <a:gdLst>
              <a:gd name="textAreaLeft" fmla="*/ 0 w 150840"/>
              <a:gd name="textAreaRight" fmla="*/ 151200 w 150840"/>
              <a:gd name="textAreaTop" fmla="*/ 0 h 142920"/>
              <a:gd name="textAreaBottom" fmla="*/ 143280 h 142920"/>
            </a:gdLst>
            <a:ahLst/>
            <a:rect l="textAreaLeft" t="textAreaTop" r="textAreaRight" b="textAreaBottom"/>
            <a:pathLst>
              <a:path w="151434" h="142876">
                <a:moveTo>
                  <a:pt x="26788" y="0"/>
                </a:moveTo>
                <a:lnTo>
                  <a:pt x="26788" y="12429"/>
                </a:lnTo>
                <a:lnTo>
                  <a:pt x="25796" y="15231"/>
                </a:lnTo>
                <a:lnTo>
                  <a:pt x="24143" y="18091"/>
                </a:lnTo>
                <a:lnTo>
                  <a:pt x="22048" y="20990"/>
                </a:lnTo>
                <a:lnTo>
                  <a:pt x="20651" y="23915"/>
                </a:lnTo>
                <a:lnTo>
                  <a:pt x="19720" y="26857"/>
                </a:lnTo>
                <a:lnTo>
                  <a:pt x="19100" y="29811"/>
                </a:lnTo>
                <a:lnTo>
                  <a:pt x="18686" y="33764"/>
                </a:lnTo>
                <a:lnTo>
                  <a:pt x="18410" y="38384"/>
                </a:lnTo>
                <a:lnTo>
                  <a:pt x="18226" y="43449"/>
                </a:lnTo>
                <a:lnTo>
                  <a:pt x="17111" y="48810"/>
                </a:lnTo>
                <a:lnTo>
                  <a:pt x="15376" y="54368"/>
                </a:lnTo>
                <a:lnTo>
                  <a:pt x="13227" y="60058"/>
                </a:lnTo>
                <a:lnTo>
                  <a:pt x="11793" y="65835"/>
                </a:lnTo>
                <a:lnTo>
                  <a:pt x="10839" y="71671"/>
                </a:lnTo>
                <a:lnTo>
                  <a:pt x="10202" y="77547"/>
                </a:lnTo>
                <a:lnTo>
                  <a:pt x="9778" y="82455"/>
                </a:lnTo>
                <a:lnTo>
                  <a:pt x="9495" y="86720"/>
                </a:lnTo>
                <a:lnTo>
                  <a:pt x="9306" y="90556"/>
                </a:lnTo>
                <a:lnTo>
                  <a:pt x="8188" y="94105"/>
                </a:lnTo>
                <a:lnTo>
                  <a:pt x="6450" y="97463"/>
                </a:lnTo>
                <a:lnTo>
                  <a:pt x="4300" y="100694"/>
                </a:lnTo>
                <a:lnTo>
                  <a:pt x="2866" y="103840"/>
                </a:lnTo>
                <a:lnTo>
                  <a:pt x="1911" y="106930"/>
                </a:lnTo>
                <a:lnTo>
                  <a:pt x="15" y="116015"/>
                </a:lnTo>
                <a:lnTo>
                  <a:pt x="8" y="116038"/>
                </a:lnTo>
                <a:lnTo>
                  <a:pt x="0" y="103652"/>
                </a:lnTo>
                <a:lnTo>
                  <a:pt x="992" y="99859"/>
                </a:lnTo>
                <a:lnTo>
                  <a:pt x="2645" y="95346"/>
                </a:lnTo>
                <a:lnTo>
                  <a:pt x="4739" y="90353"/>
                </a:lnTo>
                <a:lnTo>
                  <a:pt x="6136" y="85040"/>
                </a:lnTo>
                <a:lnTo>
                  <a:pt x="7067" y="79514"/>
                </a:lnTo>
                <a:lnTo>
                  <a:pt x="7687" y="73845"/>
                </a:lnTo>
                <a:lnTo>
                  <a:pt x="9093" y="68081"/>
                </a:lnTo>
                <a:lnTo>
                  <a:pt x="11023" y="62255"/>
                </a:lnTo>
                <a:lnTo>
                  <a:pt x="13301" y="56386"/>
                </a:lnTo>
                <a:lnTo>
                  <a:pt x="15813" y="50489"/>
                </a:lnTo>
                <a:lnTo>
                  <a:pt x="21248" y="38645"/>
                </a:lnTo>
                <a:lnTo>
                  <a:pt x="24087" y="33700"/>
                </a:lnTo>
                <a:lnTo>
                  <a:pt x="26972" y="29412"/>
                </a:lnTo>
                <a:lnTo>
                  <a:pt x="29887" y="25561"/>
                </a:lnTo>
                <a:lnTo>
                  <a:pt x="32823" y="22002"/>
                </a:lnTo>
                <a:lnTo>
                  <a:pt x="35772" y="18636"/>
                </a:lnTo>
                <a:lnTo>
                  <a:pt x="38730" y="15400"/>
                </a:lnTo>
                <a:lnTo>
                  <a:pt x="44663" y="9159"/>
                </a:lnTo>
                <a:lnTo>
                  <a:pt x="51816" y="1809"/>
                </a:lnTo>
                <a:lnTo>
                  <a:pt x="53395" y="1206"/>
                </a:lnTo>
                <a:lnTo>
                  <a:pt x="57796" y="536"/>
                </a:lnTo>
                <a:lnTo>
                  <a:pt x="62384" y="14"/>
                </a:lnTo>
                <a:lnTo>
                  <a:pt x="62452" y="2652"/>
                </a:lnTo>
                <a:lnTo>
                  <a:pt x="62471" y="4744"/>
                </a:lnTo>
                <a:lnTo>
                  <a:pt x="63475" y="7132"/>
                </a:lnTo>
                <a:lnTo>
                  <a:pt x="65136" y="9715"/>
                </a:lnTo>
                <a:lnTo>
                  <a:pt x="67236" y="12430"/>
                </a:lnTo>
                <a:lnTo>
                  <a:pt x="68636" y="16224"/>
                </a:lnTo>
                <a:lnTo>
                  <a:pt x="69569" y="20738"/>
                </a:lnTo>
                <a:lnTo>
                  <a:pt x="70193" y="25731"/>
                </a:lnTo>
                <a:lnTo>
                  <a:pt x="69615" y="31045"/>
                </a:lnTo>
                <a:lnTo>
                  <a:pt x="68238" y="36572"/>
                </a:lnTo>
                <a:lnTo>
                  <a:pt x="66327" y="42240"/>
                </a:lnTo>
                <a:lnTo>
                  <a:pt x="65054" y="47011"/>
                </a:lnTo>
                <a:lnTo>
                  <a:pt x="64205" y="51185"/>
                </a:lnTo>
                <a:lnTo>
                  <a:pt x="63639" y="54959"/>
                </a:lnTo>
                <a:lnTo>
                  <a:pt x="63261" y="59459"/>
                </a:lnTo>
                <a:lnTo>
                  <a:pt x="63010" y="64444"/>
                </a:lnTo>
                <a:lnTo>
                  <a:pt x="62656" y="78295"/>
                </a:lnTo>
                <a:lnTo>
                  <a:pt x="62508" y="105749"/>
                </a:lnTo>
                <a:lnTo>
                  <a:pt x="62508" y="101999"/>
                </a:lnTo>
                <a:lnTo>
                  <a:pt x="63499" y="100741"/>
                </a:lnTo>
                <a:lnTo>
                  <a:pt x="65153" y="99903"/>
                </a:lnTo>
                <a:lnTo>
                  <a:pt x="67248" y="99344"/>
                </a:lnTo>
                <a:lnTo>
                  <a:pt x="68644" y="97979"/>
                </a:lnTo>
                <a:lnTo>
                  <a:pt x="69575" y="96077"/>
                </a:lnTo>
                <a:lnTo>
                  <a:pt x="70195" y="93817"/>
                </a:lnTo>
                <a:lnTo>
                  <a:pt x="71601" y="91318"/>
                </a:lnTo>
                <a:lnTo>
                  <a:pt x="73531" y="88660"/>
                </a:lnTo>
                <a:lnTo>
                  <a:pt x="75809" y="85895"/>
                </a:lnTo>
                <a:lnTo>
                  <a:pt x="78321" y="83060"/>
                </a:lnTo>
                <a:lnTo>
                  <a:pt x="83756" y="77264"/>
                </a:lnTo>
                <a:lnTo>
                  <a:pt x="98280" y="62491"/>
                </a:lnTo>
                <a:lnTo>
                  <a:pt x="101238" y="59520"/>
                </a:lnTo>
                <a:lnTo>
                  <a:pt x="104203" y="57539"/>
                </a:lnTo>
                <a:lnTo>
                  <a:pt x="107171" y="56219"/>
                </a:lnTo>
                <a:lnTo>
                  <a:pt x="110143" y="55338"/>
                </a:lnTo>
                <a:lnTo>
                  <a:pt x="113115" y="53759"/>
                </a:lnTo>
                <a:lnTo>
                  <a:pt x="116090" y="51714"/>
                </a:lnTo>
                <a:lnTo>
                  <a:pt x="119065" y="49359"/>
                </a:lnTo>
                <a:lnTo>
                  <a:pt x="122041" y="47789"/>
                </a:lnTo>
                <a:lnTo>
                  <a:pt x="125016" y="46742"/>
                </a:lnTo>
                <a:lnTo>
                  <a:pt x="132180" y="45062"/>
                </a:lnTo>
                <a:lnTo>
                  <a:pt x="135807" y="44832"/>
                </a:lnTo>
                <a:lnTo>
                  <a:pt x="138163" y="44771"/>
                </a:lnTo>
                <a:lnTo>
                  <a:pt x="139733" y="45722"/>
                </a:lnTo>
                <a:lnTo>
                  <a:pt x="140780" y="47348"/>
                </a:lnTo>
                <a:lnTo>
                  <a:pt x="141943" y="51801"/>
                </a:lnTo>
                <a:lnTo>
                  <a:pt x="142253" y="54378"/>
                </a:lnTo>
                <a:lnTo>
                  <a:pt x="142460" y="57088"/>
                </a:lnTo>
                <a:lnTo>
                  <a:pt x="142599" y="59887"/>
                </a:lnTo>
                <a:lnTo>
                  <a:pt x="142752" y="65642"/>
                </a:lnTo>
                <a:lnTo>
                  <a:pt x="143784" y="68566"/>
                </a:lnTo>
                <a:lnTo>
                  <a:pt x="145465" y="71507"/>
                </a:lnTo>
                <a:lnTo>
                  <a:pt x="147578" y="74460"/>
                </a:lnTo>
                <a:lnTo>
                  <a:pt x="148986" y="77421"/>
                </a:lnTo>
                <a:lnTo>
                  <a:pt x="149926" y="80388"/>
                </a:lnTo>
                <a:lnTo>
                  <a:pt x="150552" y="83358"/>
                </a:lnTo>
                <a:lnTo>
                  <a:pt x="150969" y="87322"/>
                </a:lnTo>
                <a:lnTo>
                  <a:pt x="151247" y="91948"/>
                </a:lnTo>
                <a:lnTo>
                  <a:pt x="151433" y="97018"/>
                </a:lnTo>
                <a:lnTo>
                  <a:pt x="150564" y="101389"/>
                </a:lnTo>
                <a:lnTo>
                  <a:pt x="148994" y="105296"/>
                </a:lnTo>
                <a:lnTo>
                  <a:pt x="146954" y="108893"/>
                </a:lnTo>
                <a:lnTo>
                  <a:pt x="145594" y="112282"/>
                </a:lnTo>
                <a:lnTo>
                  <a:pt x="144688" y="115535"/>
                </a:lnTo>
                <a:lnTo>
                  <a:pt x="144083" y="118695"/>
                </a:lnTo>
                <a:lnTo>
                  <a:pt x="143680" y="121794"/>
                </a:lnTo>
                <a:lnTo>
                  <a:pt x="143412" y="124852"/>
                </a:lnTo>
                <a:lnTo>
                  <a:pt x="143231" y="127883"/>
                </a:lnTo>
                <a:lnTo>
                  <a:pt x="143034" y="133896"/>
                </a:lnTo>
                <a:lnTo>
                  <a:pt x="142874" y="142875"/>
                </a:lnTo>
              </a:path>
            </a:pathLst>
          </a:custGeom>
          <a:noFill/>
          <a:ln w="38160">
            <a:solidFill>
              <a:srgbClr val="009300"/>
            </a:solidFill>
            <a:round/>
          </a:ln>
        </p:spPr>
        <p:style>
          <a:lnRef idx="0"/>
          <a:fillRef idx="0"/>
          <a:effectRef idx="0"/>
          <a:fontRef idx="minor"/>
        </p:style>
        <p:txBody>
          <a:bodyPr wrap="none" anchor="t">
            <a:noAutofit/>
          </a:bodyPr>
          <a:p>
            <a:endParaRPr b="0" lang="en-US" sz="2400" spc="-1" strike="noStrike">
              <a:solidFill>
                <a:srgbClr val="ffffcc"/>
              </a:solidFill>
              <a:latin typeface="Times New Roman"/>
            </a:endParaRPr>
          </a:p>
        </p:txBody>
      </p:sp>
      <p:sp>
        <p:nvSpPr>
          <p:cNvPr id="155" name="SMARTInkAnnotation34"/>
          <p:cNvSpPr/>
          <p:nvPr/>
        </p:nvSpPr>
        <p:spPr>
          <a:xfrm>
            <a:off x="7589880" y="4340160"/>
            <a:ext cx="162000" cy="7920"/>
          </a:xfrm>
          <a:custGeom>
            <a:avLst/>
            <a:gdLst>
              <a:gd name="textAreaLeft" fmla="*/ 0 w 162000"/>
              <a:gd name="textAreaRight" fmla="*/ 162360 w 162000"/>
              <a:gd name="textAreaTop" fmla="*/ 0 h 7920"/>
              <a:gd name="textAreaBottom" fmla="*/ 8280 h 7920"/>
            </a:gdLst>
            <a:ahLst/>
            <a:rect l="textAreaLeft" t="textAreaTop" r="textAreaRight" b="textAreaBottom"/>
            <a:pathLst>
              <a:path w="160735" h="8930">
                <a:moveTo>
                  <a:pt x="0" y="8929"/>
                </a:moveTo>
                <a:lnTo>
                  <a:pt x="4740" y="4189"/>
                </a:lnTo>
                <a:lnTo>
                  <a:pt x="7129" y="2792"/>
                </a:lnTo>
                <a:lnTo>
                  <a:pt x="9712" y="1862"/>
                </a:lnTo>
                <a:lnTo>
                  <a:pt x="12428" y="1241"/>
                </a:lnTo>
                <a:lnTo>
                  <a:pt x="15231" y="827"/>
                </a:lnTo>
                <a:lnTo>
                  <a:pt x="18091" y="551"/>
                </a:lnTo>
                <a:lnTo>
                  <a:pt x="20990" y="367"/>
                </a:lnTo>
                <a:lnTo>
                  <a:pt x="29504" y="162"/>
                </a:lnTo>
                <a:lnTo>
                  <a:pt x="160734" y="0"/>
                </a:lnTo>
              </a:path>
            </a:pathLst>
          </a:custGeom>
          <a:noFill/>
          <a:ln w="38160">
            <a:solidFill>
              <a:srgbClr val="009300"/>
            </a:solidFill>
            <a:round/>
          </a:ln>
        </p:spPr>
        <p:style>
          <a:lnRef idx="0"/>
          <a:fillRef idx="0"/>
          <a:effectRef idx="0"/>
          <a:fontRef idx="minor"/>
        </p:style>
        <p:txBody>
          <a:bodyPr wrap="none" tIns="-37440" bIns="-37440" anchor="t">
            <a:noAutofit/>
          </a:bodyPr>
          <a:p>
            <a:endParaRPr b="0" lang="en-US" sz="2400" spc="-1" strike="noStrike">
              <a:solidFill>
                <a:srgbClr val="ffffcc"/>
              </a:solidFill>
              <a:latin typeface="Times New Roman"/>
            </a:endParaRPr>
          </a:p>
        </p:txBody>
      </p:sp>
      <p:sp>
        <p:nvSpPr>
          <p:cNvPr id="156" name="SMARTInkAnnotation35"/>
          <p:cNvSpPr/>
          <p:nvPr/>
        </p:nvSpPr>
        <p:spPr>
          <a:xfrm>
            <a:off x="7813800" y="4143240"/>
            <a:ext cx="44280" cy="419400"/>
          </a:xfrm>
          <a:custGeom>
            <a:avLst/>
            <a:gdLst>
              <a:gd name="textAreaLeft" fmla="*/ 0 w 44280"/>
              <a:gd name="textAreaRight" fmla="*/ 44280 w 44280"/>
              <a:gd name="textAreaTop" fmla="*/ 0 h 419400"/>
              <a:gd name="textAreaBottom" fmla="*/ 419760 h 419400"/>
            </a:gdLst>
            <a:ahLst/>
            <a:rect l="textAreaLeft" t="textAreaTop" r="textAreaRight" b="textAreaBottom"/>
            <a:pathLst>
              <a:path w="44650" h="419696">
                <a:moveTo>
                  <a:pt x="44649" y="0"/>
                </a:moveTo>
                <a:lnTo>
                  <a:pt x="44649" y="50543"/>
                </a:lnTo>
                <a:lnTo>
                  <a:pt x="43656" y="56515"/>
                </a:lnTo>
                <a:lnTo>
                  <a:pt x="42003" y="62482"/>
                </a:lnTo>
                <a:lnTo>
                  <a:pt x="39908" y="68443"/>
                </a:lnTo>
                <a:lnTo>
                  <a:pt x="38511" y="75394"/>
                </a:lnTo>
                <a:lnTo>
                  <a:pt x="37581" y="83005"/>
                </a:lnTo>
                <a:lnTo>
                  <a:pt x="36960" y="91055"/>
                </a:lnTo>
                <a:lnTo>
                  <a:pt x="36546" y="98406"/>
                </a:lnTo>
                <a:lnTo>
                  <a:pt x="36086" y="111866"/>
                </a:lnTo>
                <a:lnTo>
                  <a:pt x="35751" y="168835"/>
                </a:lnTo>
                <a:lnTo>
                  <a:pt x="34748" y="178041"/>
                </a:lnTo>
                <a:lnTo>
                  <a:pt x="33086" y="187155"/>
                </a:lnTo>
                <a:lnTo>
                  <a:pt x="30988" y="196207"/>
                </a:lnTo>
                <a:lnTo>
                  <a:pt x="29588" y="206211"/>
                </a:lnTo>
                <a:lnTo>
                  <a:pt x="28655" y="216848"/>
                </a:lnTo>
                <a:lnTo>
                  <a:pt x="28033" y="227909"/>
                </a:lnTo>
                <a:lnTo>
                  <a:pt x="26626" y="238260"/>
                </a:lnTo>
                <a:lnTo>
                  <a:pt x="24696" y="248136"/>
                </a:lnTo>
                <a:lnTo>
                  <a:pt x="14469" y="290116"/>
                </a:lnTo>
                <a:lnTo>
                  <a:pt x="12623" y="300566"/>
                </a:lnTo>
                <a:lnTo>
                  <a:pt x="11391" y="310510"/>
                </a:lnTo>
                <a:lnTo>
                  <a:pt x="10571" y="320116"/>
                </a:lnTo>
                <a:lnTo>
                  <a:pt x="9031" y="329497"/>
                </a:lnTo>
                <a:lnTo>
                  <a:pt x="7014" y="338727"/>
                </a:lnTo>
                <a:lnTo>
                  <a:pt x="4676" y="347857"/>
                </a:lnTo>
                <a:lnTo>
                  <a:pt x="3116" y="355928"/>
                </a:lnTo>
                <a:lnTo>
                  <a:pt x="2077" y="363292"/>
                </a:lnTo>
                <a:lnTo>
                  <a:pt x="1385" y="370187"/>
                </a:lnTo>
                <a:lnTo>
                  <a:pt x="616" y="383139"/>
                </a:lnTo>
                <a:lnTo>
                  <a:pt x="183" y="398941"/>
                </a:lnTo>
                <a:lnTo>
                  <a:pt x="0" y="419695"/>
                </a:lnTo>
              </a:path>
            </a:pathLst>
          </a:custGeom>
          <a:noFill/>
          <a:ln w="38160">
            <a:solidFill>
              <a:srgbClr val="009300"/>
            </a:solidFill>
            <a:round/>
          </a:ln>
        </p:spPr>
        <p:style>
          <a:lnRef idx="0"/>
          <a:fillRef idx="0"/>
          <a:effectRef idx="0"/>
          <a:fontRef idx="minor"/>
        </p:style>
        <p:txBody>
          <a:bodyPr wrap="none" anchor="t">
            <a:noAutofit/>
          </a:bodyPr>
          <a:p>
            <a:endParaRPr b="0" lang="en-US" sz="2400" spc="-1" strike="noStrike">
              <a:solidFill>
                <a:srgbClr val="ffffcc"/>
              </a:solidFill>
              <a:latin typeface="Times New Roman"/>
            </a:endParaRPr>
          </a:p>
        </p:txBody>
      </p:sp>
      <p:sp>
        <p:nvSpPr>
          <p:cNvPr id="157" name="SMARTInkAnnotation36"/>
          <p:cNvSpPr/>
          <p:nvPr/>
        </p:nvSpPr>
        <p:spPr>
          <a:xfrm>
            <a:off x="7867800" y="4527720"/>
            <a:ext cx="7920" cy="9360"/>
          </a:xfrm>
          <a:custGeom>
            <a:avLst/>
            <a:gdLst>
              <a:gd name="textAreaLeft" fmla="*/ 0 w 7920"/>
              <a:gd name="textAreaRight" fmla="*/ 8280 w 7920"/>
              <a:gd name="textAreaTop" fmla="*/ 0 h 9360"/>
              <a:gd name="textAreaBottom" fmla="*/ 9720 h 9360"/>
            </a:gdLst>
            <a:ahLst/>
            <a:rect l="textAreaLeft" t="textAreaTop" r="textAreaRight" b="textAreaBottom"/>
            <a:pathLst>
              <a:path w="8931" h="8931">
                <a:moveTo>
                  <a:pt x="0" y="0"/>
                </a:moveTo>
                <a:lnTo>
                  <a:pt x="7688" y="0"/>
                </a:lnTo>
                <a:lnTo>
                  <a:pt x="8102" y="992"/>
                </a:lnTo>
                <a:lnTo>
                  <a:pt x="8378" y="2646"/>
                </a:lnTo>
                <a:lnTo>
                  <a:pt x="8930" y="8930"/>
                </a:lnTo>
              </a:path>
            </a:pathLst>
          </a:custGeom>
          <a:noFill/>
          <a:ln w="38160">
            <a:solidFill>
              <a:srgbClr val="009300"/>
            </a:solidFill>
            <a:round/>
          </a:ln>
        </p:spPr>
        <p:style>
          <a:lnRef idx="0"/>
          <a:fillRef idx="0"/>
          <a:effectRef idx="0"/>
          <a:fontRef idx="minor"/>
        </p:style>
        <p:txBody>
          <a:bodyPr wrap="none" tIns="-36000" bIns="-36000" anchor="t">
            <a:noAutofit/>
          </a:bodyPr>
          <a:p>
            <a:endParaRPr b="0" lang="en-US" sz="2400" spc="-1" strike="noStrike">
              <a:solidFill>
                <a:srgbClr val="ffffcc"/>
              </a:solidFill>
              <a:latin typeface="Times New Roman"/>
            </a:endParaRPr>
          </a:p>
        </p:txBody>
      </p:sp>
      <p:sp>
        <p:nvSpPr>
          <p:cNvPr id="158" name="SMARTInkAnnotation37"/>
          <p:cNvSpPr/>
          <p:nvPr/>
        </p:nvSpPr>
        <p:spPr>
          <a:xfrm>
            <a:off x="7985160" y="4241880"/>
            <a:ext cx="158760" cy="320760"/>
          </a:xfrm>
          <a:custGeom>
            <a:avLst/>
            <a:gdLst>
              <a:gd name="textAreaLeft" fmla="*/ 0 w 158760"/>
              <a:gd name="textAreaRight" fmla="*/ 159120 w 158760"/>
              <a:gd name="textAreaTop" fmla="*/ 0 h 320760"/>
              <a:gd name="textAreaBottom" fmla="*/ 321120 h 320760"/>
            </a:gdLst>
            <a:ahLst/>
            <a:rect l="textAreaLeft" t="textAreaTop" r="textAreaRight" b="textAreaBottom"/>
            <a:pathLst>
              <a:path w="158659" h="321358">
                <a:moveTo>
                  <a:pt x="150374" y="17747"/>
                </a:moveTo>
                <a:lnTo>
                  <a:pt x="145632" y="17747"/>
                </a:lnTo>
                <a:lnTo>
                  <a:pt x="143244" y="16755"/>
                </a:lnTo>
                <a:lnTo>
                  <a:pt x="140660" y="15101"/>
                </a:lnTo>
                <a:lnTo>
                  <a:pt x="137945" y="13007"/>
                </a:lnTo>
                <a:lnTo>
                  <a:pt x="135142" y="11611"/>
                </a:lnTo>
                <a:lnTo>
                  <a:pt x="132282" y="10679"/>
                </a:lnTo>
                <a:lnTo>
                  <a:pt x="129383" y="10059"/>
                </a:lnTo>
                <a:lnTo>
                  <a:pt x="126457" y="9645"/>
                </a:lnTo>
                <a:lnTo>
                  <a:pt x="123517" y="9370"/>
                </a:lnTo>
                <a:lnTo>
                  <a:pt x="120562" y="9185"/>
                </a:lnTo>
                <a:lnTo>
                  <a:pt x="116608" y="8071"/>
                </a:lnTo>
                <a:lnTo>
                  <a:pt x="111989" y="6335"/>
                </a:lnTo>
                <a:lnTo>
                  <a:pt x="106924" y="4186"/>
                </a:lnTo>
                <a:lnTo>
                  <a:pt x="102556" y="2753"/>
                </a:lnTo>
                <a:lnTo>
                  <a:pt x="98651" y="1798"/>
                </a:lnTo>
                <a:lnTo>
                  <a:pt x="95055" y="1162"/>
                </a:lnTo>
                <a:lnTo>
                  <a:pt x="90674" y="736"/>
                </a:lnTo>
                <a:lnTo>
                  <a:pt x="85770" y="454"/>
                </a:lnTo>
                <a:lnTo>
                  <a:pt x="76020" y="140"/>
                </a:lnTo>
                <a:lnTo>
                  <a:pt x="68380" y="0"/>
                </a:lnTo>
                <a:lnTo>
                  <a:pt x="63960" y="955"/>
                </a:lnTo>
                <a:lnTo>
                  <a:pt x="59030" y="2584"/>
                </a:lnTo>
                <a:lnTo>
                  <a:pt x="53760" y="4662"/>
                </a:lnTo>
                <a:lnTo>
                  <a:pt x="49254" y="7039"/>
                </a:lnTo>
                <a:lnTo>
                  <a:pt x="45256" y="9616"/>
                </a:lnTo>
                <a:lnTo>
                  <a:pt x="41600" y="12326"/>
                </a:lnTo>
                <a:lnTo>
                  <a:pt x="37178" y="14134"/>
                </a:lnTo>
                <a:lnTo>
                  <a:pt x="32245" y="15338"/>
                </a:lnTo>
                <a:lnTo>
                  <a:pt x="26974" y="16141"/>
                </a:lnTo>
                <a:lnTo>
                  <a:pt x="22465" y="17669"/>
                </a:lnTo>
                <a:lnTo>
                  <a:pt x="18469" y="19679"/>
                </a:lnTo>
                <a:lnTo>
                  <a:pt x="14812" y="22012"/>
                </a:lnTo>
                <a:lnTo>
                  <a:pt x="12374" y="24559"/>
                </a:lnTo>
                <a:lnTo>
                  <a:pt x="10749" y="27250"/>
                </a:lnTo>
                <a:lnTo>
                  <a:pt x="7951" y="33877"/>
                </a:lnTo>
                <a:lnTo>
                  <a:pt x="3401" y="43437"/>
                </a:lnTo>
                <a:lnTo>
                  <a:pt x="716" y="51655"/>
                </a:lnTo>
                <a:lnTo>
                  <a:pt x="0" y="55235"/>
                </a:lnTo>
                <a:lnTo>
                  <a:pt x="515" y="58614"/>
                </a:lnTo>
                <a:lnTo>
                  <a:pt x="1851" y="61859"/>
                </a:lnTo>
                <a:lnTo>
                  <a:pt x="5980" y="69102"/>
                </a:lnTo>
                <a:lnTo>
                  <a:pt x="11123" y="78936"/>
                </a:lnTo>
                <a:lnTo>
                  <a:pt x="13884" y="83345"/>
                </a:lnTo>
                <a:lnTo>
                  <a:pt x="16716" y="87276"/>
                </a:lnTo>
                <a:lnTo>
                  <a:pt x="19597" y="90889"/>
                </a:lnTo>
                <a:lnTo>
                  <a:pt x="23501" y="95281"/>
                </a:lnTo>
                <a:lnTo>
                  <a:pt x="33132" y="105454"/>
                </a:lnTo>
                <a:lnTo>
                  <a:pt x="49709" y="122338"/>
                </a:lnTo>
                <a:lnTo>
                  <a:pt x="56475" y="127162"/>
                </a:lnTo>
                <a:lnTo>
                  <a:pt x="63961" y="131370"/>
                </a:lnTo>
                <a:lnTo>
                  <a:pt x="71930" y="135168"/>
                </a:lnTo>
                <a:lnTo>
                  <a:pt x="79227" y="139684"/>
                </a:lnTo>
                <a:lnTo>
                  <a:pt x="86075" y="144679"/>
                </a:lnTo>
                <a:lnTo>
                  <a:pt x="92625" y="149993"/>
                </a:lnTo>
                <a:lnTo>
                  <a:pt x="98976" y="154528"/>
                </a:lnTo>
                <a:lnTo>
                  <a:pt x="105195" y="158544"/>
                </a:lnTo>
                <a:lnTo>
                  <a:pt x="111324" y="162213"/>
                </a:lnTo>
                <a:lnTo>
                  <a:pt x="116403" y="166644"/>
                </a:lnTo>
                <a:lnTo>
                  <a:pt x="120782" y="171582"/>
                </a:lnTo>
                <a:lnTo>
                  <a:pt x="124692" y="176858"/>
                </a:lnTo>
                <a:lnTo>
                  <a:pt x="129284" y="181368"/>
                </a:lnTo>
                <a:lnTo>
                  <a:pt x="134330" y="185367"/>
                </a:lnTo>
                <a:lnTo>
                  <a:pt x="139677" y="189025"/>
                </a:lnTo>
                <a:lnTo>
                  <a:pt x="144235" y="193448"/>
                </a:lnTo>
                <a:lnTo>
                  <a:pt x="148265" y="198381"/>
                </a:lnTo>
                <a:lnTo>
                  <a:pt x="151944" y="203654"/>
                </a:lnTo>
                <a:lnTo>
                  <a:pt x="156033" y="212158"/>
                </a:lnTo>
                <a:lnTo>
                  <a:pt x="157849" y="219246"/>
                </a:lnTo>
                <a:lnTo>
                  <a:pt x="158658" y="225703"/>
                </a:lnTo>
                <a:lnTo>
                  <a:pt x="156370" y="234526"/>
                </a:lnTo>
                <a:lnTo>
                  <a:pt x="152047" y="244070"/>
                </a:lnTo>
                <a:lnTo>
                  <a:pt x="149505" y="248004"/>
                </a:lnTo>
                <a:lnTo>
                  <a:pt x="146818" y="251619"/>
                </a:lnTo>
                <a:lnTo>
                  <a:pt x="144034" y="256013"/>
                </a:lnTo>
                <a:lnTo>
                  <a:pt x="141186" y="260927"/>
                </a:lnTo>
                <a:lnTo>
                  <a:pt x="138295" y="266187"/>
                </a:lnTo>
                <a:lnTo>
                  <a:pt x="134384" y="270687"/>
                </a:lnTo>
                <a:lnTo>
                  <a:pt x="129792" y="274678"/>
                </a:lnTo>
                <a:lnTo>
                  <a:pt x="124746" y="278332"/>
                </a:lnTo>
                <a:lnTo>
                  <a:pt x="119397" y="281759"/>
                </a:lnTo>
                <a:lnTo>
                  <a:pt x="113848" y="285037"/>
                </a:lnTo>
                <a:lnTo>
                  <a:pt x="108165" y="288214"/>
                </a:lnTo>
                <a:lnTo>
                  <a:pt x="96557" y="294389"/>
                </a:lnTo>
                <a:lnTo>
                  <a:pt x="90683" y="297425"/>
                </a:lnTo>
                <a:lnTo>
                  <a:pt x="85775" y="300442"/>
                </a:lnTo>
                <a:lnTo>
                  <a:pt x="81511" y="303444"/>
                </a:lnTo>
                <a:lnTo>
                  <a:pt x="77675" y="306438"/>
                </a:lnTo>
                <a:lnTo>
                  <a:pt x="73136" y="308435"/>
                </a:lnTo>
                <a:lnTo>
                  <a:pt x="68123" y="309765"/>
                </a:lnTo>
                <a:lnTo>
                  <a:pt x="62797" y="310652"/>
                </a:lnTo>
                <a:lnTo>
                  <a:pt x="57263" y="312236"/>
                </a:lnTo>
                <a:lnTo>
                  <a:pt x="51589" y="314284"/>
                </a:lnTo>
                <a:lnTo>
                  <a:pt x="45822" y="316642"/>
                </a:lnTo>
                <a:lnTo>
                  <a:pt x="40985" y="318213"/>
                </a:lnTo>
                <a:lnTo>
                  <a:pt x="36768" y="319261"/>
                </a:lnTo>
                <a:lnTo>
                  <a:pt x="32965" y="319960"/>
                </a:lnTo>
                <a:lnTo>
                  <a:pt x="29437" y="320425"/>
                </a:lnTo>
                <a:lnTo>
                  <a:pt x="26092" y="320736"/>
                </a:lnTo>
                <a:lnTo>
                  <a:pt x="16429" y="321357"/>
                </a:lnTo>
              </a:path>
            </a:pathLst>
          </a:custGeom>
          <a:noFill/>
          <a:ln w="38160">
            <a:solidFill>
              <a:srgbClr val="009300"/>
            </a:solidFill>
            <a:round/>
          </a:ln>
        </p:spPr>
        <p:style>
          <a:lnRef idx="0"/>
          <a:fillRef idx="0"/>
          <a:effectRef idx="0"/>
          <a:fontRef idx="minor"/>
        </p:style>
        <p:txBody>
          <a:bodyPr wrap="none" anchor="t">
            <a:noAutofit/>
          </a:bodyPr>
          <a:p>
            <a:endParaRPr b="0" lang="en-US" sz="2400" spc="-1" strike="noStrike">
              <a:solidFill>
                <a:srgbClr val="ffffcc"/>
              </a:solidFill>
              <a:latin typeface="Times New Roman"/>
            </a:endParaRPr>
          </a:p>
        </p:txBody>
      </p:sp>
      <p:sp>
        <p:nvSpPr>
          <p:cNvPr id="159" name="SMARTInkAnnotation38"/>
          <p:cNvSpPr/>
          <p:nvPr/>
        </p:nvSpPr>
        <p:spPr>
          <a:xfrm>
            <a:off x="8161200" y="4456080"/>
            <a:ext cx="196920" cy="187200"/>
          </a:xfrm>
          <a:custGeom>
            <a:avLst/>
            <a:gdLst>
              <a:gd name="textAreaLeft" fmla="*/ 0 w 196920"/>
              <a:gd name="textAreaRight" fmla="*/ 197280 w 196920"/>
              <a:gd name="textAreaTop" fmla="*/ 0 h 187200"/>
              <a:gd name="textAreaBottom" fmla="*/ 187560 h 187200"/>
            </a:gdLst>
            <a:ahLst/>
            <a:rect l="textAreaLeft" t="textAreaTop" r="textAreaRight" b="textAreaBottom"/>
            <a:pathLst>
              <a:path w="196332" h="187366">
                <a:moveTo>
                  <a:pt x="35600" y="26631"/>
                </a:moveTo>
                <a:lnTo>
                  <a:pt x="35600" y="47621"/>
                </a:lnTo>
                <a:lnTo>
                  <a:pt x="34607" y="50546"/>
                </a:lnTo>
                <a:lnTo>
                  <a:pt x="32953" y="53488"/>
                </a:lnTo>
                <a:lnTo>
                  <a:pt x="30858" y="56442"/>
                </a:lnTo>
                <a:lnTo>
                  <a:pt x="29462" y="60395"/>
                </a:lnTo>
                <a:lnTo>
                  <a:pt x="28530" y="65015"/>
                </a:lnTo>
                <a:lnTo>
                  <a:pt x="27911" y="70080"/>
                </a:lnTo>
                <a:lnTo>
                  <a:pt x="27497" y="75440"/>
                </a:lnTo>
                <a:lnTo>
                  <a:pt x="27221" y="80999"/>
                </a:lnTo>
                <a:lnTo>
                  <a:pt x="26915" y="92466"/>
                </a:lnTo>
                <a:lnTo>
                  <a:pt x="26778" y="104177"/>
                </a:lnTo>
                <a:lnTo>
                  <a:pt x="25750" y="110078"/>
                </a:lnTo>
                <a:lnTo>
                  <a:pt x="24072" y="115996"/>
                </a:lnTo>
                <a:lnTo>
                  <a:pt x="21962" y="121926"/>
                </a:lnTo>
                <a:lnTo>
                  <a:pt x="20553" y="127864"/>
                </a:lnTo>
                <a:lnTo>
                  <a:pt x="19616" y="133807"/>
                </a:lnTo>
                <a:lnTo>
                  <a:pt x="18991" y="139754"/>
                </a:lnTo>
                <a:lnTo>
                  <a:pt x="17581" y="144710"/>
                </a:lnTo>
                <a:lnTo>
                  <a:pt x="15650" y="149006"/>
                </a:lnTo>
                <a:lnTo>
                  <a:pt x="13371" y="152862"/>
                </a:lnTo>
                <a:lnTo>
                  <a:pt x="11850" y="156426"/>
                </a:lnTo>
                <a:lnTo>
                  <a:pt x="10837" y="159793"/>
                </a:lnTo>
                <a:lnTo>
                  <a:pt x="10162" y="163030"/>
                </a:lnTo>
                <a:lnTo>
                  <a:pt x="8719" y="166181"/>
                </a:lnTo>
                <a:lnTo>
                  <a:pt x="6764" y="169273"/>
                </a:lnTo>
                <a:lnTo>
                  <a:pt x="284" y="177899"/>
                </a:lnTo>
                <a:lnTo>
                  <a:pt x="0" y="173536"/>
                </a:lnTo>
                <a:lnTo>
                  <a:pt x="953" y="172193"/>
                </a:lnTo>
                <a:lnTo>
                  <a:pt x="2578" y="171296"/>
                </a:lnTo>
                <a:lnTo>
                  <a:pt x="4657" y="170700"/>
                </a:lnTo>
                <a:lnTo>
                  <a:pt x="6041" y="168317"/>
                </a:lnTo>
                <a:lnTo>
                  <a:pt x="6965" y="164745"/>
                </a:lnTo>
                <a:lnTo>
                  <a:pt x="7580" y="160379"/>
                </a:lnTo>
                <a:lnTo>
                  <a:pt x="8982" y="156476"/>
                </a:lnTo>
                <a:lnTo>
                  <a:pt x="10909" y="152881"/>
                </a:lnTo>
                <a:lnTo>
                  <a:pt x="13185" y="149493"/>
                </a:lnTo>
                <a:lnTo>
                  <a:pt x="15696" y="145249"/>
                </a:lnTo>
                <a:lnTo>
                  <a:pt x="18362" y="140436"/>
                </a:lnTo>
                <a:lnTo>
                  <a:pt x="23969" y="129797"/>
                </a:lnTo>
                <a:lnTo>
                  <a:pt x="29769" y="118453"/>
                </a:lnTo>
                <a:lnTo>
                  <a:pt x="32705" y="111658"/>
                </a:lnTo>
                <a:lnTo>
                  <a:pt x="35654" y="104152"/>
                </a:lnTo>
                <a:lnTo>
                  <a:pt x="38612" y="96171"/>
                </a:lnTo>
                <a:lnTo>
                  <a:pt x="41577" y="88866"/>
                </a:lnTo>
                <a:lnTo>
                  <a:pt x="44546" y="82011"/>
                </a:lnTo>
                <a:lnTo>
                  <a:pt x="50489" y="69103"/>
                </a:lnTo>
                <a:lnTo>
                  <a:pt x="65365" y="38642"/>
                </a:lnTo>
                <a:lnTo>
                  <a:pt x="68342" y="33646"/>
                </a:lnTo>
                <a:lnTo>
                  <a:pt x="71318" y="29323"/>
                </a:lnTo>
                <a:lnTo>
                  <a:pt x="74294" y="25449"/>
                </a:lnTo>
                <a:lnTo>
                  <a:pt x="77272" y="21874"/>
                </a:lnTo>
                <a:lnTo>
                  <a:pt x="80248" y="18499"/>
                </a:lnTo>
                <a:lnTo>
                  <a:pt x="86201" y="12102"/>
                </a:lnTo>
                <a:lnTo>
                  <a:pt x="92154" y="5952"/>
                </a:lnTo>
                <a:lnTo>
                  <a:pt x="95131" y="3915"/>
                </a:lnTo>
                <a:lnTo>
                  <a:pt x="101083" y="1652"/>
                </a:lnTo>
                <a:lnTo>
                  <a:pt x="106515" y="0"/>
                </a:lnTo>
                <a:lnTo>
                  <a:pt x="106882" y="4628"/>
                </a:lnTo>
                <a:lnTo>
                  <a:pt x="107023" y="33265"/>
                </a:lnTo>
                <a:lnTo>
                  <a:pt x="106035" y="37999"/>
                </a:lnTo>
                <a:lnTo>
                  <a:pt x="104385" y="42147"/>
                </a:lnTo>
                <a:lnTo>
                  <a:pt x="102292" y="45904"/>
                </a:lnTo>
                <a:lnTo>
                  <a:pt x="100896" y="50394"/>
                </a:lnTo>
                <a:lnTo>
                  <a:pt x="99967" y="55371"/>
                </a:lnTo>
                <a:lnTo>
                  <a:pt x="99348" y="60674"/>
                </a:lnTo>
                <a:lnTo>
                  <a:pt x="98934" y="66193"/>
                </a:lnTo>
                <a:lnTo>
                  <a:pt x="98659" y="71857"/>
                </a:lnTo>
                <a:lnTo>
                  <a:pt x="98271" y="86663"/>
                </a:lnTo>
                <a:lnTo>
                  <a:pt x="98216" y="90465"/>
                </a:lnTo>
                <a:lnTo>
                  <a:pt x="97187" y="92999"/>
                </a:lnTo>
                <a:lnTo>
                  <a:pt x="95509" y="94688"/>
                </a:lnTo>
                <a:lnTo>
                  <a:pt x="93399" y="95815"/>
                </a:lnTo>
                <a:lnTo>
                  <a:pt x="91991" y="97558"/>
                </a:lnTo>
                <a:lnTo>
                  <a:pt x="91053" y="99713"/>
                </a:lnTo>
                <a:lnTo>
                  <a:pt x="90428" y="102141"/>
                </a:lnTo>
                <a:lnTo>
                  <a:pt x="91003" y="103760"/>
                </a:lnTo>
                <a:lnTo>
                  <a:pt x="92379" y="104839"/>
                </a:lnTo>
                <a:lnTo>
                  <a:pt x="96976" y="106571"/>
                </a:lnTo>
                <a:lnTo>
                  <a:pt x="102513" y="106871"/>
                </a:lnTo>
                <a:lnTo>
                  <a:pt x="105012" y="105922"/>
                </a:lnTo>
                <a:lnTo>
                  <a:pt x="110436" y="102220"/>
                </a:lnTo>
                <a:lnTo>
                  <a:pt x="116154" y="99914"/>
                </a:lnTo>
                <a:lnTo>
                  <a:pt x="119068" y="99298"/>
                </a:lnTo>
                <a:lnTo>
                  <a:pt x="122003" y="96903"/>
                </a:lnTo>
                <a:lnTo>
                  <a:pt x="124951" y="93323"/>
                </a:lnTo>
                <a:lnTo>
                  <a:pt x="127910" y="88952"/>
                </a:lnTo>
                <a:lnTo>
                  <a:pt x="130874" y="86037"/>
                </a:lnTo>
                <a:lnTo>
                  <a:pt x="133842" y="84095"/>
                </a:lnTo>
                <a:lnTo>
                  <a:pt x="139786" y="80943"/>
                </a:lnTo>
                <a:lnTo>
                  <a:pt x="145735" y="76235"/>
                </a:lnTo>
                <a:lnTo>
                  <a:pt x="148711" y="74583"/>
                </a:lnTo>
                <a:lnTo>
                  <a:pt x="154662" y="72747"/>
                </a:lnTo>
                <a:lnTo>
                  <a:pt x="160615" y="69286"/>
                </a:lnTo>
                <a:lnTo>
                  <a:pt x="163591" y="66974"/>
                </a:lnTo>
                <a:lnTo>
                  <a:pt x="169545" y="64404"/>
                </a:lnTo>
                <a:lnTo>
                  <a:pt x="176710" y="62755"/>
                </a:lnTo>
                <a:lnTo>
                  <a:pt x="182692" y="62470"/>
                </a:lnTo>
                <a:lnTo>
                  <a:pt x="184263" y="63422"/>
                </a:lnTo>
                <a:lnTo>
                  <a:pt x="185310" y="65049"/>
                </a:lnTo>
                <a:lnTo>
                  <a:pt x="186990" y="70048"/>
                </a:lnTo>
                <a:lnTo>
                  <a:pt x="192022" y="75655"/>
                </a:lnTo>
                <a:lnTo>
                  <a:pt x="193460" y="78165"/>
                </a:lnTo>
                <a:lnTo>
                  <a:pt x="195056" y="83600"/>
                </a:lnTo>
                <a:lnTo>
                  <a:pt x="195482" y="87430"/>
                </a:lnTo>
                <a:lnTo>
                  <a:pt x="195766" y="91969"/>
                </a:lnTo>
                <a:lnTo>
                  <a:pt x="196081" y="101310"/>
                </a:lnTo>
                <a:lnTo>
                  <a:pt x="196259" y="113140"/>
                </a:lnTo>
                <a:lnTo>
                  <a:pt x="196331" y="150034"/>
                </a:lnTo>
                <a:lnTo>
                  <a:pt x="195339" y="154540"/>
                </a:lnTo>
                <a:lnTo>
                  <a:pt x="193687" y="158537"/>
                </a:lnTo>
                <a:lnTo>
                  <a:pt x="191592" y="162193"/>
                </a:lnTo>
                <a:lnTo>
                  <a:pt x="190196" y="165623"/>
                </a:lnTo>
                <a:lnTo>
                  <a:pt x="189265" y="168902"/>
                </a:lnTo>
                <a:lnTo>
                  <a:pt x="188645" y="172079"/>
                </a:lnTo>
                <a:lnTo>
                  <a:pt x="188231" y="175190"/>
                </a:lnTo>
                <a:lnTo>
                  <a:pt x="187955" y="178256"/>
                </a:lnTo>
                <a:lnTo>
                  <a:pt x="187404" y="187365"/>
                </a:lnTo>
              </a:path>
            </a:pathLst>
          </a:custGeom>
          <a:noFill/>
          <a:ln w="38160">
            <a:solidFill>
              <a:srgbClr val="009300"/>
            </a:solidFill>
            <a:round/>
          </a:ln>
        </p:spPr>
        <p:style>
          <a:lnRef idx="0"/>
          <a:fillRef idx="0"/>
          <a:effectRef idx="0"/>
          <a:fontRef idx="minor"/>
        </p:style>
        <p:txBody>
          <a:bodyPr wrap="none" anchor="t">
            <a:noAutofit/>
          </a:bodyPr>
          <a:p>
            <a:endParaRPr b="0" lang="en-US" sz="2400" spc="-1" strike="noStrike">
              <a:solidFill>
                <a:srgbClr val="ffffcc"/>
              </a:solidFill>
              <a:latin typeface="Times New Roman"/>
            </a:endParaRPr>
          </a:p>
        </p:txBody>
      </p:sp>
      <p:sp>
        <p:nvSpPr>
          <p:cNvPr id="160" name="SMARTInkAnnotation39"/>
          <p:cNvSpPr/>
          <p:nvPr/>
        </p:nvSpPr>
        <p:spPr>
          <a:xfrm>
            <a:off x="6804000" y="4643280"/>
            <a:ext cx="179280" cy="27000"/>
          </a:xfrm>
          <a:custGeom>
            <a:avLst/>
            <a:gdLst>
              <a:gd name="textAreaLeft" fmla="*/ 0 w 179280"/>
              <a:gd name="textAreaRight" fmla="*/ 179280 w 179280"/>
              <a:gd name="textAreaTop" fmla="*/ 0 h 27000"/>
              <a:gd name="textAreaBottom" fmla="*/ 27360 h 27000"/>
            </a:gdLst>
            <a:ahLst/>
            <a:rect l="textAreaLeft" t="textAreaTop" r="textAreaRight" b="textAreaBottom"/>
            <a:pathLst>
              <a:path w="178595" h="26787">
                <a:moveTo>
                  <a:pt x="0" y="8927"/>
                </a:moveTo>
                <a:lnTo>
                  <a:pt x="7688" y="8927"/>
                </a:lnTo>
                <a:lnTo>
                  <a:pt x="9094" y="7935"/>
                </a:lnTo>
                <a:lnTo>
                  <a:pt x="11025" y="6282"/>
                </a:lnTo>
                <a:lnTo>
                  <a:pt x="13303" y="4187"/>
                </a:lnTo>
                <a:lnTo>
                  <a:pt x="15814" y="2790"/>
                </a:lnTo>
                <a:lnTo>
                  <a:pt x="18480" y="1859"/>
                </a:lnTo>
                <a:lnTo>
                  <a:pt x="21249" y="1238"/>
                </a:lnTo>
                <a:lnTo>
                  <a:pt x="24088" y="824"/>
                </a:lnTo>
                <a:lnTo>
                  <a:pt x="26973" y="549"/>
                </a:lnTo>
                <a:lnTo>
                  <a:pt x="29888" y="365"/>
                </a:lnTo>
                <a:lnTo>
                  <a:pt x="35773" y="161"/>
                </a:lnTo>
                <a:lnTo>
                  <a:pt x="47310" y="45"/>
                </a:lnTo>
                <a:lnTo>
                  <a:pt x="78789" y="0"/>
                </a:lnTo>
                <a:lnTo>
                  <a:pt x="83283" y="992"/>
                </a:lnTo>
                <a:lnTo>
                  <a:pt x="87272" y="2644"/>
                </a:lnTo>
                <a:lnTo>
                  <a:pt x="90924" y="4738"/>
                </a:lnTo>
                <a:lnTo>
                  <a:pt x="95343" y="6135"/>
                </a:lnTo>
                <a:lnTo>
                  <a:pt x="100273" y="7066"/>
                </a:lnTo>
                <a:lnTo>
                  <a:pt x="105544" y="7686"/>
                </a:lnTo>
                <a:lnTo>
                  <a:pt x="111042" y="8100"/>
                </a:lnTo>
                <a:lnTo>
                  <a:pt x="116692" y="8375"/>
                </a:lnTo>
                <a:lnTo>
                  <a:pt x="122443" y="8559"/>
                </a:lnTo>
                <a:lnTo>
                  <a:pt x="127269" y="9674"/>
                </a:lnTo>
                <a:lnTo>
                  <a:pt x="131479" y="11409"/>
                </a:lnTo>
                <a:lnTo>
                  <a:pt x="135277" y="13558"/>
                </a:lnTo>
                <a:lnTo>
                  <a:pt x="139795" y="14991"/>
                </a:lnTo>
                <a:lnTo>
                  <a:pt x="144790" y="15946"/>
                </a:lnTo>
                <a:lnTo>
                  <a:pt x="150104" y="16583"/>
                </a:lnTo>
                <a:lnTo>
                  <a:pt x="154641" y="17007"/>
                </a:lnTo>
                <a:lnTo>
                  <a:pt x="158656" y="17291"/>
                </a:lnTo>
                <a:lnTo>
                  <a:pt x="162325" y="17479"/>
                </a:lnTo>
                <a:lnTo>
                  <a:pt x="165764" y="18597"/>
                </a:lnTo>
                <a:lnTo>
                  <a:pt x="169048" y="20335"/>
                </a:lnTo>
                <a:lnTo>
                  <a:pt x="178594" y="26786"/>
                </a:lnTo>
              </a:path>
            </a:pathLst>
          </a:custGeom>
          <a:noFill/>
          <a:ln w="38160">
            <a:solidFill>
              <a:srgbClr val="009300"/>
            </a:solidFill>
            <a:round/>
          </a:ln>
        </p:spPr>
        <p:style>
          <a:lnRef idx="0"/>
          <a:fillRef idx="0"/>
          <a:effectRef idx="0"/>
          <a:fontRef idx="minor"/>
        </p:style>
        <p:txBody>
          <a:bodyPr wrap="none" tIns="-18360" bIns="-18360" anchor="t">
            <a:noAutofit/>
          </a:bodyPr>
          <a:p>
            <a:endParaRPr b="0" lang="en-US" sz="2400" spc="-1" strike="noStrike">
              <a:solidFill>
                <a:srgbClr val="ffffcc"/>
              </a:solidFill>
              <a:latin typeface="Times New Roman"/>
            </a:endParaRPr>
          </a:p>
        </p:txBody>
      </p:sp>
      <p:sp>
        <p:nvSpPr>
          <p:cNvPr id="161" name="SMARTInkAnnotation40"/>
          <p:cNvSpPr/>
          <p:nvPr/>
        </p:nvSpPr>
        <p:spPr>
          <a:xfrm>
            <a:off x="6750000" y="4714920"/>
            <a:ext cx="169920" cy="27000"/>
          </a:xfrm>
          <a:custGeom>
            <a:avLst/>
            <a:gdLst>
              <a:gd name="textAreaLeft" fmla="*/ 0 w 169920"/>
              <a:gd name="textAreaRight" fmla="*/ 170280 w 169920"/>
              <a:gd name="textAreaTop" fmla="*/ 0 h 27000"/>
              <a:gd name="textAreaBottom" fmla="*/ 27360 h 27000"/>
            </a:gdLst>
            <a:ahLst/>
            <a:rect l="textAreaLeft" t="textAreaTop" r="textAreaRight" b="textAreaBottom"/>
            <a:pathLst>
              <a:path w="169665" h="26790">
                <a:moveTo>
                  <a:pt x="0" y="0"/>
                </a:moveTo>
                <a:lnTo>
                  <a:pt x="17170" y="0"/>
                </a:lnTo>
                <a:lnTo>
                  <a:pt x="22360" y="991"/>
                </a:lnTo>
                <a:lnTo>
                  <a:pt x="27806" y="2645"/>
                </a:lnTo>
                <a:lnTo>
                  <a:pt x="33419" y="4740"/>
                </a:lnTo>
                <a:lnTo>
                  <a:pt x="39147" y="6136"/>
                </a:lnTo>
                <a:lnTo>
                  <a:pt x="44949" y="7067"/>
                </a:lnTo>
                <a:lnTo>
                  <a:pt x="50802" y="7688"/>
                </a:lnTo>
                <a:lnTo>
                  <a:pt x="56688" y="8101"/>
                </a:lnTo>
                <a:lnTo>
                  <a:pt x="62597" y="8378"/>
                </a:lnTo>
                <a:lnTo>
                  <a:pt x="74453" y="8683"/>
                </a:lnTo>
                <a:lnTo>
                  <a:pt x="86338" y="8820"/>
                </a:lnTo>
                <a:lnTo>
                  <a:pt x="92285" y="9849"/>
                </a:lnTo>
                <a:lnTo>
                  <a:pt x="98235" y="11526"/>
                </a:lnTo>
                <a:lnTo>
                  <a:pt x="104185" y="13637"/>
                </a:lnTo>
                <a:lnTo>
                  <a:pt x="110136" y="15044"/>
                </a:lnTo>
                <a:lnTo>
                  <a:pt x="116088" y="15982"/>
                </a:lnTo>
                <a:lnTo>
                  <a:pt x="122042" y="16608"/>
                </a:lnTo>
                <a:lnTo>
                  <a:pt x="127993" y="18017"/>
                </a:lnTo>
                <a:lnTo>
                  <a:pt x="133946" y="19949"/>
                </a:lnTo>
                <a:lnTo>
                  <a:pt x="139899" y="22229"/>
                </a:lnTo>
                <a:lnTo>
                  <a:pt x="144859" y="23749"/>
                </a:lnTo>
                <a:lnTo>
                  <a:pt x="149159" y="24762"/>
                </a:lnTo>
                <a:lnTo>
                  <a:pt x="153017" y="25437"/>
                </a:lnTo>
                <a:lnTo>
                  <a:pt x="156582" y="25887"/>
                </a:lnTo>
                <a:lnTo>
                  <a:pt x="159951" y="26189"/>
                </a:lnTo>
                <a:lnTo>
                  <a:pt x="169664" y="26789"/>
                </a:lnTo>
              </a:path>
            </a:pathLst>
          </a:custGeom>
          <a:noFill/>
          <a:ln w="38160">
            <a:solidFill>
              <a:srgbClr val="009300"/>
            </a:solidFill>
            <a:round/>
          </a:ln>
        </p:spPr>
        <p:style>
          <a:lnRef idx="0"/>
          <a:fillRef idx="0"/>
          <a:effectRef idx="0"/>
          <a:fontRef idx="minor"/>
        </p:style>
        <p:txBody>
          <a:bodyPr wrap="none" tIns="-18360" bIns="-18360" anchor="t">
            <a:noAutofit/>
          </a:bodyPr>
          <a:p>
            <a:endParaRPr b="0" lang="en-US" sz="2400" spc="-1" strike="noStrike">
              <a:solidFill>
                <a:srgbClr val="ffffcc"/>
              </a:solidFill>
              <a:latin typeface="Times New Roman"/>
            </a:endParaRPr>
          </a:p>
        </p:txBody>
      </p:sp>
      <p:sp>
        <p:nvSpPr>
          <p:cNvPr id="162" name="SMARTInkAnnotation41"/>
          <p:cNvSpPr/>
          <p:nvPr/>
        </p:nvSpPr>
        <p:spPr>
          <a:xfrm>
            <a:off x="7107120" y="4581360"/>
            <a:ext cx="9720" cy="365400"/>
          </a:xfrm>
          <a:custGeom>
            <a:avLst/>
            <a:gdLst>
              <a:gd name="textAreaLeft" fmla="*/ 0 w 9720"/>
              <a:gd name="textAreaRight" fmla="*/ 10080 w 9720"/>
              <a:gd name="textAreaTop" fmla="*/ 0 h 365400"/>
              <a:gd name="textAreaBottom" fmla="*/ 365760 h 365400"/>
            </a:gdLst>
            <a:ahLst/>
            <a:rect l="textAreaLeft" t="textAreaTop" r="textAreaRight" b="textAreaBottom"/>
            <a:pathLst>
              <a:path w="8930" h="366118">
                <a:moveTo>
                  <a:pt x="8929" y="0"/>
                </a:moveTo>
                <a:lnTo>
                  <a:pt x="8929" y="141692"/>
                </a:lnTo>
                <a:lnTo>
                  <a:pt x="7937" y="152008"/>
                </a:lnTo>
                <a:lnTo>
                  <a:pt x="6284" y="162855"/>
                </a:lnTo>
                <a:lnTo>
                  <a:pt x="4189" y="174054"/>
                </a:lnTo>
                <a:lnTo>
                  <a:pt x="2792" y="184497"/>
                </a:lnTo>
                <a:lnTo>
                  <a:pt x="1862" y="194435"/>
                </a:lnTo>
                <a:lnTo>
                  <a:pt x="1241" y="204038"/>
                </a:lnTo>
                <a:lnTo>
                  <a:pt x="827" y="214408"/>
                </a:lnTo>
                <a:lnTo>
                  <a:pt x="245" y="246973"/>
                </a:lnTo>
                <a:lnTo>
                  <a:pt x="0" y="366117"/>
                </a:lnTo>
              </a:path>
            </a:pathLst>
          </a:custGeom>
          <a:noFill/>
          <a:ln w="38160">
            <a:solidFill>
              <a:srgbClr val="009300"/>
            </a:solidFill>
            <a:round/>
          </a:ln>
        </p:spPr>
        <p:style>
          <a:lnRef idx="0"/>
          <a:fillRef idx="0"/>
          <a:effectRef idx="0"/>
          <a:fontRef idx="minor"/>
        </p:style>
        <p:txBody>
          <a:bodyPr wrap="none" anchor="t">
            <a:noAutofit/>
          </a:bodyPr>
          <a:p>
            <a:endParaRPr b="0" lang="en-US" sz="2400" spc="-1" strike="noStrike">
              <a:solidFill>
                <a:srgbClr val="ffffcc"/>
              </a:solidFill>
              <a:latin typeface="Times New Roman"/>
            </a:endParaRPr>
          </a:p>
        </p:txBody>
      </p:sp>
      <p:sp>
        <p:nvSpPr>
          <p:cNvPr id="163" name="SMARTInkAnnotation42"/>
          <p:cNvSpPr/>
          <p:nvPr/>
        </p:nvSpPr>
        <p:spPr>
          <a:xfrm>
            <a:off x="7170840" y="4795920"/>
            <a:ext cx="249120" cy="214200"/>
          </a:xfrm>
          <a:custGeom>
            <a:avLst/>
            <a:gdLst>
              <a:gd name="textAreaLeft" fmla="*/ 0 w 249120"/>
              <a:gd name="textAreaRight" fmla="*/ 249480 w 249120"/>
              <a:gd name="textAreaTop" fmla="*/ 0 h 214200"/>
              <a:gd name="textAreaBottom" fmla="*/ 214560 h 214200"/>
            </a:gdLst>
            <a:ahLst/>
            <a:rect l="textAreaLeft" t="textAreaTop" r="textAreaRight" b="textAreaBottom"/>
            <a:pathLst>
              <a:path w="250032" h="213777">
                <a:moveTo>
                  <a:pt x="8929" y="79831"/>
                </a:moveTo>
                <a:lnTo>
                  <a:pt x="8929" y="105562"/>
                </a:lnTo>
                <a:lnTo>
                  <a:pt x="7938" y="109883"/>
                </a:lnTo>
                <a:lnTo>
                  <a:pt x="6284" y="113756"/>
                </a:lnTo>
                <a:lnTo>
                  <a:pt x="4189" y="117331"/>
                </a:lnTo>
                <a:lnTo>
                  <a:pt x="2792" y="121698"/>
                </a:lnTo>
                <a:lnTo>
                  <a:pt x="1861" y="126594"/>
                </a:lnTo>
                <a:lnTo>
                  <a:pt x="1241" y="131842"/>
                </a:lnTo>
                <a:lnTo>
                  <a:pt x="827" y="136333"/>
                </a:lnTo>
                <a:lnTo>
                  <a:pt x="551" y="140319"/>
                </a:lnTo>
                <a:lnTo>
                  <a:pt x="368" y="143968"/>
                </a:lnTo>
                <a:lnTo>
                  <a:pt x="163" y="150670"/>
                </a:lnTo>
                <a:lnTo>
                  <a:pt x="15" y="162007"/>
                </a:lnTo>
                <a:lnTo>
                  <a:pt x="1" y="168711"/>
                </a:lnTo>
                <a:lnTo>
                  <a:pt x="0" y="164264"/>
                </a:lnTo>
                <a:lnTo>
                  <a:pt x="993" y="162909"/>
                </a:lnTo>
                <a:lnTo>
                  <a:pt x="2645" y="162005"/>
                </a:lnTo>
                <a:lnTo>
                  <a:pt x="4740" y="161403"/>
                </a:lnTo>
                <a:lnTo>
                  <a:pt x="6136" y="160009"/>
                </a:lnTo>
                <a:lnTo>
                  <a:pt x="7068" y="158088"/>
                </a:lnTo>
                <a:lnTo>
                  <a:pt x="8102" y="153307"/>
                </a:lnTo>
                <a:lnTo>
                  <a:pt x="8561" y="147875"/>
                </a:lnTo>
                <a:lnTo>
                  <a:pt x="8766" y="139507"/>
                </a:lnTo>
                <a:lnTo>
                  <a:pt x="8820" y="134498"/>
                </a:lnTo>
                <a:lnTo>
                  <a:pt x="9849" y="129174"/>
                </a:lnTo>
                <a:lnTo>
                  <a:pt x="11526" y="123640"/>
                </a:lnTo>
                <a:lnTo>
                  <a:pt x="13637" y="117967"/>
                </a:lnTo>
                <a:lnTo>
                  <a:pt x="16037" y="112200"/>
                </a:lnTo>
                <a:lnTo>
                  <a:pt x="18629" y="106372"/>
                </a:lnTo>
                <a:lnTo>
                  <a:pt x="21349" y="100501"/>
                </a:lnTo>
                <a:lnTo>
                  <a:pt x="24154" y="95595"/>
                </a:lnTo>
                <a:lnTo>
                  <a:pt x="27017" y="91332"/>
                </a:lnTo>
                <a:lnTo>
                  <a:pt x="29918" y="87499"/>
                </a:lnTo>
                <a:lnTo>
                  <a:pt x="32844" y="82958"/>
                </a:lnTo>
                <a:lnTo>
                  <a:pt x="35787" y="77947"/>
                </a:lnTo>
                <a:lnTo>
                  <a:pt x="38741" y="72622"/>
                </a:lnTo>
                <a:lnTo>
                  <a:pt x="44668" y="61413"/>
                </a:lnTo>
                <a:lnTo>
                  <a:pt x="56557" y="38049"/>
                </a:lnTo>
                <a:lnTo>
                  <a:pt x="60526" y="33124"/>
                </a:lnTo>
                <a:lnTo>
                  <a:pt x="65155" y="28849"/>
                </a:lnTo>
                <a:lnTo>
                  <a:pt x="70226" y="25007"/>
                </a:lnTo>
                <a:lnTo>
                  <a:pt x="74598" y="21454"/>
                </a:lnTo>
                <a:lnTo>
                  <a:pt x="82102" y="14860"/>
                </a:lnTo>
                <a:lnTo>
                  <a:pt x="88745" y="8622"/>
                </a:lnTo>
                <a:lnTo>
                  <a:pt x="96353" y="1272"/>
                </a:lnTo>
                <a:lnTo>
                  <a:pt x="97969" y="670"/>
                </a:lnTo>
                <a:lnTo>
                  <a:pt x="102412" y="0"/>
                </a:lnTo>
                <a:lnTo>
                  <a:pt x="103992" y="813"/>
                </a:lnTo>
                <a:lnTo>
                  <a:pt x="105047" y="2348"/>
                </a:lnTo>
                <a:lnTo>
                  <a:pt x="105750" y="4363"/>
                </a:lnTo>
                <a:lnTo>
                  <a:pt x="109177" y="9248"/>
                </a:lnTo>
                <a:lnTo>
                  <a:pt x="111480" y="11940"/>
                </a:lnTo>
                <a:lnTo>
                  <a:pt x="113014" y="14727"/>
                </a:lnTo>
                <a:lnTo>
                  <a:pt x="114720" y="20469"/>
                </a:lnTo>
                <a:lnTo>
                  <a:pt x="115176" y="24381"/>
                </a:lnTo>
                <a:lnTo>
                  <a:pt x="115479" y="28974"/>
                </a:lnTo>
                <a:lnTo>
                  <a:pt x="115681" y="34020"/>
                </a:lnTo>
                <a:lnTo>
                  <a:pt x="115966" y="55343"/>
                </a:lnTo>
                <a:lnTo>
                  <a:pt x="116050" y="75772"/>
                </a:lnTo>
                <a:lnTo>
                  <a:pt x="115069" y="82086"/>
                </a:lnTo>
                <a:lnTo>
                  <a:pt x="113424" y="88279"/>
                </a:lnTo>
                <a:lnTo>
                  <a:pt x="111335" y="94393"/>
                </a:lnTo>
                <a:lnTo>
                  <a:pt x="109941" y="99461"/>
                </a:lnTo>
                <a:lnTo>
                  <a:pt x="109013" y="103832"/>
                </a:lnTo>
                <a:lnTo>
                  <a:pt x="108394" y="107737"/>
                </a:lnTo>
                <a:lnTo>
                  <a:pt x="107981" y="112326"/>
                </a:lnTo>
                <a:lnTo>
                  <a:pt x="107706" y="117370"/>
                </a:lnTo>
                <a:lnTo>
                  <a:pt x="107265" y="130241"/>
                </a:lnTo>
                <a:lnTo>
                  <a:pt x="107158" y="141888"/>
                </a:lnTo>
                <a:lnTo>
                  <a:pt x="111897" y="142205"/>
                </a:lnTo>
                <a:lnTo>
                  <a:pt x="113293" y="141257"/>
                </a:lnTo>
                <a:lnTo>
                  <a:pt x="114224" y="139633"/>
                </a:lnTo>
                <a:lnTo>
                  <a:pt x="114845" y="137558"/>
                </a:lnTo>
                <a:lnTo>
                  <a:pt x="116251" y="136175"/>
                </a:lnTo>
                <a:lnTo>
                  <a:pt x="118180" y="135253"/>
                </a:lnTo>
                <a:lnTo>
                  <a:pt x="120458" y="134639"/>
                </a:lnTo>
                <a:lnTo>
                  <a:pt x="121977" y="132244"/>
                </a:lnTo>
                <a:lnTo>
                  <a:pt x="122990" y="128664"/>
                </a:lnTo>
                <a:lnTo>
                  <a:pt x="123665" y="124293"/>
                </a:lnTo>
                <a:lnTo>
                  <a:pt x="125107" y="120386"/>
                </a:lnTo>
                <a:lnTo>
                  <a:pt x="127061" y="116789"/>
                </a:lnTo>
                <a:lnTo>
                  <a:pt x="131878" y="110147"/>
                </a:lnTo>
                <a:lnTo>
                  <a:pt x="137326" y="103888"/>
                </a:lnTo>
                <a:lnTo>
                  <a:pt x="145699" y="95153"/>
                </a:lnTo>
                <a:lnTo>
                  <a:pt x="181464" y="59106"/>
                </a:lnTo>
                <a:lnTo>
                  <a:pt x="185468" y="56092"/>
                </a:lnTo>
                <a:lnTo>
                  <a:pt x="190122" y="53091"/>
                </a:lnTo>
                <a:lnTo>
                  <a:pt x="195209" y="50098"/>
                </a:lnTo>
                <a:lnTo>
                  <a:pt x="199592" y="48103"/>
                </a:lnTo>
                <a:lnTo>
                  <a:pt x="207109" y="45886"/>
                </a:lnTo>
                <a:lnTo>
                  <a:pt x="213756" y="44900"/>
                </a:lnTo>
                <a:lnTo>
                  <a:pt x="221368" y="44268"/>
                </a:lnTo>
                <a:lnTo>
                  <a:pt x="225054" y="46827"/>
                </a:lnTo>
                <a:lnTo>
                  <a:pt x="230765" y="51814"/>
                </a:lnTo>
                <a:lnTo>
                  <a:pt x="231234" y="53216"/>
                </a:lnTo>
                <a:lnTo>
                  <a:pt x="231754" y="57418"/>
                </a:lnTo>
                <a:lnTo>
                  <a:pt x="232886" y="60920"/>
                </a:lnTo>
                <a:lnTo>
                  <a:pt x="234632" y="65240"/>
                </a:lnTo>
                <a:lnTo>
                  <a:pt x="236788" y="70103"/>
                </a:lnTo>
                <a:lnTo>
                  <a:pt x="238225" y="75330"/>
                </a:lnTo>
                <a:lnTo>
                  <a:pt x="239185" y="80799"/>
                </a:lnTo>
                <a:lnTo>
                  <a:pt x="239823" y="86429"/>
                </a:lnTo>
                <a:lnTo>
                  <a:pt x="240249" y="92167"/>
                </a:lnTo>
                <a:lnTo>
                  <a:pt x="240533" y="97977"/>
                </a:lnTo>
                <a:lnTo>
                  <a:pt x="240848" y="109724"/>
                </a:lnTo>
                <a:lnTo>
                  <a:pt x="241098" y="166521"/>
                </a:lnTo>
                <a:lnTo>
                  <a:pt x="241101" y="200091"/>
                </a:lnTo>
                <a:lnTo>
                  <a:pt x="242093" y="201677"/>
                </a:lnTo>
                <a:lnTo>
                  <a:pt x="243746" y="202733"/>
                </a:lnTo>
                <a:lnTo>
                  <a:pt x="245841" y="203438"/>
                </a:lnTo>
                <a:lnTo>
                  <a:pt x="247238" y="204899"/>
                </a:lnTo>
                <a:lnTo>
                  <a:pt x="248169" y="206866"/>
                </a:lnTo>
                <a:lnTo>
                  <a:pt x="250031" y="213776"/>
                </a:lnTo>
              </a:path>
            </a:pathLst>
          </a:custGeom>
          <a:noFill/>
          <a:ln w="38160">
            <a:solidFill>
              <a:srgbClr val="009300"/>
            </a:solidFill>
            <a:round/>
          </a:ln>
        </p:spPr>
        <p:style>
          <a:lnRef idx="0"/>
          <a:fillRef idx="0"/>
          <a:effectRef idx="0"/>
          <a:fontRef idx="minor"/>
        </p:style>
        <p:txBody>
          <a:bodyPr wrap="none" anchor="t">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Hooke’s Law and Elastic and/or Spring PE</a:t>
            </a:r>
            <a:endParaRPr b="0" lang="en-US" sz="4400" spc="-1" strike="noStrike">
              <a:solidFill>
                <a:srgbClr val="ffcc00"/>
              </a:solidFill>
              <a:latin typeface="Times New Roman"/>
            </a:endParaRPr>
          </a:p>
        </p:txBody>
      </p:sp>
      <p:sp>
        <p:nvSpPr>
          <p:cNvPr id="1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prings and elastics store potential energy. The harder an elastic is to stretch or a spring is to compress, the more PE it can store.</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Hooke’s Law states: The deformation of an elastic object is proportional to the force applied to deform i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36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Formulas for EPE</a:t>
            </a:r>
            <a:endParaRPr b="0" lang="en-US" sz="4400" spc="-1" strike="noStrike">
              <a:solidFill>
                <a:srgbClr val="ffcc00"/>
              </a:solidFill>
              <a:latin typeface="Times New Roman"/>
            </a:endParaRPr>
          </a:p>
        </p:txBody>
      </p:sp>
      <p:sp>
        <p:nvSpPr>
          <p:cNvPr id="167" name="PlaceHolder 2"/>
          <p:cNvSpPr>
            <a:spLocks noGrp="1"/>
          </p:cNvSpPr>
          <p:nvPr>
            <p:ph/>
          </p:nvPr>
        </p:nvSpPr>
        <p:spPr>
          <a:xfrm>
            <a:off x="685800" y="1142640"/>
            <a:ext cx="7772400" cy="5715000"/>
          </a:xfrm>
          <a:prstGeom prst="rect">
            <a:avLst/>
          </a:prstGeom>
          <a:noFill/>
          <a:ln w="0">
            <a:noFill/>
          </a:ln>
        </p:spPr>
        <p:txBody>
          <a:bodyPr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Hooke’s Law: F = kx</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where F is force in N</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k is the spring constant in N/m</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x is the distance stretched or </a:t>
            </a: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ffcc"/>
                </a:solidFill>
                <a:latin typeface="Times New Roman"/>
              </a:rPr>
              <a:t>compressed in m</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and  E</a:t>
            </a:r>
            <a:r>
              <a:rPr b="0" lang="en-US" sz="3200" spc="-1" strike="noStrike" baseline="-25000">
                <a:solidFill>
                  <a:srgbClr val="ffffcc"/>
                </a:solidFill>
                <a:latin typeface="Times New Roman"/>
              </a:rPr>
              <a:t>e</a:t>
            </a:r>
            <a:r>
              <a:rPr b="0" lang="en-US" sz="3200" spc="-1" strike="noStrike">
                <a:solidFill>
                  <a:srgbClr val="ffffcc"/>
                </a:solidFill>
                <a:latin typeface="Times New Roman"/>
              </a:rPr>
              <a:t>= 1/2 kx</a:t>
            </a:r>
            <a:r>
              <a:rPr b="0" lang="en-US" sz="3200" spc="-1" strike="noStrike" baseline="30000">
                <a:solidFill>
                  <a:srgbClr val="ffffcc"/>
                </a:solidFill>
                <a:latin typeface="Times New Roman"/>
              </a:rPr>
              <a:t>2</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where E</a:t>
            </a:r>
            <a:r>
              <a:rPr b="0" lang="en-US" sz="3200" spc="-1" strike="noStrike" baseline="-25000">
                <a:solidFill>
                  <a:srgbClr val="ffffcc"/>
                </a:solidFill>
                <a:latin typeface="Times New Roman"/>
              </a:rPr>
              <a:t>e</a:t>
            </a:r>
            <a:r>
              <a:rPr b="0" lang="en-US" sz="3200" spc="-1" strike="noStrike">
                <a:solidFill>
                  <a:srgbClr val="ffffcc"/>
                </a:solidFill>
                <a:latin typeface="Times New Roman"/>
              </a:rPr>
              <a:t> is elastic PE in J</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endParaRPr b="0" lang="en-US" sz="3200" spc="-1" strike="noStrike">
              <a:solidFill>
                <a:srgbClr val="ffffcc"/>
              </a:solidFill>
              <a:latin typeface="Times New Roman"/>
            </a:endParaRPr>
          </a:p>
        </p:txBody>
      </p:sp>
      <p:grpSp>
        <p:nvGrpSpPr>
          <p:cNvPr id="168" name="Group 21"/>
          <p:cNvGrpSpPr/>
          <p:nvPr/>
        </p:nvGrpSpPr>
        <p:grpSpPr>
          <a:xfrm>
            <a:off x="5929200" y="1433520"/>
            <a:ext cx="2143080" cy="914400"/>
            <a:chOff x="5929200" y="1433520"/>
            <a:chExt cx="2143080" cy="914400"/>
          </a:xfrm>
        </p:grpSpPr>
        <p:sp>
          <p:nvSpPr>
            <p:cNvPr id="169" name="SMARTInkAnnotation43"/>
            <p:cNvSpPr/>
            <p:nvPr/>
          </p:nvSpPr>
          <p:spPr>
            <a:xfrm>
              <a:off x="5929200" y="1433520"/>
              <a:ext cx="1169640" cy="325800"/>
            </a:xfrm>
            <a:custGeom>
              <a:avLst/>
              <a:gdLst>
                <a:gd name="textAreaLeft" fmla="*/ 0 w 1169640"/>
                <a:gd name="textAreaRight" fmla="*/ 1170000 w 1169640"/>
                <a:gd name="textAreaTop" fmla="*/ 0 h 325800"/>
                <a:gd name="textAreaBottom" fmla="*/ 325800 h 325800"/>
              </a:gdLst>
              <a:ahLst/>
              <a:rect l="textAreaLeft" t="textAreaTop" r="textAreaRight" b="textAreaBottom"/>
              <a:pathLst>
                <a:path w="1169387" h="326149">
                  <a:moveTo>
                    <a:pt x="26386" y="94142"/>
                  </a:moveTo>
                  <a:lnTo>
                    <a:pt x="21646" y="98883"/>
                  </a:lnTo>
                  <a:lnTo>
                    <a:pt x="20250" y="101271"/>
                  </a:lnTo>
                  <a:lnTo>
                    <a:pt x="17292" y="110365"/>
                  </a:lnTo>
                  <a:lnTo>
                    <a:pt x="13084" y="119873"/>
                  </a:lnTo>
                  <a:lnTo>
                    <a:pt x="11565" y="125187"/>
                  </a:lnTo>
                  <a:lnTo>
                    <a:pt x="10552" y="130714"/>
                  </a:lnTo>
                  <a:lnTo>
                    <a:pt x="9877" y="136382"/>
                  </a:lnTo>
                  <a:lnTo>
                    <a:pt x="6481" y="145327"/>
                  </a:lnTo>
                  <a:lnTo>
                    <a:pt x="4187" y="149101"/>
                  </a:lnTo>
                  <a:lnTo>
                    <a:pt x="1637" y="158587"/>
                  </a:lnTo>
                  <a:lnTo>
                    <a:pt x="957" y="163894"/>
                  </a:lnTo>
                  <a:lnTo>
                    <a:pt x="503" y="169417"/>
                  </a:lnTo>
                  <a:lnTo>
                    <a:pt x="201" y="175083"/>
                  </a:lnTo>
                  <a:lnTo>
                    <a:pt x="0" y="180845"/>
                  </a:lnTo>
                  <a:lnTo>
                    <a:pt x="858" y="185678"/>
                  </a:lnTo>
                  <a:lnTo>
                    <a:pt x="4457" y="193695"/>
                  </a:lnTo>
                  <a:lnTo>
                    <a:pt x="12062" y="208526"/>
                  </a:lnTo>
                  <a:lnTo>
                    <a:pt x="13860" y="214055"/>
                  </a:lnTo>
                  <a:lnTo>
                    <a:pt x="15059" y="219724"/>
                  </a:lnTo>
                  <a:lnTo>
                    <a:pt x="15858" y="225489"/>
                  </a:lnTo>
                  <a:lnTo>
                    <a:pt x="19392" y="234539"/>
                  </a:lnTo>
                  <a:lnTo>
                    <a:pt x="21724" y="238342"/>
                  </a:lnTo>
                  <a:lnTo>
                    <a:pt x="29606" y="245212"/>
                  </a:lnTo>
                  <a:lnTo>
                    <a:pt x="34485" y="248434"/>
                  </a:lnTo>
                  <a:lnTo>
                    <a:pt x="42554" y="257305"/>
                  </a:lnTo>
                  <a:lnTo>
                    <a:pt x="46095" y="262448"/>
                  </a:lnTo>
                  <a:lnTo>
                    <a:pt x="49447" y="265878"/>
                  </a:lnTo>
                  <a:lnTo>
                    <a:pt x="52674" y="268163"/>
                  </a:lnTo>
                  <a:lnTo>
                    <a:pt x="74129" y="278271"/>
                  </a:lnTo>
                  <a:lnTo>
                    <a:pt x="81670" y="280156"/>
                  </a:lnTo>
                  <a:lnTo>
                    <a:pt x="112662" y="281467"/>
                  </a:lnTo>
                  <a:lnTo>
                    <a:pt x="141325" y="281626"/>
                  </a:lnTo>
                  <a:lnTo>
                    <a:pt x="152214" y="279002"/>
                  </a:lnTo>
                  <a:lnTo>
                    <a:pt x="175375" y="269233"/>
                  </a:lnTo>
                  <a:lnTo>
                    <a:pt x="193121" y="260674"/>
                  </a:lnTo>
                  <a:lnTo>
                    <a:pt x="228796" y="242956"/>
                  </a:lnTo>
                  <a:lnTo>
                    <a:pt x="241913" y="234036"/>
                  </a:lnTo>
                  <a:lnTo>
                    <a:pt x="251491" y="225440"/>
                  </a:lnTo>
                  <a:lnTo>
                    <a:pt x="265394" y="212089"/>
                  </a:lnTo>
                  <a:lnTo>
                    <a:pt x="273502" y="205102"/>
                  </a:lnTo>
                  <a:lnTo>
                    <a:pt x="283721" y="198689"/>
                  </a:lnTo>
                  <a:lnTo>
                    <a:pt x="292231" y="189886"/>
                  </a:lnTo>
                  <a:lnTo>
                    <a:pt x="299321" y="180351"/>
                  </a:lnTo>
                  <a:lnTo>
                    <a:pt x="305779" y="172806"/>
                  </a:lnTo>
                  <a:lnTo>
                    <a:pt x="311956" y="163500"/>
                  </a:lnTo>
                  <a:lnTo>
                    <a:pt x="317018" y="153741"/>
                  </a:lnTo>
                  <a:lnTo>
                    <a:pt x="319267" y="146097"/>
                  </a:lnTo>
                  <a:lnTo>
                    <a:pt x="322912" y="139392"/>
                  </a:lnTo>
                  <a:lnTo>
                    <a:pt x="325274" y="136215"/>
                  </a:lnTo>
                  <a:lnTo>
                    <a:pt x="326848" y="132112"/>
                  </a:lnTo>
                  <a:lnTo>
                    <a:pt x="328596" y="122263"/>
                  </a:lnTo>
                  <a:lnTo>
                    <a:pt x="332020" y="113916"/>
                  </a:lnTo>
                  <a:lnTo>
                    <a:pt x="334322" y="110301"/>
                  </a:lnTo>
                  <a:lnTo>
                    <a:pt x="336879" y="100993"/>
                  </a:lnTo>
                  <a:lnTo>
                    <a:pt x="337561" y="95733"/>
                  </a:lnTo>
                  <a:lnTo>
                    <a:pt x="337024" y="91234"/>
                  </a:lnTo>
                  <a:lnTo>
                    <a:pt x="335673" y="87242"/>
                  </a:lnTo>
                  <a:lnTo>
                    <a:pt x="332519" y="80161"/>
                  </a:lnTo>
                  <a:lnTo>
                    <a:pt x="331116" y="73707"/>
                  </a:lnTo>
                  <a:lnTo>
                    <a:pt x="327848" y="64885"/>
                  </a:lnTo>
                  <a:lnTo>
                    <a:pt x="323088" y="55342"/>
                  </a:lnTo>
                  <a:lnTo>
                    <a:pt x="317665" y="47794"/>
                  </a:lnTo>
                  <a:lnTo>
                    <a:pt x="314830" y="45384"/>
                  </a:lnTo>
                  <a:lnTo>
                    <a:pt x="311947" y="43777"/>
                  </a:lnTo>
                  <a:lnTo>
                    <a:pt x="309034" y="42706"/>
                  </a:lnTo>
                  <a:lnTo>
                    <a:pt x="303151" y="38870"/>
                  </a:lnTo>
                  <a:lnTo>
                    <a:pt x="300193" y="36458"/>
                  </a:lnTo>
                  <a:lnTo>
                    <a:pt x="297229" y="34850"/>
                  </a:lnTo>
                  <a:lnTo>
                    <a:pt x="291290" y="33064"/>
                  </a:lnTo>
                  <a:lnTo>
                    <a:pt x="256463" y="31690"/>
                  </a:lnTo>
                  <a:lnTo>
                    <a:pt x="251208" y="31671"/>
                  </a:lnTo>
                  <a:lnTo>
                    <a:pt x="240078" y="34297"/>
                  </a:lnTo>
                  <a:lnTo>
                    <a:pt x="216763" y="44066"/>
                  </a:lnTo>
                  <a:lnTo>
                    <a:pt x="198991" y="52626"/>
                  </a:lnTo>
                  <a:lnTo>
                    <a:pt x="185897" y="61446"/>
                  </a:lnTo>
                  <a:lnTo>
                    <a:pt x="175734" y="70343"/>
                  </a:lnTo>
                  <a:lnTo>
                    <a:pt x="161698" y="79263"/>
                  </a:lnTo>
                  <a:lnTo>
                    <a:pt x="153332" y="87860"/>
                  </a:lnTo>
                  <a:lnTo>
                    <a:pt x="147298" y="97303"/>
                  </a:lnTo>
                  <a:lnTo>
                    <a:pt x="144618" y="104807"/>
                  </a:lnTo>
                  <a:lnTo>
                    <a:pt x="140780" y="114096"/>
                  </a:lnTo>
                  <a:lnTo>
                    <a:pt x="136759" y="123846"/>
                  </a:lnTo>
                  <a:lnTo>
                    <a:pt x="134972" y="131487"/>
                  </a:lnTo>
                  <a:lnTo>
                    <a:pt x="134177" y="140836"/>
                  </a:lnTo>
                  <a:lnTo>
                    <a:pt x="133966" y="146107"/>
                  </a:lnTo>
                  <a:lnTo>
                    <a:pt x="133731" y="157256"/>
                  </a:lnTo>
                  <a:lnTo>
                    <a:pt x="133554" y="193617"/>
                  </a:lnTo>
                  <a:lnTo>
                    <a:pt x="136193" y="203176"/>
                  </a:lnTo>
                  <a:lnTo>
                    <a:pt x="140673" y="213047"/>
                  </a:lnTo>
                  <a:lnTo>
                    <a:pt x="145973" y="220741"/>
                  </a:lnTo>
                  <a:lnTo>
                    <a:pt x="147783" y="225174"/>
                  </a:lnTo>
                  <a:lnTo>
                    <a:pt x="148988" y="230114"/>
                  </a:lnTo>
                  <a:lnTo>
                    <a:pt x="149792" y="235392"/>
                  </a:lnTo>
                  <a:lnTo>
                    <a:pt x="153333" y="243901"/>
                  </a:lnTo>
                  <a:lnTo>
                    <a:pt x="159205" y="251983"/>
                  </a:lnTo>
                  <a:lnTo>
                    <a:pt x="163549" y="256916"/>
                  </a:lnTo>
                  <a:lnTo>
                    <a:pt x="172676" y="266697"/>
                  </a:lnTo>
                  <a:lnTo>
                    <a:pt x="180039" y="274351"/>
                  </a:lnTo>
                  <a:lnTo>
                    <a:pt x="194503" y="284239"/>
                  </a:lnTo>
                  <a:lnTo>
                    <a:pt x="202969" y="287770"/>
                  </a:lnTo>
                  <a:lnTo>
                    <a:pt x="211032" y="289339"/>
                  </a:lnTo>
                  <a:lnTo>
                    <a:pt x="243945" y="290485"/>
                  </a:lnTo>
                  <a:lnTo>
                    <a:pt x="278218" y="290581"/>
                  </a:lnTo>
                  <a:lnTo>
                    <a:pt x="292431" y="287943"/>
                  </a:lnTo>
                  <a:lnTo>
                    <a:pt x="317724" y="278165"/>
                  </a:lnTo>
                  <a:lnTo>
                    <a:pt x="335840" y="269604"/>
                  </a:lnTo>
                  <a:lnTo>
                    <a:pt x="347806" y="261091"/>
                  </a:lnTo>
                  <a:lnTo>
                    <a:pt x="359739" y="251685"/>
                  </a:lnTo>
                  <a:lnTo>
                    <a:pt x="371658" y="244198"/>
                  </a:lnTo>
                  <a:lnTo>
                    <a:pt x="383570" y="234917"/>
                  </a:lnTo>
                  <a:lnTo>
                    <a:pt x="389524" y="229664"/>
                  </a:lnTo>
                  <a:lnTo>
                    <a:pt x="401432" y="218535"/>
                  </a:lnTo>
                  <a:lnTo>
                    <a:pt x="407385" y="212790"/>
                  </a:lnTo>
                  <a:lnTo>
                    <a:pt x="412347" y="206975"/>
                  </a:lnTo>
                  <a:lnTo>
                    <a:pt x="416646" y="201114"/>
                  </a:lnTo>
                  <a:lnTo>
                    <a:pt x="420505" y="195222"/>
                  </a:lnTo>
                  <a:lnTo>
                    <a:pt x="425062" y="189310"/>
                  </a:lnTo>
                  <a:lnTo>
                    <a:pt x="430084" y="183384"/>
                  </a:lnTo>
                  <a:lnTo>
                    <a:pt x="439963" y="172500"/>
                  </a:lnTo>
                  <a:lnTo>
                    <a:pt x="447662" y="164356"/>
                  </a:lnTo>
                  <a:lnTo>
                    <a:pt x="462314" y="149452"/>
                  </a:lnTo>
                  <a:lnTo>
                    <a:pt x="466825" y="143914"/>
                  </a:lnTo>
                  <a:lnTo>
                    <a:pt x="470824" y="138237"/>
                  </a:lnTo>
                  <a:lnTo>
                    <a:pt x="474483" y="132469"/>
                  </a:lnTo>
                  <a:lnTo>
                    <a:pt x="477914" y="126638"/>
                  </a:lnTo>
                  <a:lnTo>
                    <a:pt x="481194" y="120767"/>
                  </a:lnTo>
                  <a:lnTo>
                    <a:pt x="487484" y="108952"/>
                  </a:lnTo>
                  <a:lnTo>
                    <a:pt x="493587" y="97086"/>
                  </a:lnTo>
                  <a:lnTo>
                    <a:pt x="496960" y="87844"/>
                  </a:lnTo>
                  <a:lnTo>
                    <a:pt x="499453" y="79437"/>
                  </a:lnTo>
                  <a:lnTo>
                    <a:pt x="501506" y="74416"/>
                  </a:lnTo>
                  <a:lnTo>
                    <a:pt x="505441" y="64539"/>
                  </a:lnTo>
                  <a:lnTo>
                    <a:pt x="507190" y="56842"/>
                  </a:lnTo>
                  <a:lnTo>
                    <a:pt x="508174" y="46930"/>
                  </a:lnTo>
                  <a:lnTo>
                    <a:pt x="507321" y="43816"/>
                  </a:lnTo>
                  <a:lnTo>
                    <a:pt x="502371" y="34692"/>
                  </a:lnTo>
                  <a:lnTo>
                    <a:pt x="499471" y="25705"/>
                  </a:lnTo>
                  <a:lnTo>
                    <a:pt x="492768" y="16759"/>
                  </a:lnTo>
                  <a:lnTo>
                    <a:pt x="487337" y="10802"/>
                  </a:lnTo>
                  <a:lnTo>
                    <a:pt x="484499" y="8816"/>
                  </a:lnTo>
                  <a:lnTo>
                    <a:pt x="478700" y="6610"/>
                  </a:lnTo>
                  <a:lnTo>
                    <a:pt x="469857" y="5368"/>
                  </a:lnTo>
                  <a:lnTo>
                    <a:pt x="444342" y="4891"/>
                  </a:lnTo>
                  <a:lnTo>
                    <a:pt x="435056" y="7511"/>
                  </a:lnTo>
                  <a:lnTo>
                    <a:pt x="412926" y="17278"/>
                  </a:lnTo>
                  <a:lnTo>
                    <a:pt x="395357" y="25837"/>
                  </a:lnTo>
                  <a:lnTo>
                    <a:pt x="382324" y="34657"/>
                  </a:lnTo>
                  <a:lnTo>
                    <a:pt x="372766" y="43230"/>
                  </a:lnTo>
                  <a:lnTo>
                    <a:pt x="361902" y="52663"/>
                  </a:lnTo>
                  <a:lnTo>
                    <a:pt x="350460" y="60163"/>
                  </a:lnTo>
                  <a:lnTo>
                    <a:pt x="341407" y="69449"/>
                  </a:lnTo>
                  <a:lnTo>
                    <a:pt x="337603" y="74703"/>
                  </a:lnTo>
                  <a:lnTo>
                    <a:pt x="334074" y="80191"/>
                  </a:lnTo>
                  <a:lnTo>
                    <a:pt x="330730" y="85833"/>
                  </a:lnTo>
                  <a:lnTo>
                    <a:pt x="327509" y="91579"/>
                  </a:lnTo>
                  <a:lnTo>
                    <a:pt x="321283" y="103256"/>
                  </a:lnTo>
                  <a:lnTo>
                    <a:pt x="309202" y="126920"/>
                  </a:lnTo>
                  <a:lnTo>
                    <a:pt x="307203" y="132862"/>
                  </a:lnTo>
                  <a:lnTo>
                    <a:pt x="305872" y="138807"/>
                  </a:lnTo>
                  <a:lnTo>
                    <a:pt x="304983" y="144754"/>
                  </a:lnTo>
                  <a:lnTo>
                    <a:pt x="304391" y="150704"/>
                  </a:lnTo>
                  <a:lnTo>
                    <a:pt x="303996" y="156655"/>
                  </a:lnTo>
                  <a:lnTo>
                    <a:pt x="303733" y="162606"/>
                  </a:lnTo>
                  <a:lnTo>
                    <a:pt x="303440" y="174511"/>
                  </a:lnTo>
                  <a:lnTo>
                    <a:pt x="303252" y="193582"/>
                  </a:lnTo>
                  <a:lnTo>
                    <a:pt x="305872" y="203160"/>
                  </a:lnTo>
                  <a:lnTo>
                    <a:pt x="310345" y="213040"/>
                  </a:lnTo>
                  <a:lnTo>
                    <a:pt x="318441" y="225172"/>
                  </a:lnTo>
                  <a:lnTo>
                    <a:pt x="321299" y="230113"/>
                  </a:lnTo>
                  <a:lnTo>
                    <a:pt x="324199" y="235391"/>
                  </a:lnTo>
                  <a:lnTo>
                    <a:pt x="332711" y="243901"/>
                  </a:lnTo>
                  <a:lnTo>
                    <a:pt x="342117" y="250991"/>
                  </a:lnTo>
                  <a:lnTo>
                    <a:pt x="353981" y="260560"/>
                  </a:lnTo>
                  <a:lnTo>
                    <a:pt x="364138" y="266663"/>
                  </a:lnTo>
                  <a:lnTo>
                    <a:pt x="375266" y="270037"/>
                  </a:lnTo>
                  <a:lnTo>
                    <a:pt x="410629" y="272380"/>
                  </a:lnTo>
                  <a:lnTo>
                    <a:pt x="442748" y="272689"/>
                  </a:lnTo>
                  <a:lnTo>
                    <a:pt x="479892" y="265662"/>
                  </a:lnTo>
                  <a:lnTo>
                    <a:pt x="501740" y="261710"/>
                  </a:lnTo>
                  <a:lnTo>
                    <a:pt x="524419" y="254256"/>
                  </a:lnTo>
                  <a:lnTo>
                    <a:pt x="543707" y="245763"/>
                  </a:lnTo>
                  <a:lnTo>
                    <a:pt x="555947" y="238919"/>
                  </a:lnTo>
                  <a:lnTo>
                    <a:pt x="568002" y="229264"/>
                  </a:lnTo>
                  <a:lnTo>
                    <a:pt x="582620" y="221003"/>
                  </a:lnTo>
                  <a:lnTo>
                    <a:pt x="598047" y="213033"/>
                  </a:lnTo>
                  <a:lnTo>
                    <a:pt x="611517" y="202876"/>
                  </a:lnTo>
                  <a:lnTo>
                    <a:pt x="617887" y="197389"/>
                  </a:lnTo>
                  <a:lnTo>
                    <a:pt x="624119" y="191747"/>
                  </a:lnTo>
                  <a:lnTo>
                    <a:pt x="636335" y="180186"/>
                  </a:lnTo>
                  <a:lnTo>
                    <a:pt x="648378" y="168433"/>
                  </a:lnTo>
                  <a:lnTo>
                    <a:pt x="653376" y="162521"/>
                  </a:lnTo>
                  <a:lnTo>
                    <a:pt x="657699" y="156595"/>
                  </a:lnTo>
                  <a:lnTo>
                    <a:pt x="661574" y="150660"/>
                  </a:lnTo>
                  <a:lnTo>
                    <a:pt x="666142" y="144719"/>
                  </a:lnTo>
                  <a:lnTo>
                    <a:pt x="671171" y="138774"/>
                  </a:lnTo>
                  <a:lnTo>
                    <a:pt x="676508" y="132827"/>
                  </a:lnTo>
                  <a:lnTo>
                    <a:pt x="681059" y="126877"/>
                  </a:lnTo>
                  <a:lnTo>
                    <a:pt x="685084" y="120926"/>
                  </a:lnTo>
                  <a:lnTo>
                    <a:pt x="688760" y="114975"/>
                  </a:lnTo>
                  <a:lnTo>
                    <a:pt x="692203" y="109023"/>
                  </a:lnTo>
                  <a:lnTo>
                    <a:pt x="698674" y="97118"/>
                  </a:lnTo>
                  <a:lnTo>
                    <a:pt x="700797" y="91165"/>
                  </a:lnTo>
                  <a:lnTo>
                    <a:pt x="702212" y="85212"/>
                  </a:lnTo>
                  <a:lnTo>
                    <a:pt x="703155" y="79259"/>
                  </a:lnTo>
                  <a:lnTo>
                    <a:pt x="706849" y="69999"/>
                  </a:lnTo>
                  <a:lnTo>
                    <a:pt x="709224" y="66140"/>
                  </a:lnTo>
                  <a:lnTo>
                    <a:pt x="709814" y="61583"/>
                  </a:lnTo>
                  <a:lnTo>
                    <a:pt x="709216" y="56561"/>
                  </a:lnTo>
                  <a:lnTo>
                    <a:pt x="706897" y="46682"/>
                  </a:lnTo>
                  <a:lnTo>
                    <a:pt x="705867" y="38983"/>
                  </a:lnTo>
                  <a:lnTo>
                    <a:pt x="705286" y="29071"/>
                  </a:lnTo>
                  <a:lnTo>
                    <a:pt x="704213" y="25957"/>
                  </a:lnTo>
                  <a:lnTo>
                    <a:pt x="700374" y="19850"/>
                  </a:lnTo>
                  <a:lnTo>
                    <a:pt x="692635" y="10835"/>
                  </a:lnTo>
                  <a:lnTo>
                    <a:pt x="688833" y="8838"/>
                  </a:lnTo>
                  <a:lnTo>
                    <a:pt x="674994" y="5036"/>
                  </a:lnTo>
                  <a:lnTo>
                    <a:pt x="667544" y="631"/>
                  </a:lnTo>
                  <a:lnTo>
                    <a:pt x="663177" y="51"/>
                  </a:lnTo>
                  <a:lnTo>
                    <a:pt x="630350" y="5286"/>
                  </a:lnTo>
                  <a:lnTo>
                    <a:pt x="606761" y="14450"/>
                  </a:lnTo>
                  <a:lnTo>
                    <a:pt x="588941" y="22905"/>
                  </a:lnTo>
                  <a:lnTo>
                    <a:pt x="577043" y="29739"/>
                  </a:lnTo>
                  <a:lnTo>
                    <a:pt x="565140" y="39391"/>
                  </a:lnTo>
                  <a:lnTo>
                    <a:pt x="555882" y="47649"/>
                  </a:lnTo>
                  <a:lnTo>
                    <a:pt x="547468" y="55619"/>
                  </a:lnTo>
                  <a:lnTo>
                    <a:pt x="537113" y="65776"/>
                  </a:lnTo>
                  <a:lnTo>
                    <a:pt x="532566" y="71263"/>
                  </a:lnTo>
                  <a:lnTo>
                    <a:pt x="528542" y="76905"/>
                  </a:lnTo>
                  <a:lnTo>
                    <a:pt x="524868" y="82650"/>
                  </a:lnTo>
                  <a:lnTo>
                    <a:pt x="520433" y="88465"/>
                  </a:lnTo>
                  <a:lnTo>
                    <a:pt x="515494" y="94326"/>
                  </a:lnTo>
                  <a:lnTo>
                    <a:pt x="510215" y="100218"/>
                  </a:lnTo>
                  <a:lnTo>
                    <a:pt x="505704" y="106130"/>
                  </a:lnTo>
                  <a:lnTo>
                    <a:pt x="501706" y="112056"/>
                  </a:lnTo>
                  <a:lnTo>
                    <a:pt x="498046" y="117991"/>
                  </a:lnTo>
                  <a:lnTo>
                    <a:pt x="495608" y="124924"/>
                  </a:lnTo>
                  <a:lnTo>
                    <a:pt x="493982" y="132523"/>
                  </a:lnTo>
                  <a:lnTo>
                    <a:pt x="492898" y="140565"/>
                  </a:lnTo>
                  <a:lnTo>
                    <a:pt x="491184" y="147911"/>
                  </a:lnTo>
                  <a:lnTo>
                    <a:pt x="489048" y="154793"/>
                  </a:lnTo>
                  <a:lnTo>
                    <a:pt x="486631" y="161365"/>
                  </a:lnTo>
                  <a:lnTo>
                    <a:pt x="485022" y="167731"/>
                  </a:lnTo>
                  <a:lnTo>
                    <a:pt x="483948" y="173959"/>
                  </a:lnTo>
                  <a:lnTo>
                    <a:pt x="483232" y="180096"/>
                  </a:lnTo>
                  <a:lnTo>
                    <a:pt x="483747" y="186171"/>
                  </a:lnTo>
                  <a:lnTo>
                    <a:pt x="485082" y="192206"/>
                  </a:lnTo>
                  <a:lnTo>
                    <a:pt x="486965" y="198213"/>
                  </a:lnTo>
                  <a:lnTo>
                    <a:pt x="489212" y="204202"/>
                  </a:lnTo>
                  <a:lnTo>
                    <a:pt x="491703" y="210180"/>
                  </a:lnTo>
                  <a:lnTo>
                    <a:pt x="494354" y="216149"/>
                  </a:lnTo>
                  <a:lnTo>
                    <a:pt x="499948" y="225427"/>
                  </a:lnTo>
                  <a:lnTo>
                    <a:pt x="506733" y="233850"/>
                  </a:lnTo>
                  <a:lnTo>
                    <a:pt x="511321" y="238875"/>
                  </a:lnTo>
                  <a:lnTo>
                    <a:pt x="524611" y="252781"/>
                  </a:lnTo>
                  <a:lnTo>
                    <a:pt x="542732" y="271109"/>
                  </a:lnTo>
                  <a:lnTo>
                    <a:pt x="548218" y="274628"/>
                  </a:lnTo>
                  <a:lnTo>
                    <a:pt x="573928" y="282921"/>
                  </a:lnTo>
                  <a:lnTo>
                    <a:pt x="596078" y="288321"/>
                  </a:lnTo>
                  <a:lnTo>
                    <a:pt x="626082" y="290146"/>
                  </a:lnTo>
                  <a:lnTo>
                    <a:pt x="659680" y="289514"/>
                  </a:lnTo>
                  <a:lnTo>
                    <a:pt x="689100" y="283510"/>
                  </a:lnTo>
                  <a:lnTo>
                    <a:pt x="714539" y="279566"/>
                  </a:lnTo>
                  <a:lnTo>
                    <a:pt x="732083" y="273787"/>
                  </a:lnTo>
                  <a:lnTo>
                    <a:pt x="758696" y="260369"/>
                  </a:lnTo>
                  <a:lnTo>
                    <a:pt x="776513" y="253018"/>
                  </a:lnTo>
                  <a:lnTo>
                    <a:pt x="791708" y="243798"/>
                  </a:lnTo>
                  <a:lnTo>
                    <a:pt x="805076" y="234078"/>
                  </a:lnTo>
                  <a:lnTo>
                    <a:pt x="832473" y="217107"/>
                  </a:lnTo>
                  <a:lnTo>
                    <a:pt x="840598" y="211838"/>
                  </a:lnTo>
                  <a:lnTo>
                    <a:pt x="847998" y="205348"/>
                  </a:lnTo>
                  <a:lnTo>
                    <a:pt x="854917" y="198045"/>
                  </a:lnTo>
                  <a:lnTo>
                    <a:pt x="861513" y="190200"/>
                  </a:lnTo>
                  <a:lnTo>
                    <a:pt x="866903" y="182985"/>
                  </a:lnTo>
                  <a:lnTo>
                    <a:pt x="871489" y="176191"/>
                  </a:lnTo>
                  <a:lnTo>
                    <a:pt x="875537" y="169677"/>
                  </a:lnTo>
                  <a:lnTo>
                    <a:pt x="880222" y="163350"/>
                  </a:lnTo>
                  <a:lnTo>
                    <a:pt x="885328" y="157148"/>
                  </a:lnTo>
                  <a:lnTo>
                    <a:pt x="890717" y="151029"/>
                  </a:lnTo>
                  <a:lnTo>
                    <a:pt x="895302" y="144965"/>
                  </a:lnTo>
                  <a:lnTo>
                    <a:pt x="899351" y="138938"/>
                  </a:lnTo>
                  <a:lnTo>
                    <a:pt x="903043" y="132936"/>
                  </a:lnTo>
                  <a:lnTo>
                    <a:pt x="906495" y="126950"/>
                  </a:lnTo>
                  <a:lnTo>
                    <a:pt x="912978" y="115007"/>
                  </a:lnTo>
                  <a:lnTo>
                    <a:pt x="915103" y="109044"/>
                  </a:lnTo>
                  <a:lnTo>
                    <a:pt x="916521" y="103085"/>
                  </a:lnTo>
                  <a:lnTo>
                    <a:pt x="917465" y="97127"/>
                  </a:lnTo>
                  <a:lnTo>
                    <a:pt x="919087" y="91171"/>
                  </a:lnTo>
                  <a:lnTo>
                    <a:pt x="921161" y="85216"/>
                  </a:lnTo>
                  <a:lnTo>
                    <a:pt x="923536" y="79262"/>
                  </a:lnTo>
                  <a:lnTo>
                    <a:pt x="926173" y="70000"/>
                  </a:lnTo>
                  <a:lnTo>
                    <a:pt x="926878" y="66141"/>
                  </a:lnTo>
                  <a:lnTo>
                    <a:pt x="925013" y="56562"/>
                  </a:lnTo>
                  <a:lnTo>
                    <a:pt x="921870" y="46682"/>
                  </a:lnTo>
                  <a:lnTo>
                    <a:pt x="920473" y="38983"/>
                  </a:lnTo>
                  <a:lnTo>
                    <a:pt x="917206" y="29609"/>
                  </a:lnTo>
                  <a:lnTo>
                    <a:pt x="914946" y="24331"/>
                  </a:lnTo>
                  <a:lnTo>
                    <a:pt x="912447" y="20812"/>
                  </a:lnTo>
                  <a:lnTo>
                    <a:pt x="909789" y="18466"/>
                  </a:lnTo>
                  <a:lnTo>
                    <a:pt x="904188" y="14868"/>
                  </a:lnTo>
                  <a:lnTo>
                    <a:pt x="898393" y="9961"/>
                  </a:lnTo>
                  <a:lnTo>
                    <a:pt x="895459" y="8256"/>
                  </a:lnTo>
                  <a:lnTo>
                    <a:pt x="875908" y="554"/>
                  </a:lnTo>
                  <a:lnTo>
                    <a:pt x="870546" y="0"/>
                  </a:lnTo>
                  <a:lnTo>
                    <a:pt x="835907" y="5281"/>
                  </a:lnTo>
                  <a:lnTo>
                    <a:pt x="812178" y="14449"/>
                  </a:lnTo>
                  <a:lnTo>
                    <a:pt x="806231" y="17201"/>
                  </a:lnTo>
                  <a:lnTo>
                    <a:pt x="794329" y="26973"/>
                  </a:lnTo>
                  <a:lnTo>
                    <a:pt x="778458" y="41425"/>
                  </a:lnTo>
                  <a:lnTo>
                    <a:pt x="759940" y="58998"/>
                  </a:lnTo>
                  <a:lnTo>
                    <a:pt x="745609" y="73689"/>
                  </a:lnTo>
                  <a:lnTo>
                    <a:pt x="734072" y="86460"/>
                  </a:lnTo>
                  <a:lnTo>
                    <a:pt x="724395" y="97950"/>
                  </a:lnTo>
                  <a:lnTo>
                    <a:pt x="717944" y="107595"/>
                  </a:lnTo>
                  <a:lnTo>
                    <a:pt x="713643" y="116009"/>
                  </a:lnTo>
                  <a:lnTo>
                    <a:pt x="710776" y="123603"/>
                  </a:lnTo>
                  <a:lnTo>
                    <a:pt x="707873" y="130650"/>
                  </a:lnTo>
                  <a:lnTo>
                    <a:pt x="704945" y="137332"/>
                  </a:lnTo>
                  <a:lnTo>
                    <a:pt x="702001" y="143771"/>
                  </a:lnTo>
                  <a:lnTo>
                    <a:pt x="700037" y="151041"/>
                  </a:lnTo>
                  <a:lnTo>
                    <a:pt x="698730" y="158864"/>
                  </a:lnTo>
                  <a:lnTo>
                    <a:pt x="697857" y="167055"/>
                  </a:lnTo>
                  <a:lnTo>
                    <a:pt x="697276" y="174501"/>
                  </a:lnTo>
                  <a:lnTo>
                    <a:pt x="696888" y="181449"/>
                  </a:lnTo>
                  <a:lnTo>
                    <a:pt x="696457" y="194461"/>
                  </a:lnTo>
                  <a:lnTo>
                    <a:pt x="696265" y="206858"/>
                  </a:lnTo>
                  <a:lnTo>
                    <a:pt x="697207" y="212942"/>
                  </a:lnTo>
                  <a:lnTo>
                    <a:pt x="698827" y="218983"/>
                  </a:lnTo>
                  <a:lnTo>
                    <a:pt x="708555" y="247676"/>
                  </a:lnTo>
                  <a:lnTo>
                    <a:pt x="712345" y="255037"/>
                  </a:lnTo>
                  <a:lnTo>
                    <a:pt x="716856" y="261929"/>
                  </a:lnTo>
                  <a:lnTo>
                    <a:pt x="721847" y="268508"/>
                  </a:lnTo>
                  <a:lnTo>
                    <a:pt x="730041" y="278463"/>
                  </a:lnTo>
                  <a:lnTo>
                    <a:pt x="737981" y="287188"/>
                  </a:lnTo>
                  <a:lnTo>
                    <a:pt x="748124" y="297680"/>
                  </a:lnTo>
                  <a:lnTo>
                    <a:pt x="761893" y="306311"/>
                  </a:lnTo>
                  <a:lnTo>
                    <a:pt x="777935" y="313455"/>
                  </a:lnTo>
                  <a:lnTo>
                    <a:pt x="802708" y="322063"/>
                  </a:lnTo>
                  <a:lnTo>
                    <a:pt x="832004" y="325474"/>
                  </a:lnTo>
                  <a:lnTo>
                    <a:pt x="866161" y="326148"/>
                  </a:lnTo>
                  <a:lnTo>
                    <a:pt x="901571" y="325289"/>
                  </a:lnTo>
                  <a:lnTo>
                    <a:pt x="937230" y="316594"/>
                  </a:lnTo>
                  <a:lnTo>
                    <a:pt x="955080" y="310088"/>
                  </a:lnTo>
                  <a:lnTo>
                    <a:pt x="972935" y="300581"/>
                  </a:lnTo>
                  <a:lnTo>
                    <a:pt x="990794" y="292388"/>
                  </a:lnTo>
                  <a:lnTo>
                    <a:pt x="1007660" y="284447"/>
                  </a:lnTo>
                  <a:lnTo>
                    <a:pt x="1021771" y="274303"/>
                  </a:lnTo>
                  <a:lnTo>
                    <a:pt x="1029304" y="268819"/>
                  </a:lnTo>
                  <a:lnTo>
                    <a:pt x="1045611" y="257435"/>
                  </a:lnTo>
                  <a:lnTo>
                    <a:pt x="1053135" y="251621"/>
                  </a:lnTo>
                  <a:lnTo>
                    <a:pt x="1060135" y="245761"/>
                  </a:lnTo>
                  <a:lnTo>
                    <a:pt x="1066787" y="239870"/>
                  </a:lnTo>
                  <a:lnTo>
                    <a:pt x="1079468" y="228032"/>
                  </a:lnTo>
                  <a:lnTo>
                    <a:pt x="1085628" y="222098"/>
                  </a:lnTo>
                  <a:lnTo>
                    <a:pt x="1097765" y="212857"/>
                  </a:lnTo>
                  <a:lnTo>
                    <a:pt x="1103778" y="209004"/>
                  </a:lnTo>
                  <a:lnTo>
                    <a:pt x="1108780" y="203459"/>
                  </a:lnTo>
                  <a:lnTo>
                    <a:pt x="1113107" y="196786"/>
                  </a:lnTo>
                  <a:lnTo>
                    <a:pt x="1130335" y="163185"/>
                  </a:lnTo>
                  <a:lnTo>
                    <a:pt x="1136487" y="150955"/>
                  </a:lnTo>
                  <a:lnTo>
                    <a:pt x="1138523" y="144916"/>
                  </a:lnTo>
                  <a:lnTo>
                    <a:pt x="1139882" y="138905"/>
                  </a:lnTo>
                  <a:lnTo>
                    <a:pt x="1140785" y="132914"/>
                  </a:lnTo>
                  <a:lnTo>
                    <a:pt x="1142382" y="126935"/>
                  </a:lnTo>
                  <a:lnTo>
                    <a:pt x="1144437" y="120965"/>
                  </a:lnTo>
                  <a:lnTo>
                    <a:pt x="1146801" y="115001"/>
                  </a:lnTo>
                  <a:lnTo>
                    <a:pt x="1148376" y="109040"/>
                  </a:lnTo>
                  <a:lnTo>
                    <a:pt x="1149427" y="103082"/>
                  </a:lnTo>
                  <a:lnTo>
                    <a:pt x="1150126" y="97125"/>
                  </a:lnTo>
                  <a:lnTo>
                    <a:pt x="1149601" y="91170"/>
                  </a:lnTo>
                  <a:lnTo>
                    <a:pt x="1148259" y="85215"/>
                  </a:lnTo>
                  <a:lnTo>
                    <a:pt x="1146370" y="79261"/>
                  </a:lnTo>
                  <a:lnTo>
                    <a:pt x="1144274" y="70000"/>
                  </a:lnTo>
                  <a:lnTo>
                    <a:pt x="1142351" y="61584"/>
                  </a:lnTo>
                  <a:lnTo>
                    <a:pt x="1140448" y="56562"/>
                  </a:lnTo>
                  <a:lnTo>
                    <a:pt x="1135689" y="46682"/>
                  </a:lnTo>
                  <a:lnTo>
                    <a:pt x="1130267" y="38983"/>
                  </a:lnTo>
                  <a:lnTo>
                    <a:pt x="1121635" y="29071"/>
                  </a:lnTo>
                  <a:lnTo>
                    <a:pt x="1118700" y="26949"/>
                  </a:lnTo>
                  <a:lnTo>
                    <a:pt x="1112794" y="24591"/>
                  </a:lnTo>
                  <a:lnTo>
                    <a:pt x="1077754" y="22815"/>
                  </a:lnTo>
                  <a:lnTo>
                    <a:pt x="1069791" y="22754"/>
                  </a:lnTo>
                  <a:lnTo>
                    <a:pt x="1060298" y="25372"/>
                  </a:lnTo>
                  <a:lnTo>
                    <a:pt x="1038036" y="35138"/>
                  </a:lnTo>
                  <a:lnTo>
                    <a:pt x="1026341" y="43444"/>
                  </a:lnTo>
                  <a:lnTo>
                    <a:pt x="1014529" y="52758"/>
                  </a:lnTo>
                  <a:lnTo>
                    <a:pt x="1002665" y="60205"/>
                  </a:lnTo>
                  <a:lnTo>
                    <a:pt x="990777" y="69468"/>
                  </a:lnTo>
                  <a:lnTo>
                    <a:pt x="984829" y="74716"/>
                  </a:lnTo>
                  <a:lnTo>
                    <a:pt x="972929" y="85839"/>
                  </a:lnTo>
                  <a:lnTo>
                    <a:pt x="966977" y="91583"/>
                  </a:lnTo>
                  <a:lnTo>
                    <a:pt x="962017" y="98389"/>
                  </a:lnTo>
                  <a:lnTo>
                    <a:pt x="957718" y="105903"/>
                  </a:lnTo>
                  <a:lnTo>
                    <a:pt x="934393" y="153316"/>
                  </a:lnTo>
                  <a:lnTo>
                    <a:pt x="931364" y="160381"/>
                  </a:lnTo>
                  <a:lnTo>
                    <a:pt x="928353" y="168067"/>
                  </a:lnTo>
                  <a:lnTo>
                    <a:pt x="925353" y="176167"/>
                  </a:lnTo>
                  <a:lnTo>
                    <a:pt x="923354" y="183552"/>
                  </a:lnTo>
                  <a:lnTo>
                    <a:pt x="922021" y="190460"/>
                  </a:lnTo>
                  <a:lnTo>
                    <a:pt x="921132" y="197049"/>
                  </a:lnTo>
                  <a:lnTo>
                    <a:pt x="920539" y="203426"/>
                  </a:lnTo>
                  <a:lnTo>
                    <a:pt x="920145" y="209662"/>
                  </a:lnTo>
                  <a:lnTo>
                    <a:pt x="919882" y="215804"/>
                  </a:lnTo>
                  <a:lnTo>
                    <a:pt x="920698" y="221883"/>
                  </a:lnTo>
                  <a:lnTo>
                    <a:pt x="922234" y="227920"/>
                  </a:lnTo>
                  <a:lnTo>
                    <a:pt x="924251" y="233929"/>
                  </a:lnTo>
                  <a:lnTo>
                    <a:pt x="926588" y="239919"/>
                  </a:lnTo>
                  <a:lnTo>
                    <a:pt x="929137" y="245897"/>
                  </a:lnTo>
                  <a:lnTo>
                    <a:pt x="931830" y="251867"/>
                  </a:lnTo>
                  <a:lnTo>
                    <a:pt x="935609" y="256839"/>
                  </a:lnTo>
                  <a:lnTo>
                    <a:pt x="945100" y="265009"/>
                  </a:lnTo>
                  <a:lnTo>
                    <a:pt x="953286" y="274593"/>
                  </a:lnTo>
                  <a:lnTo>
                    <a:pt x="956858" y="279927"/>
                  </a:lnTo>
                  <a:lnTo>
                    <a:pt x="966119" y="288500"/>
                  </a:lnTo>
                  <a:lnTo>
                    <a:pt x="971367" y="292175"/>
                  </a:lnTo>
                  <a:lnTo>
                    <a:pt x="982489" y="296258"/>
                  </a:lnTo>
                  <a:lnTo>
                    <a:pt x="994047" y="299065"/>
                  </a:lnTo>
                  <a:lnTo>
                    <a:pt x="1011710" y="305232"/>
                  </a:lnTo>
                  <a:lnTo>
                    <a:pt x="1041405" y="308030"/>
                  </a:lnTo>
                  <a:lnTo>
                    <a:pt x="1053305" y="305620"/>
                  </a:lnTo>
                  <a:lnTo>
                    <a:pt x="1066201" y="302234"/>
                  </a:lnTo>
                  <a:lnTo>
                    <a:pt x="1089203" y="299335"/>
                  </a:lnTo>
                  <a:lnTo>
                    <a:pt x="1115256" y="289970"/>
                  </a:lnTo>
                  <a:lnTo>
                    <a:pt x="1133504" y="281480"/>
                  </a:lnTo>
                  <a:lnTo>
                    <a:pt x="1169386" y="263806"/>
                  </a:lnTo>
                </a:path>
              </a:pathLst>
            </a:custGeom>
            <a:noFill/>
            <a:ln w="38160">
              <a:solidFill>
                <a:srgbClr val="009300"/>
              </a:solidFill>
              <a:round/>
            </a:ln>
          </p:spPr>
          <p:style>
            <a:lnRef idx="0"/>
            <a:fillRef idx="0"/>
            <a:effectRef idx="0"/>
            <a:fontRef idx="minor"/>
          </p:style>
          <p:txBody>
            <a:bodyPr wrap="none" anchor="t">
              <a:noAutofit/>
            </a:bodyPr>
            <a:p>
              <a:endParaRPr b="0" lang="en-US" sz="2400" spc="-1" strike="noStrike">
                <a:solidFill>
                  <a:srgbClr val="ffffcc"/>
                </a:solidFill>
                <a:latin typeface="Times New Roman"/>
              </a:endParaRPr>
            </a:p>
          </p:txBody>
        </p:sp>
        <p:sp>
          <p:nvSpPr>
            <p:cNvPr id="170" name="SMARTInkAnnotation44"/>
            <p:cNvSpPr/>
            <p:nvPr/>
          </p:nvSpPr>
          <p:spPr>
            <a:xfrm>
              <a:off x="7089840" y="1670040"/>
              <a:ext cx="31680" cy="115920"/>
            </a:xfrm>
            <a:custGeom>
              <a:avLst/>
              <a:gdLst>
                <a:gd name="textAreaLeft" fmla="*/ 0 w 31680"/>
                <a:gd name="textAreaRight" fmla="*/ 32040 w 31680"/>
                <a:gd name="textAreaTop" fmla="*/ 0 h 115920"/>
                <a:gd name="textAreaBottom" fmla="*/ 116280 h 115920"/>
              </a:gdLst>
              <a:ahLst/>
              <a:rect l="textAreaLeft" t="textAreaTop" r="textAreaRight" b="textAreaBottom"/>
              <a:pathLst>
                <a:path w="31913" h="116087">
                  <a:moveTo>
                    <a:pt x="8930" y="0"/>
                  </a:moveTo>
                  <a:lnTo>
                    <a:pt x="8930" y="21250"/>
                  </a:lnTo>
                  <a:lnTo>
                    <a:pt x="9922" y="24088"/>
                  </a:lnTo>
                  <a:lnTo>
                    <a:pt x="11575" y="26973"/>
                  </a:lnTo>
                  <a:lnTo>
                    <a:pt x="13670" y="29888"/>
                  </a:lnTo>
                  <a:lnTo>
                    <a:pt x="15067" y="32824"/>
                  </a:lnTo>
                  <a:lnTo>
                    <a:pt x="15998" y="35773"/>
                  </a:lnTo>
                  <a:lnTo>
                    <a:pt x="16618" y="38732"/>
                  </a:lnTo>
                  <a:lnTo>
                    <a:pt x="17032" y="41696"/>
                  </a:lnTo>
                  <a:lnTo>
                    <a:pt x="17308" y="44665"/>
                  </a:lnTo>
                  <a:lnTo>
                    <a:pt x="17492" y="47636"/>
                  </a:lnTo>
                  <a:lnTo>
                    <a:pt x="17696" y="53583"/>
                  </a:lnTo>
                  <a:lnTo>
                    <a:pt x="17826" y="65485"/>
                  </a:lnTo>
                  <a:lnTo>
                    <a:pt x="17860" y="116076"/>
                  </a:lnTo>
                  <a:lnTo>
                    <a:pt x="17860" y="102783"/>
                  </a:lnTo>
                  <a:lnTo>
                    <a:pt x="18852" y="100272"/>
                  </a:lnTo>
                  <a:lnTo>
                    <a:pt x="20505" y="97606"/>
                  </a:lnTo>
                  <a:lnTo>
                    <a:pt x="22600" y="94836"/>
                  </a:lnTo>
                  <a:lnTo>
                    <a:pt x="23997" y="91005"/>
                  </a:lnTo>
                  <a:lnTo>
                    <a:pt x="24928" y="86467"/>
                  </a:lnTo>
                  <a:lnTo>
                    <a:pt x="25548" y="81457"/>
                  </a:lnTo>
                  <a:lnTo>
                    <a:pt x="25962" y="77125"/>
                  </a:lnTo>
                  <a:lnTo>
                    <a:pt x="26238" y="73245"/>
                  </a:lnTo>
                  <a:lnTo>
                    <a:pt x="26420" y="69666"/>
                  </a:lnTo>
                  <a:lnTo>
                    <a:pt x="26626" y="63044"/>
                  </a:lnTo>
                  <a:lnTo>
                    <a:pt x="26680" y="59888"/>
                  </a:lnTo>
                  <a:lnTo>
                    <a:pt x="27708" y="56793"/>
                  </a:lnTo>
                  <a:lnTo>
                    <a:pt x="29386" y="53737"/>
                  </a:lnTo>
                  <a:lnTo>
                    <a:pt x="31497" y="50707"/>
                  </a:lnTo>
                  <a:lnTo>
                    <a:pt x="31912" y="48688"/>
                  </a:lnTo>
                  <a:lnTo>
                    <a:pt x="31196" y="47341"/>
                  </a:lnTo>
                  <a:lnTo>
                    <a:pt x="29727" y="46444"/>
                  </a:lnTo>
                  <a:lnTo>
                    <a:pt x="28747" y="44853"/>
                  </a:lnTo>
                  <a:lnTo>
                    <a:pt x="28095" y="42800"/>
                  </a:lnTo>
                  <a:lnTo>
                    <a:pt x="27660" y="40440"/>
                  </a:lnTo>
                  <a:lnTo>
                    <a:pt x="27369" y="37874"/>
                  </a:lnTo>
                  <a:lnTo>
                    <a:pt x="27176" y="35171"/>
                  </a:lnTo>
                  <a:lnTo>
                    <a:pt x="27047" y="32377"/>
                  </a:lnTo>
                  <a:lnTo>
                    <a:pt x="26903" y="26627"/>
                  </a:lnTo>
                  <a:lnTo>
                    <a:pt x="26865" y="23704"/>
                  </a:lnTo>
                  <a:lnTo>
                    <a:pt x="25848" y="21756"/>
                  </a:lnTo>
                  <a:lnTo>
                    <a:pt x="24178" y="20457"/>
                  </a:lnTo>
                  <a:lnTo>
                    <a:pt x="22071" y="19591"/>
                  </a:lnTo>
                  <a:lnTo>
                    <a:pt x="20667" y="18022"/>
                  </a:lnTo>
                  <a:lnTo>
                    <a:pt x="19731" y="15983"/>
                  </a:lnTo>
                  <a:lnTo>
                    <a:pt x="18229" y="10323"/>
                  </a:lnTo>
                  <a:lnTo>
                    <a:pt x="18023" y="6903"/>
                  </a:lnTo>
                  <a:lnTo>
                    <a:pt x="17861" y="36"/>
                  </a:lnTo>
                  <a:lnTo>
                    <a:pt x="17860" y="16509"/>
                  </a:lnTo>
                  <a:lnTo>
                    <a:pt x="16868" y="17952"/>
                  </a:lnTo>
                  <a:lnTo>
                    <a:pt x="15214" y="19905"/>
                  </a:lnTo>
                  <a:lnTo>
                    <a:pt x="13120" y="22200"/>
                  </a:lnTo>
                  <a:lnTo>
                    <a:pt x="11722" y="24722"/>
                  </a:lnTo>
                  <a:lnTo>
                    <a:pt x="10792" y="27395"/>
                  </a:lnTo>
                  <a:lnTo>
                    <a:pt x="10171" y="30170"/>
                  </a:lnTo>
                  <a:lnTo>
                    <a:pt x="9757" y="33012"/>
                  </a:lnTo>
                  <a:lnTo>
                    <a:pt x="9481" y="35898"/>
                  </a:lnTo>
                  <a:lnTo>
                    <a:pt x="9297" y="38815"/>
                  </a:lnTo>
                  <a:lnTo>
                    <a:pt x="9094" y="44702"/>
                  </a:lnTo>
                  <a:lnTo>
                    <a:pt x="9039" y="47660"/>
                  </a:lnTo>
                  <a:lnTo>
                    <a:pt x="8010" y="51617"/>
                  </a:lnTo>
                  <a:lnTo>
                    <a:pt x="6333" y="56240"/>
                  </a:lnTo>
                  <a:lnTo>
                    <a:pt x="4222" y="61306"/>
                  </a:lnTo>
                  <a:lnTo>
                    <a:pt x="2815" y="65675"/>
                  </a:lnTo>
                  <a:lnTo>
                    <a:pt x="1876" y="69580"/>
                  </a:lnTo>
                  <a:lnTo>
                    <a:pt x="371" y="78236"/>
                  </a:lnTo>
                  <a:lnTo>
                    <a:pt x="248" y="79939"/>
                  </a:lnTo>
                  <a:lnTo>
                    <a:pt x="165" y="82066"/>
                  </a:lnTo>
                  <a:lnTo>
                    <a:pt x="49" y="89800"/>
                  </a:lnTo>
                  <a:lnTo>
                    <a:pt x="0" y="116086"/>
                  </a:lnTo>
                </a:path>
              </a:pathLst>
            </a:custGeom>
            <a:noFill/>
            <a:ln w="38160">
              <a:solidFill>
                <a:srgbClr val="009300"/>
              </a:solidFill>
              <a:round/>
            </a:ln>
          </p:spPr>
          <p:style>
            <a:lnRef idx="0"/>
            <a:fillRef idx="0"/>
            <a:effectRef idx="0"/>
            <a:fontRef idx="minor"/>
          </p:style>
          <p:txBody>
            <a:bodyPr wrap="none" anchor="t">
              <a:noAutofit/>
            </a:bodyPr>
            <a:p>
              <a:endParaRPr b="0" lang="en-US" sz="2400" spc="-1" strike="noStrike">
                <a:solidFill>
                  <a:srgbClr val="ffffcc"/>
                </a:solidFill>
                <a:latin typeface="Times New Roman"/>
              </a:endParaRPr>
            </a:p>
          </p:txBody>
        </p:sp>
        <p:sp>
          <p:nvSpPr>
            <p:cNvPr id="171" name="SMARTInkAnnotation45"/>
            <p:cNvSpPr/>
            <p:nvPr/>
          </p:nvSpPr>
          <p:spPr>
            <a:xfrm>
              <a:off x="6982920" y="1848600"/>
              <a:ext cx="196200" cy="178200"/>
            </a:xfrm>
            <a:custGeom>
              <a:avLst/>
              <a:gdLst>
                <a:gd name="textAreaLeft" fmla="*/ 0 w 196200"/>
                <a:gd name="textAreaRight" fmla="*/ 196560 w 196200"/>
                <a:gd name="textAreaTop" fmla="*/ 0 h 178200"/>
                <a:gd name="textAreaBottom" fmla="*/ 178560 h 178200"/>
              </a:gdLst>
              <a:ahLst/>
              <a:rect l="textAreaLeft" t="textAreaTop" r="textAreaRight" b="textAreaBottom"/>
              <a:pathLst>
                <a:path w="196171" h="178439">
                  <a:moveTo>
                    <a:pt x="124891" y="0"/>
                  </a:moveTo>
                  <a:lnTo>
                    <a:pt x="78493" y="0"/>
                  </a:lnTo>
                  <a:lnTo>
                    <a:pt x="74116" y="992"/>
                  </a:lnTo>
                  <a:lnTo>
                    <a:pt x="69213" y="2645"/>
                  </a:lnTo>
                  <a:lnTo>
                    <a:pt x="63959" y="4740"/>
                  </a:lnTo>
                  <a:lnTo>
                    <a:pt x="59465" y="6136"/>
                  </a:lnTo>
                  <a:lnTo>
                    <a:pt x="55476" y="7067"/>
                  </a:lnTo>
                  <a:lnTo>
                    <a:pt x="51826" y="7688"/>
                  </a:lnTo>
                  <a:lnTo>
                    <a:pt x="48399" y="10086"/>
                  </a:lnTo>
                  <a:lnTo>
                    <a:pt x="45123" y="13670"/>
                  </a:lnTo>
                  <a:lnTo>
                    <a:pt x="41946" y="18043"/>
                  </a:lnTo>
                  <a:lnTo>
                    <a:pt x="37844" y="21950"/>
                  </a:lnTo>
                  <a:lnTo>
                    <a:pt x="33126" y="25547"/>
                  </a:lnTo>
                  <a:lnTo>
                    <a:pt x="27995" y="28938"/>
                  </a:lnTo>
                  <a:lnTo>
                    <a:pt x="23582" y="32190"/>
                  </a:lnTo>
                  <a:lnTo>
                    <a:pt x="19649" y="35351"/>
                  </a:lnTo>
                  <a:lnTo>
                    <a:pt x="16034" y="38450"/>
                  </a:lnTo>
                  <a:lnTo>
                    <a:pt x="13624" y="42501"/>
                  </a:lnTo>
                  <a:lnTo>
                    <a:pt x="12018" y="47185"/>
                  </a:lnTo>
                  <a:lnTo>
                    <a:pt x="10947" y="52293"/>
                  </a:lnTo>
                  <a:lnTo>
                    <a:pt x="9240" y="56690"/>
                  </a:lnTo>
                  <a:lnTo>
                    <a:pt x="7110" y="60613"/>
                  </a:lnTo>
                  <a:lnTo>
                    <a:pt x="4699" y="64221"/>
                  </a:lnTo>
                  <a:lnTo>
                    <a:pt x="3090" y="68611"/>
                  </a:lnTo>
                  <a:lnTo>
                    <a:pt x="2018" y="73522"/>
                  </a:lnTo>
                  <a:lnTo>
                    <a:pt x="1304" y="78780"/>
                  </a:lnTo>
                  <a:lnTo>
                    <a:pt x="828" y="84270"/>
                  </a:lnTo>
                  <a:lnTo>
                    <a:pt x="510" y="89914"/>
                  </a:lnTo>
                  <a:lnTo>
                    <a:pt x="157" y="100485"/>
                  </a:lnTo>
                  <a:lnTo>
                    <a:pt x="0" y="108491"/>
                  </a:lnTo>
                  <a:lnTo>
                    <a:pt x="951" y="113007"/>
                  </a:lnTo>
                  <a:lnTo>
                    <a:pt x="2576" y="118002"/>
                  </a:lnTo>
                  <a:lnTo>
                    <a:pt x="4652" y="123316"/>
                  </a:lnTo>
                  <a:lnTo>
                    <a:pt x="7028" y="127851"/>
                  </a:lnTo>
                  <a:lnTo>
                    <a:pt x="9604" y="131867"/>
                  </a:lnTo>
                  <a:lnTo>
                    <a:pt x="12314" y="135536"/>
                  </a:lnTo>
                  <a:lnTo>
                    <a:pt x="15113" y="138974"/>
                  </a:lnTo>
                  <a:lnTo>
                    <a:pt x="17971" y="142259"/>
                  </a:lnTo>
                  <a:lnTo>
                    <a:pt x="20868" y="145441"/>
                  </a:lnTo>
                  <a:lnTo>
                    <a:pt x="24784" y="148554"/>
                  </a:lnTo>
                  <a:lnTo>
                    <a:pt x="29380" y="151622"/>
                  </a:lnTo>
                  <a:lnTo>
                    <a:pt x="34427" y="154659"/>
                  </a:lnTo>
                  <a:lnTo>
                    <a:pt x="38785" y="157676"/>
                  </a:lnTo>
                  <a:lnTo>
                    <a:pt x="42683" y="160680"/>
                  </a:lnTo>
                  <a:lnTo>
                    <a:pt x="46272" y="163675"/>
                  </a:lnTo>
                  <a:lnTo>
                    <a:pt x="50650" y="166663"/>
                  </a:lnTo>
                  <a:lnTo>
                    <a:pt x="55552" y="169648"/>
                  </a:lnTo>
                  <a:lnTo>
                    <a:pt x="60806" y="172630"/>
                  </a:lnTo>
                  <a:lnTo>
                    <a:pt x="66292" y="174617"/>
                  </a:lnTo>
                  <a:lnTo>
                    <a:pt x="71934" y="175943"/>
                  </a:lnTo>
                  <a:lnTo>
                    <a:pt x="77680" y="176826"/>
                  </a:lnTo>
                  <a:lnTo>
                    <a:pt x="83496" y="177415"/>
                  </a:lnTo>
                  <a:lnTo>
                    <a:pt x="89356" y="177808"/>
                  </a:lnTo>
                  <a:lnTo>
                    <a:pt x="95248" y="178070"/>
                  </a:lnTo>
                  <a:lnTo>
                    <a:pt x="107086" y="178361"/>
                  </a:lnTo>
                  <a:lnTo>
                    <a:pt x="113021" y="178438"/>
                  </a:lnTo>
                  <a:lnTo>
                    <a:pt x="118962" y="177498"/>
                  </a:lnTo>
                  <a:lnTo>
                    <a:pt x="124906" y="175878"/>
                  </a:lnTo>
                  <a:lnTo>
                    <a:pt x="130855" y="173807"/>
                  </a:lnTo>
                  <a:lnTo>
                    <a:pt x="135812" y="171434"/>
                  </a:lnTo>
                  <a:lnTo>
                    <a:pt x="140108" y="168859"/>
                  </a:lnTo>
                  <a:lnTo>
                    <a:pt x="143966" y="166151"/>
                  </a:lnTo>
                  <a:lnTo>
                    <a:pt x="148521" y="162361"/>
                  </a:lnTo>
                  <a:lnTo>
                    <a:pt x="153543" y="157850"/>
                  </a:lnTo>
                  <a:lnTo>
                    <a:pt x="167445" y="144666"/>
                  </a:lnTo>
                  <a:lnTo>
                    <a:pt x="181031" y="131322"/>
                  </a:lnTo>
                  <a:lnTo>
                    <a:pt x="184146" y="127235"/>
                  </a:lnTo>
                  <a:lnTo>
                    <a:pt x="187215" y="122527"/>
                  </a:lnTo>
                  <a:lnTo>
                    <a:pt x="190253" y="117403"/>
                  </a:lnTo>
                  <a:lnTo>
                    <a:pt x="192278" y="112995"/>
                  </a:lnTo>
                  <a:lnTo>
                    <a:pt x="193628" y="109064"/>
                  </a:lnTo>
                  <a:lnTo>
                    <a:pt x="194528" y="105452"/>
                  </a:lnTo>
                  <a:lnTo>
                    <a:pt x="195128" y="101059"/>
                  </a:lnTo>
                  <a:lnTo>
                    <a:pt x="195528" y="96146"/>
                  </a:lnTo>
                  <a:lnTo>
                    <a:pt x="195795" y="90886"/>
                  </a:lnTo>
                  <a:lnTo>
                    <a:pt x="196091" y="79750"/>
                  </a:lnTo>
                  <a:lnTo>
                    <a:pt x="196170" y="74003"/>
                  </a:lnTo>
                  <a:lnTo>
                    <a:pt x="195231" y="69179"/>
                  </a:lnTo>
                  <a:lnTo>
                    <a:pt x="193613" y="64971"/>
                  </a:lnTo>
                  <a:lnTo>
                    <a:pt x="191542" y="61173"/>
                  </a:lnTo>
                  <a:lnTo>
                    <a:pt x="183885" y="46348"/>
                  </a:lnTo>
                  <a:lnTo>
                    <a:pt x="180096" y="41812"/>
                  </a:lnTo>
                  <a:lnTo>
                    <a:pt x="175585" y="37797"/>
                  </a:lnTo>
                  <a:lnTo>
                    <a:pt x="170593" y="34127"/>
                  </a:lnTo>
                  <a:lnTo>
                    <a:pt x="166273" y="30689"/>
                  </a:lnTo>
                  <a:lnTo>
                    <a:pt x="162400" y="27405"/>
                  </a:lnTo>
                  <a:lnTo>
                    <a:pt x="158826" y="24223"/>
                  </a:lnTo>
                  <a:lnTo>
                    <a:pt x="152210" y="18042"/>
                  </a:lnTo>
                  <a:lnTo>
                    <a:pt x="139878" y="5989"/>
                  </a:lnTo>
                  <a:lnTo>
                    <a:pt x="136867" y="3992"/>
                  </a:lnTo>
                  <a:lnTo>
                    <a:pt x="130875" y="1774"/>
                  </a:lnTo>
                  <a:lnTo>
                    <a:pt x="124904" y="788"/>
                  </a:lnTo>
                  <a:lnTo>
                    <a:pt x="118943" y="350"/>
                  </a:lnTo>
                  <a:lnTo>
                    <a:pt x="107031" y="0"/>
                  </a:lnTo>
                </a:path>
              </a:pathLst>
            </a:custGeom>
            <a:noFill/>
            <a:ln w="38160">
              <a:solidFill>
                <a:srgbClr val="009300"/>
              </a:solidFill>
              <a:round/>
            </a:ln>
          </p:spPr>
          <p:style>
            <a:lnRef idx="0"/>
            <a:fillRef idx="0"/>
            <a:effectRef idx="0"/>
            <a:fontRef idx="minor"/>
          </p:style>
          <p:txBody>
            <a:bodyPr wrap="none" anchor="t">
              <a:noAutofit/>
            </a:bodyPr>
            <a:p>
              <a:endParaRPr b="0" lang="en-US" sz="2400" spc="-1" strike="noStrike">
                <a:solidFill>
                  <a:srgbClr val="ffffcc"/>
                </a:solidFill>
                <a:latin typeface="Times New Roman"/>
              </a:endParaRPr>
            </a:p>
          </p:txBody>
        </p:sp>
        <p:sp>
          <p:nvSpPr>
            <p:cNvPr id="172" name="SMARTInkAnnotation46"/>
            <p:cNvSpPr/>
            <p:nvPr/>
          </p:nvSpPr>
          <p:spPr>
            <a:xfrm>
              <a:off x="6527160" y="1902240"/>
              <a:ext cx="383760" cy="26640"/>
            </a:xfrm>
            <a:custGeom>
              <a:avLst/>
              <a:gdLst>
                <a:gd name="textAreaLeft" fmla="*/ 0 w 383760"/>
                <a:gd name="textAreaRight" fmla="*/ 384120 w 383760"/>
                <a:gd name="textAreaTop" fmla="*/ 0 h 26640"/>
                <a:gd name="textAreaBottom" fmla="*/ 27000 h 26640"/>
              </a:gdLst>
              <a:ahLst/>
              <a:rect l="textAreaLeft" t="textAreaTop" r="textAreaRight" b="textAreaBottom"/>
              <a:pathLst>
                <a:path w="383978" h="26790">
                  <a:moveTo>
                    <a:pt x="383977" y="0"/>
                  </a:moveTo>
                  <a:lnTo>
                    <a:pt x="344902" y="0"/>
                  </a:lnTo>
                  <a:lnTo>
                    <a:pt x="341060" y="992"/>
                  </a:lnTo>
                  <a:lnTo>
                    <a:pt x="336514" y="2646"/>
                  </a:lnTo>
                  <a:lnTo>
                    <a:pt x="331499" y="4740"/>
                  </a:lnTo>
                  <a:lnTo>
                    <a:pt x="327163" y="6137"/>
                  </a:lnTo>
                  <a:lnTo>
                    <a:pt x="323280" y="7068"/>
                  </a:lnTo>
                  <a:lnTo>
                    <a:pt x="319700" y="7688"/>
                  </a:lnTo>
                  <a:lnTo>
                    <a:pt x="313076" y="8378"/>
                  </a:lnTo>
                  <a:lnTo>
                    <a:pt x="303768" y="8766"/>
                  </a:lnTo>
                  <a:lnTo>
                    <a:pt x="292081" y="8881"/>
                  </a:lnTo>
                  <a:lnTo>
                    <a:pt x="286994" y="8897"/>
                  </a:lnTo>
                  <a:lnTo>
                    <a:pt x="282611" y="9900"/>
                  </a:lnTo>
                  <a:lnTo>
                    <a:pt x="278696" y="11561"/>
                  </a:lnTo>
                  <a:lnTo>
                    <a:pt x="275094" y="13661"/>
                  </a:lnTo>
                  <a:lnTo>
                    <a:pt x="270709" y="15060"/>
                  </a:lnTo>
                  <a:lnTo>
                    <a:pt x="265800" y="15993"/>
                  </a:lnTo>
                  <a:lnTo>
                    <a:pt x="260544" y="16615"/>
                  </a:lnTo>
                  <a:lnTo>
                    <a:pt x="252058" y="17306"/>
                  </a:lnTo>
                  <a:lnTo>
                    <a:pt x="243986" y="17613"/>
                  </a:lnTo>
                  <a:lnTo>
                    <a:pt x="233784" y="17750"/>
                  </a:lnTo>
                  <a:lnTo>
                    <a:pt x="229278" y="18778"/>
                  </a:lnTo>
                  <a:lnTo>
                    <a:pt x="225282" y="20456"/>
                  </a:lnTo>
                  <a:lnTo>
                    <a:pt x="221625" y="22567"/>
                  </a:lnTo>
                  <a:lnTo>
                    <a:pt x="217203" y="23974"/>
                  </a:lnTo>
                  <a:lnTo>
                    <a:pt x="212271" y="24913"/>
                  </a:lnTo>
                  <a:lnTo>
                    <a:pt x="206998" y="25538"/>
                  </a:lnTo>
                  <a:lnTo>
                    <a:pt x="198494" y="26233"/>
                  </a:lnTo>
                  <a:lnTo>
                    <a:pt x="190415" y="26542"/>
                  </a:lnTo>
                  <a:lnTo>
                    <a:pt x="168048" y="26756"/>
                  </a:lnTo>
                  <a:lnTo>
                    <a:pt x="104582" y="26789"/>
                  </a:lnTo>
                  <a:lnTo>
                    <a:pt x="100480" y="25797"/>
                  </a:lnTo>
                  <a:lnTo>
                    <a:pt x="95759" y="24143"/>
                  </a:lnTo>
                  <a:lnTo>
                    <a:pt x="90629" y="22048"/>
                  </a:lnTo>
                  <a:lnTo>
                    <a:pt x="86216" y="20652"/>
                  </a:lnTo>
                  <a:lnTo>
                    <a:pt x="82282" y="19721"/>
                  </a:lnTo>
                  <a:lnTo>
                    <a:pt x="78667" y="19100"/>
                  </a:lnTo>
                  <a:lnTo>
                    <a:pt x="72005" y="18411"/>
                  </a:lnTo>
                  <a:lnTo>
                    <a:pt x="62675" y="18023"/>
                  </a:lnTo>
                  <a:lnTo>
                    <a:pt x="50634" y="17891"/>
                  </a:lnTo>
                  <a:lnTo>
                    <a:pt x="14883" y="17860"/>
                  </a:lnTo>
                  <a:lnTo>
                    <a:pt x="11907" y="16867"/>
                  </a:lnTo>
                  <a:lnTo>
                    <a:pt x="8930" y="15214"/>
                  </a:lnTo>
                  <a:lnTo>
                    <a:pt x="20" y="8944"/>
                  </a:lnTo>
                  <a:lnTo>
                    <a:pt x="2" y="8931"/>
                  </a:lnTo>
                  <a:lnTo>
                    <a:pt x="0" y="8930"/>
                  </a:lnTo>
                </a:path>
              </a:pathLst>
            </a:custGeom>
            <a:noFill/>
            <a:ln w="38160">
              <a:solidFill>
                <a:srgbClr val="009300"/>
              </a:solidFill>
              <a:round/>
            </a:ln>
          </p:spPr>
          <p:style>
            <a:lnRef idx="0"/>
            <a:fillRef idx="0"/>
            <a:effectRef idx="0"/>
            <a:fontRef idx="minor"/>
          </p:style>
          <p:txBody>
            <a:bodyPr wrap="none" tIns="-18720" bIns="-18720" anchor="t">
              <a:noAutofit/>
            </a:bodyPr>
            <a:p>
              <a:endParaRPr b="0" lang="en-US" sz="2400" spc="-1" strike="noStrike">
                <a:solidFill>
                  <a:srgbClr val="ffffcc"/>
                </a:solidFill>
                <a:latin typeface="Times New Roman"/>
              </a:endParaRPr>
            </a:p>
          </p:txBody>
        </p:sp>
        <p:sp>
          <p:nvSpPr>
            <p:cNvPr id="173" name="SMARTInkAnnotation47"/>
            <p:cNvSpPr/>
            <p:nvPr/>
          </p:nvSpPr>
          <p:spPr>
            <a:xfrm>
              <a:off x="6428880" y="1839600"/>
              <a:ext cx="178560" cy="178200"/>
            </a:xfrm>
            <a:custGeom>
              <a:avLst/>
              <a:gdLst>
                <a:gd name="textAreaLeft" fmla="*/ 0 w 178560"/>
                <a:gd name="textAreaRight" fmla="*/ 178920 w 178560"/>
                <a:gd name="textAreaTop" fmla="*/ 0 h 178200"/>
                <a:gd name="textAreaBottom" fmla="*/ 178560 h 178200"/>
              </a:gdLst>
              <a:ahLst/>
              <a:rect l="textAreaLeft" t="textAreaTop" r="textAreaRight" b="textAreaBottom"/>
              <a:pathLst>
                <a:path w="178558" h="178595">
                  <a:moveTo>
                    <a:pt x="133909" y="0"/>
                  </a:moveTo>
                  <a:lnTo>
                    <a:pt x="133909" y="4741"/>
                  </a:lnTo>
                  <a:lnTo>
                    <a:pt x="132917" y="6137"/>
                  </a:lnTo>
                  <a:lnTo>
                    <a:pt x="131263" y="7068"/>
                  </a:lnTo>
                  <a:lnTo>
                    <a:pt x="129169" y="7688"/>
                  </a:lnTo>
                  <a:lnTo>
                    <a:pt x="124195" y="11024"/>
                  </a:lnTo>
                  <a:lnTo>
                    <a:pt x="118677" y="15814"/>
                  </a:lnTo>
                  <a:lnTo>
                    <a:pt x="112918" y="21250"/>
                  </a:lnTo>
                  <a:lnTo>
                    <a:pt x="89254" y="44665"/>
                  </a:lnTo>
                  <a:lnTo>
                    <a:pt x="86280" y="47636"/>
                  </a:lnTo>
                  <a:lnTo>
                    <a:pt x="82312" y="49617"/>
                  </a:lnTo>
                  <a:lnTo>
                    <a:pt x="77682" y="50937"/>
                  </a:lnTo>
                  <a:lnTo>
                    <a:pt x="72612" y="51818"/>
                  </a:lnTo>
                  <a:lnTo>
                    <a:pt x="68240" y="53396"/>
                  </a:lnTo>
                  <a:lnTo>
                    <a:pt x="64332" y="55442"/>
                  </a:lnTo>
                  <a:lnTo>
                    <a:pt x="60735" y="57797"/>
                  </a:lnTo>
                  <a:lnTo>
                    <a:pt x="57345" y="60359"/>
                  </a:lnTo>
                  <a:lnTo>
                    <a:pt x="54093" y="63060"/>
                  </a:lnTo>
                  <a:lnTo>
                    <a:pt x="50933" y="65853"/>
                  </a:lnTo>
                  <a:lnTo>
                    <a:pt x="44775" y="71601"/>
                  </a:lnTo>
                  <a:lnTo>
                    <a:pt x="41744" y="74523"/>
                  </a:lnTo>
                  <a:lnTo>
                    <a:pt x="38731" y="76471"/>
                  </a:lnTo>
                  <a:lnTo>
                    <a:pt x="35730" y="77770"/>
                  </a:lnTo>
                  <a:lnTo>
                    <a:pt x="32737" y="78636"/>
                  </a:lnTo>
                  <a:lnTo>
                    <a:pt x="29751" y="80205"/>
                  </a:lnTo>
                  <a:lnTo>
                    <a:pt x="26767" y="82243"/>
                  </a:lnTo>
                  <a:lnTo>
                    <a:pt x="23786" y="84595"/>
                  </a:lnTo>
                  <a:lnTo>
                    <a:pt x="20806" y="86162"/>
                  </a:lnTo>
                  <a:lnTo>
                    <a:pt x="17828" y="87207"/>
                  </a:lnTo>
                  <a:lnTo>
                    <a:pt x="14849" y="87904"/>
                  </a:lnTo>
                  <a:lnTo>
                    <a:pt x="12863" y="89360"/>
                  </a:lnTo>
                  <a:lnTo>
                    <a:pt x="11540" y="91324"/>
                  </a:lnTo>
                  <a:lnTo>
                    <a:pt x="10658" y="93625"/>
                  </a:lnTo>
                  <a:lnTo>
                    <a:pt x="9077" y="95158"/>
                  </a:lnTo>
                  <a:lnTo>
                    <a:pt x="7032" y="96181"/>
                  </a:lnTo>
                  <a:lnTo>
                    <a:pt x="1360" y="97823"/>
                  </a:lnTo>
                  <a:lnTo>
                    <a:pt x="894" y="98950"/>
                  </a:lnTo>
                  <a:lnTo>
                    <a:pt x="239" y="104284"/>
                  </a:lnTo>
                  <a:lnTo>
                    <a:pt x="18" y="109235"/>
                  </a:lnTo>
                  <a:lnTo>
                    <a:pt x="0" y="111519"/>
                  </a:lnTo>
                  <a:lnTo>
                    <a:pt x="979" y="113041"/>
                  </a:lnTo>
                  <a:lnTo>
                    <a:pt x="2625" y="114056"/>
                  </a:lnTo>
                  <a:lnTo>
                    <a:pt x="7656" y="115685"/>
                  </a:lnTo>
                  <a:lnTo>
                    <a:pt x="10989" y="115908"/>
                  </a:lnTo>
                  <a:lnTo>
                    <a:pt x="13267" y="115967"/>
                  </a:lnTo>
                  <a:lnTo>
                    <a:pt x="14785" y="116999"/>
                  </a:lnTo>
                  <a:lnTo>
                    <a:pt x="15797" y="118679"/>
                  </a:lnTo>
                  <a:lnTo>
                    <a:pt x="16473" y="120791"/>
                  </a:lnTo>
                  <a:lnTo>
                    <a:pt x="17915" y="122199"/>
                  </a:lnTo>
                  <a:lnTo>
                    <a:pt x="19868" y="123138"/>
                  </a:lnTo>
                  <a:lnTo>
                    <a:pt x="24685" y="124181"/>
                  </a:lnTo>
                  <a:lnTo>
                    <a:pt x="30133" y="124645"/>
                  </a:lnTo>
                  <a:lnTo>
                    <a:pt x="32975" y="125761"/>
                  </a:lnTo>
                  <a:lnTo>
                    <a:pt x="35862" y="127497"/>
                  </a:lnTo>
                  <a:lnTo>
                    <a:pt x="38779" y="129646"/>
                  </a:lnTo>
                  <a:lnTo>
                    <a:pt x="42707" y="132071"/>
                  </a:lnTo>
                  <a:lnTo>
                    <a:pt x="47311" y="134680"/>
                  </a:lnTo>
                  <a:lnTo>
                    <a:pt x="52365" y="137412"/>
                  </a:lnTo>
                  <a:lnTo>
                    <a:pt x="56726" y="139233"/>
                  </a:lnTo>
                  <a:lnTo>
                    <a:pt x="60625" y="140447"/>
                  </a:lnTo>
                  <a:lnTo>
                    <a:pt x="64217" y="141256"/>
                  </a:lnTo>
                  <a:lnTo>
                    <a:pt x="68596" y="141796"/>
                  </a:lnTo>
                  <a:lnTo>
                    <a:pt x="73499" y="142156"/>
                  </a:lnTo>
                  <a:lnTo>
                    <a:pt x="78753" y="142395"/>
                  </a:lnTo>
                  <a:lnTo>
                    <a:pt x="83247" y="143547"/>
                  </a:lnTo>
                  <a:lnTo>
                    <a:pt x="87236" y="145308"/>
                  </a:lnTo>
                  <a:lnTo>
                    <a:pt x="90887" y="147473"/>
                  </a:lnTo>
                  <a:lnTo>
                    <a:pt x="95306" y="148917"/>
                  </a:lnTo>
                  <a:lnTo>
                    <a:pt x="100236" y="149880"/>
                  </a:lnTo>
                  <a:lnTo>
                    <a:pt x="105507" y="150521"/>
                  </a:lnTo>
                  <a:lnTo>
                    <a:pt x="110013" y="151941"/>
                  </a:lnTo>
                  <a:lnTo>
                    <a:pt x="114010" y="153880"/>
                  </a:lnTo>
                  <a:lnTo>
                    <a:pt x="117666" y="156165"/>
                  </a:lnTo>
                  <a:lnTo>
                    <a:pt x="121096" y="157688"/>
                  </a:lnTo>
                  <a:lnTo>
                    <a:pt x="124375" y="158704"/>
                  </a:lnTo>
                  <a:lnTo>
                    <a:pt x="127553" y="159381"/>
                  </a:lnTo>
                  <a:lnTo>
                    <a:pt x="131655" y="159832"/>
                  </a:lnTo>
                  <a:lnTo>
                    <a:pt x="136376" y="160133"/>
                  </a:lnTo>
                  <a:lnTo>
                    <a:pt x="141507" y="160333"/>
                  </a:lnTo>
                  <a:lnTo>
                    <a:pt x="144927" y="161459"/>
                  </a:lnTo>
                  <a:lnTo>
                    <a:pt x="147207" y="163202"/>
                  </a:lnTo>
                  <a:lnTo>
                    <a:pt x="148727" y="165356"/>
                  </a:lnTo>
                  <a:lnTo>
                    <a:pt x="150733" y="166792"/>
                  </a:lnTo>
                  <a:lnTo>
                    <a:pt x="155607" y="168388"/>
                  </a:lnTo>
                  <a:lnTo>
                    <a:pt x="161082" y="169097"/>
                  </a:lnTo>
                  <a:lnTo>
                    <a:pt x="169127" y="169631"/>
                  </a:lnTo>
                  <a:lnTo>
                    <a:pt x="174220" y="174395"/>
                  </a:lnTo>
                  <a:lnTo>
                    <a:pt x="178557" y="178594"/>
                  </a:lnTo>
                </a:path>
              </a:pathLst>
            </a:custGeom>
            <a:noFill/>
            <a:ln w="38160">
              <a:solidFill>
                <a:srgbClr val="009300"/>
              </a:solidFill>
              <a:round/>
            </a:ln>
          </p:spPr>
          <p:style>
            <a:lnRef idx="0"/>
            <a:fillRef idx="0"/>
            <a:effectRef idx="0"/>
            <a:fontRef idx="minor"/>
          </p:style>
          <p:txBody>
            <a:bodyPr wrap="none" anchor="t">
              <a:noAutofit/>
            </a:bodyPr>
            <a:p>
              <a:endParaRPr b="0" lang="en-US" sz="2400" spc="-1" strike="noStrike">
                <a:solidFill>
                  <a:srgbClr val="ffffcc"/>
                </a:solidFill>
                <a:latin typeface="Times New Roman"/>
              </a:endParaRPr>
            </a:p>
          </p:txBody>
        </p:sp>
        <p:sp>
          <p:nvSpPr>
            <p:cNvPr id="174" name="SMARTInkAnnotation48"/>
            <p:cNvSpPr/>
            <p:nvPr/>
          </p:nvSpPr>
          <p:spPr>
            <a:xfrm>
              <a:off x="6571800" y="2071440"/>
              <a:ext cx="89280" cy="187200"/>
            </a:xfrm>
            <a:custGeom>
              <a:avLst/>
              <a:gdLst>
                <a:gd name="textAreaLeft" fmla="*/ 0 w 89280"/>
                <a:gd name="textAreaRight" fmla="*/ 89640 w 89280"/>
                <a:gd name="textAreaTop" fmla="*/ 0 h 187200"/>
                <a:gd name="textAreaBottom" fmla="*/ 187560 h 187200"/>
              </a:gdLst>
              <a:ahLst/>
              <a:rect l="textAreaLeft" t="textAreaTop" r="textAreaRight" b="textAreaBottom"/>
              <a:pathLst>
                <a:path w="89297" h="187524">
                  <a:moveTo>
                    <a:pt x="0" y="0"/>
                  </a:moveTo>
                  <a:lnTo>
                    <a:pt x="0" y="12429"/>
                  </a:lnTo>
                  <a:lnTo>
                    <a:pt x="992" y="15231"/>
                  </a:lnTo>
                  <a:lnTo>
                    <a:pt x="2644" y="18092"/>
                  </a:lnTo>
                  <a:lnTo>
                    <a:pt x="4740" y="20991"/>
                  </a:lnTo>
                  <a:lnTo>
                    <a:pt x="6136" y="23916"/>
                  </a:lnTo>
                  <a:lnTo>
                    <a:pt x="7067" y="26858"/>
                  </a:lnTo>
                  <a:lnTo>
                    <a:pt x="7687" y="29811"/>
                  </a:lnTo>
                  <a:lnTo>
                    <a:pt x="9094" y="32773"/>
                  </a:lnTo>
                  <a:lnTo>
                    <a:pt x="11024" y="35739"/>
                  </a:lnTo>
                  <a:lnTo>
                    <a:pt x="13302" y="38709"/>
                  </a:lnTo>
                  <a:lnTo>
                    <a:pt x="15813" y="41681"/>
                  </a:lnTo>
                  <a:lnTo>
                    <a:pt x="18479" y="44654"/>
                  </a:lnTo>
                  <a:lnTo>
                    <a:pt x="21249" y="47629"/>
                  </a:lnTo>
                  <a:lnTo>
                    <a:pt x="23095" y="51596"/>
                  </a:lnTo>
                  <a:lnTo>
                    <a:pt x="24327" y="56226"/>
                  </a:lnTo>
                  <a:lnTo>
                    <a:pt x="25147" y="61296"/>
                  </a:lnTo>
                  <a:lnTo>
                    <a:pt x="26686" y="66661"/>
                  </a:lnTo>
                  <a:lnTo>
                    <a:pt x="28704" y="72222"/>
                  </a:lnTo>
                  <a:lnTo>
                    <a:pt x="31043" y="77914"/>
                  </a:lnTo>
                  <a:lnTo>
                    <a:pt x="32601" y="82700"/>
                  </a:lnTo>
                  <a:lnTo>
                    <a:pt x="33641" y="86883"/>
                  </a:lnTo>
                  <a:lnTo>
                    <a:pt x="34332" y="90664"/>
                  </a:lnTo>
                  <a:lnTo>
                    <a:pt x="35786" y="94177"/>
                  </a:lnTo>
                  <a:lnTo>
                    <a:pt x="37748" y="97511"/>
                  </a:lnTo>
                  <a:lnTo>
                    <a:pt x="40048" y="100726"/>
                  </a:lnTo>
                  <a:lnTo>
                    <a:pt x="42573" y="104854"/>
                  </a:lnTo>
                  <a:lnTo>
                    <a:pt x="45249" y="109590"/>
                  </a:lnTo>
                  <a:lnTo>
                    <a:pt x="48025" y="114732"/>
                  </a:lnTo>
                  <a:lnTo>
                    <a:pt x="49876" y="119152"/>
                  </a:lnTo>
                  <a:lnTo>
                    <a:pt x="51110" y="123091"/>
                  </a:lnTo>
                  <a:lnTo>
                    <a:pt x="51933" y="126709"/>
                  </a:lnTo>
                  <a:lnTo>
                    <a:pt x="53472" y="130113"/>
                  </a:lnTo>
                  <a:lnTo>
                    <a:pt x="55492" y="133375"/>
                  </a:lnTo>
                  <a:lnTo>
                    <a:pt x="57831" y="136542"/>
                  </a:lnTo>
                  <a:lnTo>
                    <a:pt x="59390" y="139645"/>
                  </a:lnTo>
                  <a:lnTo>
                    <a:pt x="60428" y="142706"/>
                  </a:lnTo>
                  <a:lnTo>
                    <a:pt x="61121" y="145739"/>
                  </a:lnTo>
                  <a:lnTo>
                    <a:pt x="62576" y="148753"/>
                  </a:lnTo>
                  <a:lnTo>
                    <a:pt x="64537" y="151754"/>
                  </a:lnTo>
                  <a:lnTo>
                    <a:pt x="66837" y="154748"/>
                  </a:lnTo>
                  <a:lnTo>
                    <a:pt x="68370" y="157736"/>
                  </a:lnTo>
                  <a:lnTo>
                    <a:pt x="69392" y="160720"/>
                  </a:lnTo>
                  <a:lnTo>
                    <a:pt x="70074" y="163701"/>
                  </a:lnTo>
                  <a:lnTo>
                    <a:pt x="71521" y="166681"/>
                  </a:lnTo>
                  <a:lnTo>
                    <a:pt x="73476" y="169660"/>
                  </a:lnTo>
                  <a:lnTo>
                    <a:pt x="79006" y="176829"/>
                  </a:lnTo>
                  <a:lnTo>
                    <a:pt x="79761" y="180455"/>
                  </a:lnTo>
                  <a:lnTo>
                    <a:pt x="79964" y="182811"/>
                  </a:lnTo>
                  <a:lnTo>
                    <a:pt x="81090" y="184382"/>
                  </a:lnTo>
                  <a:lnTo>
                    <a:pt x="82832" y="185429"/>
                  </a:lnTo>
                  <a:lnTo>
                    <a:pt x="89296" y="187523"/>
                  </a:lnTo>
                </a:path>
              </a:pathLst>
            </a:custGeom>
            <a:noFill/>
            <a:ln w="38160">
              <a:solidFill>
                <a:srgbClr val="009300"/>
              </a:solidFill>
              <a:round/>
            </a:ln>
          </p:spPr>
          <p:style>
            <a:lnRef idx="0"/>
            <a:fillRef idx="0"/>
            <a:effectRef idx="0"/>
            <a:fontRef idx="minor"/>
          </p:style>
          <p:txBody>
            <a:bodyPr wrap="none" anchor="t">
              <a:noAutofit/>
            </a:bodyPr>
            <a:p>
              <a:endParaRPr b="0" lang="en-US" sz="2400" spc="-1" strike="noStrike">
                <a:solidFill>
                  <a:srgbClr val="ffffcc"/>
                </a:solidFill>
                <a:latin typeface="Times New Roman"/>
              </a:endParaRPr>
            </a:p>
          </p:txBody>
        </p:sp>
        <p:sp>
          <p:nvSpPr>
            <p:cNvPr id="175" name="SMARTInkAnnotation49"/>
            <p:cNvSpPr/>
            <p:nvPr/>
          </p:nvSpPr>
          <p:spPr>
            <a:xfrm>
              <a:off x="6491520" y="2107080"/>
              <a:ext cx="178560" cy="106920"/>
            </a:xfrm>
            <a:custGeom>
              <a:avLst/>
              <a:gdLst>
                <a:gd name="textAreaLeft" fmla="*/ 0 w 178560"/>
                <a:gd name="textAreaRight" fmla="*/ 178920 w 178560"/>
                <a:gd name="textAreaTop" fmla="*/ 0 h 106920"/>
                <a:gd name="textAreaBottom" fmla="*/ 107280 h 106920"/>
              </a:gdLst>
              <a:ahLst/>
              <a:rect l="textAreaLeft" t="textAreaTop" r="textAreaRight" b="textAreaBottom"/>
              <a:pathLst>
                <a:path w="178595" h="107157">
                  <a:moveTo>
                    <a:pt x="178594" y="0"/>
                  </a:moveTo>
                  <a:lnTo>
                    <a:pt x="170905" y="0"/>
                  </a:lnTo>
                  <a:lnTo>
                    <a:pt x="167569" y="2646"/>
                  </a:lnTo>
                  <a:lnTo>
                    <a:pt x="165292" y="4740"/>
                  </a:lnTo>
                  <a:lnTo>
                    <a:pt x="160114" y="9713"/>
                  </a:lnTo>
                  <a:lnTo>
                    <a:pt x="157344" y="12429"/>
                  </a:lnTo>
                  <a:lnTo>
                    <a:pt x="153513" y="15231"/>
                  </a:lnTo>
                  <a:lnTo>
                    <a:pt x="148975" y="18091"/>
                  </a:lnTo>
                  <a:lnTo>
                    <a:pt x="143965" y="20991"/>
                  </a:lnTo>
                  <a:lnTo>
                    <a:pt x="139634" y="23916"/>
                  </a:lnTo>
                  <a:lnTo>
                    <a:pt x="135752" y="26858"/>
                  </a:lnTo>
                  <a:lnTo>
                    <a:pt x="132174" y="29811"/>
                  </a:lnTo>
                  <a:lnTo>
                    <a:pt x="127803" y="32773"/>
                  </a:lnTo>
                  <a:lnTo>
                    <a:pt x="122905" y="35739"/>
                  </a:lnTo>
                  <a:lnTo>
                    <a:pt x="117655" y="38709"/>
                  </a:lnTo>
                  <a:lnTo>
                    <a:pt x="113164" y="41681"/>
                  </a:lnTo>
                  <a:lnTo>
                    <a:pt x="109177" y="44654"/>
                  </a:lnTo>
                  <a:lnTo>
                    <a:pt x="105526" y="47629"/>
                  </a:lnTo>
                  <a:lnTo>
                    <a:pt x="101110" y="49612"/>
                  </a:lnTo>
                  <a:lnTo>
                    <a:pt x="96180" y="50934"/>
                  </a:lnTo>
                  <a:lnTo>
                    <a:pt x="90909" y="51815"/>
                  </a:lnTo>
                  <a:lnTo>
                    <a:pt x="86403" y="53395"/>
                  </a:lnTo>
                  <a:lnTo>
                    <a:pt x="82406" y="55440"/>
                  </a:lnTo>
                  <a:lnTo>
                    <a:pt x="78750" y="57796"/>
                  </a:lnTo>
                  <a:lnTo>
                    <a:pt x="74328" y="60359"/>
                  </a:lnTo>
                  <a:lnTo>
                    <a:pt x="64124" y="65852"/>
                  </a:lnTo>
                  <a:lnTo>
                    <a:pt x="59616" y="68706"/>
                  </a:lnTo>
                  <a:lnTo>
                    <a:pt x="55619" y="71601"/>
                  </a:lnTo>
                  <a:lnTo>
                    <a:pt x="51962" y="74523"/>
                  </a:lnTo>
                  <a:lnTo>
                    <a:pt x="48532" y="76471"/>
                  </a:lnTo>
                  <a:lnTo>
                    <a:pt x="45253" y="77769"/>
                  </a:lnTo>
                  <a:lnTo>
                    <a:pt x="42074" y="78635"/>
                  </a:lnTo>
                  <a:lnTo>
                    <a:pt x="38964" y="80205"/>
                  </a:lnTo>
                  <a:lnTo>
                    <a:pt x="35898" y="82243"/>
                  </a:lnTo>
                  <a:lnTo>
                    <a:pt x="32862" y="84594"/>
                  </a:lnTo>
                  <a:lnTo>
                    <a:pt x="29845" y="86162"/>
                  </a:lnTo>
                  <a:lnTo>
                    <a:pt x="26843" y="87207"/>
                  </a:lnTo>
                  <a:lnTo>
                    <a:pt x="23848" y="87903"/>
                  </a:lnTo>
                  <a:lnTo>
                    <a:pt x="20860" y="89360"/>
                  </a:lnTo>
                  <a:lnTo>
                    <a:pt x="17875" y="91323"/>
                  </a:lnTo>
                  <a:lnTo>
                    <a:pt x="10697" y="96862"/>
                  </a:lnTo>
                  <a:lnTo>
                    <a:pt x="7070" y="97620"/>
                  </a:lnTo>
                  <a:lnTo>
                    <a:pt x="4713" y="97822"/>
                  </a:lnTo>
                  <a:lnTo>
                    <a:pt x="3142" y="98949"/>
                  </a:lnTo>
                  <a:lnTo>
                    <a:pt x="2095" y="100692"/>
                  </a:lnTo>
                  <a:lnTo>
                    <a:pt x="24" y="107081"/>
                  </a:lnTo>
                  <a:lnTo>
                    <a:pt x="0" y="107156"/>
                  </a:lnTo>
                </a:path>
              </a:pathLst>
            </a:custGeom>
            <a:noFill/>
            <a:ln w="38160">
              <a:solidFill>
                <a:srgbClr val="009300"/>
              </a:solidFill>
              <a:round/>
            </a:ln>
          </p:spPr>
          <p:style>
            <a:lnRef idx="0"/>
            <a:fillRef idx="0"/>
            <a:effectRef idx="0"/>
            <a:fontRef idx="minor"/>
          </p:style>
          <p:txBody>
            <a:bodyPr wrap="none" anchor="t">
              <a:noAutofit/>
            </a:bodyPr>
            <a:p>
              <a:endParaRPr b="0" lang="en-US" sz="2400" spc="-1" strike="noStrike">
                <a:solidFill>
                  <a:srgbClr val="ffffcc"/>
                </a:solidFill>
                <a:latin typeface="Times New Roman"/>
              </a:endParaRPr>
            </a:p>
          </p:txBody>
        </p:sp>
        <p:sp>
          <p:nvSpPr>
            <p:cNvPr id="176" name="SMARTInkAnnotation50"/>
            <p:cNvSpPr/>
            <p:nvPr/>
          </p:nvSpPr>
          <p:spPr>
            <a:xfrm>
              <a:off x="6714720" y="2151720"/>
              <a:ext cx="89280" cy="8640"/>
            </a:xfrm>
            <a:custGeom>
              <a:avLst/>
              <a:gdLst>
                <a:gd name="textAreaLeft" fmla="*/ 0 w 89280"/>
                <a:gd name="textAreaRight" fmla="*/ 89640 w 89280"/>
                <a:gd name="textAreaTop" fmla="*/ 0 h 8640"/>
                <a:gd name="textAreaBottom" fmla="*/ 8640 h 8640"/>
              </a:gdLst>
              <a:ahLst/>
              <a:rect l="textAreaLeft" t="textAreaTop" r="textAreaRight" b="textAreaBottom"/>
              <a:pathLst>
                <a:path w="89297" h="8931">
                  <a:moveTo>
                    <a:pt x="0" y="0"/>
                  </a:moveTo>
                  <a:lnTo>
                    <a:pt x="65119" y="0"/>
                  </a:lnTo>
                  <a:lnTo>
                    <a:pt x="68217" y="992"/>
                  </a:lnTo>
                  <a:lnTo>
                    <a:pt x="71274" y="2646"/>
                  </a:lnTo>
                  <a:lnTo>
                    <a:pt x="74305" y="4741"/>
                  </a:lnTo>
                  <a:lnTo>
                    <a:pt x="77318" y="6137"/>
                  </a:lnTo>
                  <a:lnTo>
                    <a:pt x="80319" y="7068"/>
                  </a:lnTo>
                  <a:lnTo>
                    <a:pt x="89296" y="8930"/>
                  </a:lnTo>
                </a:path>
              </a:pathLst>
            </a:custGeom>
            <a:noFill/>
            <a:ln w="38160">
              <a:solidFill>
                <a:srgbClr val="009300"/>
              </a:solidFill>
              <a:round/>
            </a:ln>
          </p:spPr>
          <p:style>
            <a:lnRef idx="0"/>
            <a:fillRef idx="0"/>
            <a:effectRef idx="0"/>
            <a:fontRef idx="minor"/>
          </p:style>
          <p:txBody>
            <a:bodyPr wrap="none" tIns="-37080" bIns="-37080" anchor="t">
              <a:noAutofit/>
            </a:bodyPr>
            <a:p>
              <a:endParaRPr b="0" lang="en-US" sz="2400" spc="-1" strike="noStrike">
                <a:solidFill>
                  <a:srgbClr val="ffffcc"/>
                </a:solidFill>
                <a:latin typeface="Times New Roman"/>
              </a:endParaRPr>
            </a:p>
          </p:txBody>
        </p:sp>
        <p:sp>
          <p:nvSpPr>
            <p:cNvPr id="177" name="SMARTInkAnnotation51"/>
            <p:cNvSpPr/>
            <p:nvPr/>
          </p:nvSpPr>
          <p:spPr>
            <a:xfrm>
              <a:off x="6696720" y="2196360"/>
              <a:ext cx="89280" cy="8640"/>
            </a:xfrm>
            <a:custGeom>
              <a:avLst/>
              <a:gdLst>
                <a:gd name="textAreaLeft" fmla="*/ 0 w 89280"/>
                <a:gd name="textAreaRight" fmla="*/ 89640 w 89280"/>
                <a:gd name="textAreaTop" fmla="*/ 0 h 8640"/>
                <a:gd name="textAreaBottom" fmla="*/ 9000 h 8640"/>
              </a:gdLst>
              <a:ahLst/>
              <a:rect l="textAreaLeft" t="textAreaTop" r="textAreaRight" b="textAreaBottom"/>
              <a:pathLst>
                <a:path w="89298" h="8930">
                  <a:moveTo>
                    <a:pt x="0" y="0"/>
                  </a:moveTo>
                  <a:lnTo>
                    <a:pt x="38709" y="0"/>
                  </a:lnTo>
                  <a:lnTo>
                    <a:pt x="41681" y="992"/>
                  </a:lnTo>
                  <a:lnTo>
                    <a:pt x="44654" y="2646"/>
                  </a:lnTo>
                  <a:lnTo>
                    <a:pt x="47628" y="4740"/>
                  </a:lnTo>
                  <a:lnTo>
                    <a:pt x="50604" y="6136"/>
                  </a:lnTo>
                  <a:lnTo>
                    <a:pt x="53580" y="7068"/>
                  </a:lnTo>
                  <a:lnTo>
                    <a:pt x="56556" y="7688"/>
                  </a:lnTo>
                  <a:lnTo>
                    <a:pt x="59531" y="8102"/>
                  </a:lnTo>
                  <a:lnTo>
                    <a:pt x="62509" y="8378"/>
                  </a:lnTo>
                  <a:lnTo>
                    <a:pt x="65485" y="8562"/>
                  </a:lnTo>
                  <a:lnTo>
                    <a:pt x="71438" y="8766"/>
                  </a:lnTo>
                  <a:lnTo>
                    <a:pt x="89297" y="8929"/>
                  </a:lnTo>
                </a:path>
              </a:pathLst>
            </a:custGeom>
            <a:noFill/>
            <a:ln w="38160">
              <a:solidFill>
                <a:srgbClr val="009300"/>
              </a:solidFill>
              <a:round/>
            </a:ln>
          </p:spPr>
          <p:style>
            <a:lnRef idx="0"/>
            <a:fillRef idx="0"/>
            <a:effectRef idx="0"/>
            <a:fontRef idx="minor"/>
          </p:style>
          <p:txBody>
            <a:bodyPr wrap="none" tIns="-36720" bIns="-36720" anchor="t">
              <a:noAutofit/>
            </a:bodyPr>
            <a:p>
              <a:endParaRPr b="0" lang="en-US" sz="2400" spc="-1" strike="noStrike">
                <a:solidFill>
                  <a:srgbClr val="ffffcc"/>
                </a:solidFill>
                <a:latin typeface="Times New Roman"/>
              </a:endParaRPr>
            </a:p>
          </p:txBody>
        </p:sp>
        <p:sp>
          <p:nvSpPr>
            <p:cNvPr id="178" name="SMARTInkAnnotation52"/>
            <p:cNvSpPr/>
            <p:nvPr/>
          </p:nvSpPr>
          <p:spPr>
            <a:xfrm>
              <a:off x="6848640" y="2178720"/>
              <a:ext cx="124920" cy="8640"/>
            </a:xfrm>
            <a:custGeom>
              <a:avLst/>
              <a:gdLst>
                <a:gd name="textAreaLeft" fmla="*/ 0 w 124920"/>
                <a:gd name="textAreaRight" fmla="*/ 125280 w 124920"/>
                <a:gd name="textAreaTop" fmla="*/ 0 h 8640"/>
                <a:gd name="textAreaBottom" fmla="*/ 8640 h 8640"/>
              </a:gdLst>
              <a:ahLst/>
              <a:rect l="textAreaLeft" t="textAreaTop" r="textAreaRight" b="textAreaBottom"/>
              <a:pathLst>
                <a:path w="125016" h="8931">
                  <a:moveTo>
                    <a:pt x="0" y="0"/>
                  </a:moveTo>
                  <a:lnTo>
                    <a:pt x="83377" y="0"/>
                  </a:lnTo>
                  <a:lnTo>
                    <a:pt x="86343" y="992"/>
                  </a:lnTo>
                  <a:lnTo>
                    <a:pt x="89312" y="2646"/>
                  </a:lnTo>
                  <a:lnTo>
                    <a:pt x="96465" y="7689"/>
                  </a:lnTo>
                  <a:lnTo>
                    <a:pt x="98044" y="8102"/>
                  </a:lnTo>
                  <a:lnTo>
                    <a:pt x="100090" y="8378"/>
                  </a:lnTo>
                  <a:lnTo>
                    <a:pt x="102445" y="8562"/>
                  </a:lnTo>
                  <a:lnTo>
                    <a:pt x="105007" y="8685"/>
                  </a:lnTo>
                  <a:lnTo>
                    <a:pt x="114431" y="8898"/>
                  </a:lnTo>
                  <a:lnTo>
                    <a:pt x="125015" y="8930"/>
                  </a:lnTo>
                </a:path>
              </a:pathLst>
            </a:custGeom>
            <a:noFill/>
            <a:ln w="38160">
              <a:solidFill>
                <a:srgbClr val="009300"/>
              </a:solidFill>
              <a:round/>
            </a:ln>
          </p:spPr>
          <p:style>
            <a:lnRef idx="0"/>
            <a:fillRef idx="0"/>
            <a:effectRef idx="0"/>
            <a:fontRef idx="minor"/>
          </p:style>
          <p:txBody>
            <a:bodyPr wrap="none" tIns="-37080" bIns="-37080" anchor="t">
              <a:noAutofit/>
            </a:bodyPr>
            <a:p>
              <a:endParaRPr b="0" lang="en-US" sz="2400" spc="-1" strike="noStrike">
                <a:solidFill>
                  <a:srgbClr val="ffffcc"/>
                </a:solidFill>
                <a:latin typeface="Times New Roman"/>
              </a:endParaRPr>
            </a:p>
          </p:txBody>
        </p:sp>
        <p:sp>
          <p:nvSpPr>
            <p:cNvPr id="179" name="SMARTInkAnnotation53"/>
            <p:cNvSpPr/>
            <p:nvPr/>
          </p:nvSpPr>
          <p:spPr>
            <a:xfrm>
              <a:off x="7259760" y="1919880"/>
              <a:ext cx="294480" cy="8640"/>
            </a:xfrm>
            <a:custGeom>
              <a:avLst/>
              <a:gdLst>
                <a:gd name="textAreaLeft" fmla="*/ 0 w 294480"/>
                <a:gd name="textAreaRight" fmla="*/ 294840 w 294480"/>
                <a:gd name="textAreaTop" fmla="*/ 0 h 8640"/>
                <a:gd name="textAreaBottom" fmla="*/ 8640 h 8640"/>
              </a:gdLst>
              <a:ahLst/>
              <a:rect l="textAreaLeft" t="textAreaTop" r="textAreaRight" b="textAreaBottom"/>
              <a:pathLst>
                <a:path w="294681" h="8931">
                  <a:moveTo>
                    <a:pt x="0" y="8930"/>
                  </a:moveTo>
                  <a:lnTo>
                    <a:pt x="12428" y="8930"/>
                  </a:lnTo>
                  <a:lnTo>
                    <a:pt x="15231" y="7938"/>
                  </a:lnTo>
                  <a:lnTo>
                    <a:pt x="18092" y="6284"/>
                  </a:lnTo>
                  <a:lnTo>
                    <a:pt x="20991" y="4189"/>
                  </a:lnTo>
                  <a:lnTo>
                    <a:pt x="23916" y="2793"/>
                  </a:lnTo>
                  <a:lnTo>
                    <a:pt x="26858" y="1862"/>
                  </a:lnTo>
                  <a:lnTo>
                    <a:pt x="29812" y="1242"/>
                  </a:lnTo>
                  <a:lnTo>
                    <a:pt x="33764" y="828"/>
                  </a:lnTo>
                  <a:lnTo>
                    <a:pt x="38386" y="552"/>
                  </a:lnTo>
                  <a:lnTo>
                    <a:pt x="47818" y="246"/>
                  </a:lnTo>
                  <a:lnTo>
                    <a:pt x="59699" y="73"/>
                  </a:lnTo>
                  <a:lnTo>
                    <a:pt x="175618" y="0"/>
                  </a:lnTo>
                  <a:lnTo>
                    <a:pt x="181572" y="993"/>
                  </a:lnTo>
                  <a:lnTo>
                    <a:pt x="187525" y="2646"/>
                  </a:lnTo>
                  <a:lnTo>
                    <a:pt x="193477" y="4741"/>
                  </a:lnTo>
                  <a:lnTo>
                    <a:pt x="198437" y="6137"/>
                  </a:lnTo>
                  <a:lnTo>
                    <a:pt x="202738" y="7068"/>
                  </a:lnTo>
                  <a:lnTo>
                    <a:pt x="206596" y="7689"/>
                  </a:lnTo>
                  <a:lnTo>
                    <a:pt x="211153" y="8102"/>
                  </a:lnTo>
                  <a:lnTo>
                    <a:pt x="216175" y="8378"/>
                  </a:lnTo>
                  <a:lnTo>
                    <a:pt x="227047" y="8684"/>
                  </a:lnTo>
                  <a:lnTo>
                    <a:pt x="282431" y="8928"/>
                  </a:lnTo>
                  <a:lnTo>
                    <a:pt x="294680" y="8930"/>
                  </a:lnTo>
                </a:path>
              </a:pathLst>
            </a:custGeom>
            <a:noFill/>
            <a:ln w="38160">
              <a:solidFill>
                <a:srgbClr val="009300"/>
              </a:solidFill>
              <a:round/>
            </a:ln>
          </p:spPr>
          <p:style>
            <a:lnRef idx="0"/>
            <a:fillRef idx="0"/>
            <a:effectRef idx="0"/>
            <a:fontRef idx="minor"/>
          </p:style>
          <p:txBody>
            <a:bodyPr wrap="none" tIns="-37080" bIns="-37080" anchor="t">
              <a:noAutofit/>
            </a:bodyPr>
            <a:p>
              <a:endParaRPr b="0" lang="en-US" sz="2400" spc="-1" strike="noStrike">
                <a:solidFill>
                  <a:srgbClr val="ffffcc"/>
                </a:solidFill>
                <a:latin typeface="Times New Roman"/>
              </a:endParaRPr>
            </a:p>
          </p:txBody>
        </p:sp>
        <p:sp>
          <p:nvSpPr>
            <p:cNvPr id="180" name="SMARTInkAnnotation54"/>
            <p:cNvSpPr/>
            <p:nvPr/>
          </p:nvSpPr>
          <p:spPr>
            <a:xfrm>
              <a:off x="7464960" y="1866240"/>
              <a:ext cx="204840" cy="142560"/>
            </a:xfrm>
            <a:custGeom>
              <a:avLst/>
              <a:gdLst>
                <a:gd name="textAreaLeft" fmla="*/ 0 w 204840"/>
                <a:gd name="textAreaRight" fmla="*/ 205200 w 204840"/>
                <a:gd name="textAreaTop" fmla="*/ 0 h 142560"/>
                <a:gd name="textAreaBottom" fmla="*/ 142920 h 142560"/>
              </a:gdLst>
              <a:ahLst/>
              <a:rect l="textAreaLeft" t="textAreaTop" r="textAreaRight" b="textAreaBottom"/>
              <a:pathLst>
                <a:path w="204959" h="142876">
                  <a:moveTo>
                    <a:pt x="0" y="0"/>
                  </a:moveTo>
                  <a:lnTo>
                    <a:pt x="29812" y="0"/>
                  </a:lnTo>
                  <a:lnTo>
                    <a:pt x="32773" y="992"/>
                  </a:lnTo>
                  <a:lnTo>
                    <a:pt x="38709" y="4741"/>
                  </a:lnTo>
                  <a:lnTo>
                    <a:pt x="42673" y="6137"/>
                  </a:lnTo>
                  <a:lnTo>
                    <a:pt x="47300" y="7068"/>
                  </a:lnTo>
                  <a:lnTo>
                    <a:pt x="52370" y="7688"/>
                  </a:lnTo>
                  <a:lnTo>
                    <a:pt x="56741" y="8102"/>
                  </a:lnTo>
                  <a:lnTo>
                    <a:pt x="60648" y="8378"/>
                  </a:lnTo>
                  <a:lnTo>
                    <a:pt x="64244" y="8562"/>
                  </a:lnTo>
                  <a:lnTo>
                    <a:pt x="68626" y="9677"/>
                  </a:lnTo>
                  <a:lnTo>
                    <a:pt x="73532" y="11412"/>
                  </a:lnTo>
                  <a:lnTo>
                    <a:pt x="78787" y="13561"/>
                  </a:lnTo>
                  <a:lnTo>
                    <a:pt x="84275" y="14994"/>
                  </a:lnTo>
                  <a:lnTo>
                    <a:pt x="89917" y="15949"/>
                  </a:lnTo>
                  <a:lnTo>
                    <a:pt x="95664" y="16586"/>
                  </a:lnTo>
                  <a:lnTo>
                    <a:pt x="100487" y="18003"/>
                  </a:lnTo>
                  <a:lnTo>
                    <a:pt x="104694" y="19939"/>
                  </a:lnTo>
                  <a:lnTo>
                    <a:pt x="108492" y="22223"/>
                  </a:lnTo>
                  <a:lnTo>
                    <a:pt x="113007" y="24737"/>
                  </a:lnTo>
                  <a:lnTo>
                    <a:pt x="123316" y="30177"/>
                  </a:lnTo>
                  <a:lnTo>
                    <a:pt x="127851" y="32024"/>
                  </a:lnTo>
                  <a:lnTo>
                    <a:pt x="131868" y="33256"/>
                  </a:lnTo>
                  <a:lnTo>
                    <a:pt x="135537" y="34077"/>
                  </a:lnTo>
                  <a:lnTo>
                    <a:pt x="139967" y="34624"/>
                  </a:lnTo>
                  <a:lnTo>
                    <a:pt x="144905" y="34989"/>
                  </a:lnTo>
                  <a:lnTo>
                    <a:pt x="150181" y="35232"/>
                  </a:lnTo>
                  <a:lnTo>
                    <a:pt x="154692" y="36387"/>
                  </a:lnTo>
                  <a:lnTo>
                    <a:pt x="158690" y="38149"/>
                  </a:lnTo>
                  <a:lnTo>
                    <a:pt x="162348" y="40315"/>
                  </a:lnTo>
                  <a:lnTo>
                    <a:pt x="166771" y="42752"/>
                  </a:lnTo>
                  <a:lnTo>
                    <a:pt x="176977" y="48105"/>
                  </a:lnTo>
                  <a:lnTo>
                    <a:pt x="181485" y="49929"/>
                  </a:lnTo>
                  <a:lnTo>
                    <a:pt x="185481" y="51146"/>
                  </a:lnTo>
                  <a:lnTo>
                    <a:pt x="189139" y="51957"/>
                  </a:lnTo>
                  <a:lnTo>
                    <a:pt x="191576" y="53489"/>
                  </a:lnTo>
                  <a:lnTo>
                    <a:pt x="193202" y="55503"/>
                  </a:lnTo>
                  <a:lnTo>
                    <a:pt x="194286" y="57838"/>
                  </a:lnTo>
                  <a:lnTo>
                    <a:pt x="196001" y="59395"/>
                  </a:lnTo>
                  <a:lnTo>
                    <a:pt x="198135" y="60432"/>
                  </a:lnTo>
                  <a:lnTo>
                    <a:pt x="200550" y="61124"/>
                  </a:lnTo>
                  <a:lnTo>
                    <a:pt x="202162" y="62578"/>
                  </a:lnTo>
                  <a:lnTo>
                    <a:pt x="203235" y="64539"/>
                  </a:lnTo>
                  <a:lnTo>
                    <a:pt x="203951" y="66839"/>
                  </a:lnTo>
                  <a:lnTo>
                    <a:pt x="204428" y="69364"/>
                  </a:lnTo>
                  <a:lnTo>
                    <a:pt x="204747" y="72039"/>
                  </a:lnTo>
                  <a:lnTo>
                    <a:pt x="204958" y="74815"/>
                  </a:lnTo>
                  <a:lnTo>
                    <a:pt x="204108" y="76666"/>
                  </a:lnTo>
                  <a:lnTo>
                    <a:pt x="202548" y="77900"/>
                  </a:lnTo>
                  <a:lnTo>
                    <a:pt x="200517" y="78722"/>
                  </a:lnTo>
                  <a:lnTo>
                    <a:pt x="195613" y="82282"/>
                  </a:lnTo>
                  <a:lnTo>
                    <a:pt x="192917" y="84620"/>
                  </a:lnTo>
                  <a:lnTo>
                    <a:pt x="190127" y="86179"/>
                  </a:lnTo>
                  <a:lnTo>
                    <a:pt x="184380" y="87911"/>
                  </a:lnTo>
                  <a:lnTo>
                    <a:pt x="178520" y="91327"/>
                  </a:lnTo>
                  <a:lnTo>
                    <a:pt x="175569" y="93627"/>
                  </a:lnTo>
                  <a:lnTo>
                    <a:pt x="171615" y="96152"/>
                  </a:lnTo>
                  <a:lnTo>
                    <a:pt x="166997" y="98828"/>
                  </a:lnTo>
                  <a:lnTo>
                    <a:pt x="161932" y="101604"/>
                  </a:lnTo>
                  <a:lnTo>
                    <a:pt x="157565" y="103455"/>
                  </a:lnTo>
                  <a:lnTo>
                    <a:pt x="153660" y="104689"/>
                  </a:lnTo>
                  <a:lnTo>
                    <a:pt x="150065" y="105511"/>
                  </a:lnTo>
                  <a:lnTo>
                    <a:pt x="145684" y="107052"/>
                  </a:lnTo>
                  <a:lnTo>
                    <a:pt x="140778" y="109071"/>
                  </a:lnTo>
                  <a:lnTo>
                    <a:pt x="135525" y="111409"/>
                  </a:lnTo>
                  <a:lnTo>
                    <a:pt x="124394" y="116653"/>
                  </a:lnTo>
                  <a:lnTo>
                    <a:pt x="118648" y="119441"/>
                  </a:lnTo>
                  <a:lnTo>
                    <a:pt x="113826" y="121299"/>
                  </a:lnTo>
                  <a:lnTo>
                    <a:pt x="109618" y="122538"/>
                  </a:lnTo>
                  <a:lnTo>
                    <a:pt x="105821" y="123364"/>
                  </a:lnTo>
                  <a:lnTo>
                    <a:pt x="101305" y="124907"/>
                  </a:lnTo>
                  <a:lnTo>
                    <a:pt x="96310" y="126928"/>
                  </a:lnTo>
                  <a:lnTo>
                    <a:pt x="90995" y="129267"/>
                  </a:lnTo>
                  <a:lnTo>
                    <a:pt x="86460" y="130826"/>
                  </a:lnTo>
                  <a:lnTo>
                    <a:pt x="82445" y="131866"/>
                  </a:lnTo>
                  <a:lnTo>
                    <a:pt x="78775" y="132559"/>
                  </a:lnTo>
                  <a:lnTo>
                    <a:pt x="75338" y="134014"/>
                  </a:lnTo>
                  <a:lnTo>
                    <a:pt x="72053" y="135975"/>
                  </a:lnTo>
                  <a:lnTo>
                    <a:pt x="68871" y="138275"/>
                  </a:lnTo>
                  <a:lnTo>
                    <a:pt x="62691" y="140831"/>
                  </a:lnTo>
                  <a:lnTo>
                    <a:pt x="53592" y="142872"/>
                  </a:lnTo>
                  <a:lnTo>
                    <a:pt x="53578" y="142875"/>
                  </a:lnTo>
                </a:path>
              </a:pathLst>
            </a:custGeom>
            <a:noFill/>
            <a:ln w="38160">
              <a:solidFill>
                <a:srgbClr val="009300"/>
              </a:solidFill>
              <a:round/>
            </a:ln>
          </p:spPr>
          <p:style>
            <a:lnRef idx="0"/>
            <a:fillRef idx="0"/>
            <a:effectRef idx="0"/>
            <a:fontRef idx="minor"/>
          </p:style>
          <p:txBody>
            <a:bodyPr wrap="none" anchor="t">
              <a:noAutofit/>
            </a:bodyPr>
            <a:p>
              <a:endParaRPr b="0" lang="en-US" sz="2400" spc="-1" strike="noStrike">
                <a:solidFill>
                  <a:srgbClr val="ffffcc"/>
                </a:solidFill>
                <a:latin typeface="Times New Roman"/>
              </a:endParaRPr>
            </a:p>
          </p:txBody>
        </p:sp>
        <p:sp>
          <p:nvSpPr>
            <p:cNvPr id="181" name="SMARTInkAnnotation55"/>
            <p:cNvSpPr/>
            <p:nvPr/>
          </p:nvSpPr>
          <p:spPr>
            <a:xfrm>
              <a:off x="7473960" y="2107080"/>
              <a:ext cx="133920" cy="204840"/>
            </a:xfrm>
            <a:custGeom>
              <a:avLst/>
              <a:gdLst>
                <a:gd name="textAreaLeft" fmla="*/ 0 w 133920"/>
                <a:gd name="textAreaRight" fmla="*/ 134280 w 133920"/>
                <a:gd name="textAreaTop" fmla="*/ 0 h 204840"/>
                <a:gd name="textAreaBottom" fmla="*/ 205200 h 204840"/>
              </a:gdLst>
              <a:ahLst/>
              <a:rect l="textAreaLeft" t="textAreaTop" r="textAreaRight" b="textAreaBottom"/>
              <a:pathLst>
                <a:path w="133946" h="205384">
                  <a:moveTo>
                    <a:pt x="0" y="0"/>
                  </a:moveTo>
                  <a:lnTo>
                    <a:pt x="4740" y="4740"/>
                  </a:lnTo>
                  <a:lnTo>
                    <a:pt x="7129" y="6136"/>
                  </a:lnTo>
                  <a:lnTo>
                    <a:pt x="9713" y="7068"/>
                  </a:lnTo>
                  <a:lnTo>
                    <a:pt x="12428" y="7688"/>
                  </a:lnTo>
                  <a:lnTo>
                    <a:pt x="14238" y="9094"/>
                  </a:lnTo>
                  <a:lnTo>
                    <a:pt x="15446" y="11023"/>
                  </a:lnTo>
                  <a:lnTo>
                    <a:pt x="17778" y="16805"/>
                  </a:lnTo>
                  <a:lnTo>
                    <a:pt x="22123" y="25990"/>
                  </a:lnTo>
                  <a:lnTo>
                    <a:pt x="24670" y="30225"/>
                  </a:lnTo>
                  <a:lnTo>
                    <a:pt x="27361" y="34041"/>
                  </a:lnTo>
                  <a:lnTo>
                    <a:pt x="30147" y="37577"/>
                  </a:lnTo>
                  <a:lnTo>
                    <a:pt x="32996" y="41918"/>
                  </a:lnTo>
                  <a:lnTo>
                    <a:pt x="35888" y="46797"/>
                  </a:lnTo>
                  <a:lnTo>
                    <a:pt x="38808" y="52034"/>
                  </a:lnTo>
                  <a:lnTo>
                    <a:pt x="44698" y="63144"/>
                  </a:lnTo>
                  <a:lnTo>
                    <a:pt x="47658" y="68885"/>
                  </a:lnTo>
                  <a:lnTo>
                    <a:pt x="51616" y="74697"/>
                  </a:lnTo>
                  <a:lnTo>
                    <a:pt x="56238" y="80555"/>
                  </a:lnTo>
                  <a:lnTo>
                    <a:pt x="61305" y="86446"/>
                  </a:lnTo>
                  <a:lnTo>
                    <a:pt x="65674" y="92357"/>
                  </a:lnTo>
                  <a:lnTo>
                    <a:pt x="69580" y="98282"/>
                  </a:lnTo>
                  <a:lnTo>
                    <a:pt x="73175" y="104217"/>
                  </a:lnTo>
                  <a:lnTo>
                    <a:pt x="76565" y="110157"/>
                  </a:lnTo>
                  <a:lnTo>
                    <a:pt x="82976" y="122050"/>
                  </a:lnTo>
                  <a:lnTo>
                    <a:pt x="86076" y="127007"/>
                  </a:lnTo>
                  <a:lnTo>
                    <a:pt x="89133" y="131304"/>
                  </a:lnTo>
                  <a:lnTo>
                    <a:pt x="92164" y="135161"/>
                  </a:lnTo>
                  <a:lnTo>
                    <a:pt x="95178" y="139717"/>
                  </a:lnTo>
                  <a:lnTo>
                    <a:pt x="98178" y="144738"/>
                  </a:lnTo>
                  <a:lnTo>
                    <a:pt x="101171" y="150070"/>
                  </a:lnTo>
                  <a:lnTo>
                    <a:pt x="107141" y="161286"/>
                  </a:lnTo>
                  <a:lnTo>
                    <a:pt x="110123" y="167055"/>
                  </a:lnTo>
                  <a:lnTo>
                    <a:pt x="112111" y="171894"/>
                  </a:lnTo>
                  <a:lnTo>
                    <a:pt x="113436" y="176111"/>
                  </a:lnTo>
                  <a:lnTo>
                    <a:pt x="114319" y="179915"/>
                  </a:lnTo>
                  <a:lnTo>
                    <a:pt x="115900" y="183443"/>
                  </a:lnTo>
                  <a:lnTo>
                    <a:pt x="117947" y="186788"/>
                  </a:lnTo>
                  <a:lnTo>
                    <a:pt x="120302" y="190010"/>
                  </a:lnTo>
                  <a:lnTo>
                    <a:pt x="122920" y="196235"/>
                  </a:lnTo>
                  <a:lnTo>
                    <a:pt x="123619" y="199284"/>
                  </a:lnTo>
                  <a:lnTo>
                    <a:pt x="125077" y="201317"/>
                  </a:lnTo>
                  <a:lnTo>
                    <a:pt x="127041" y="202672"/>
                  </a:lnTo>
                  <a:lnTo>
                    <a:pt x="133945" y="205383"/>
                  </a:lnTo>
                </a:path>
              </a:pathLst>
            </a:custGeom>
            <a:noFill/>
            <a:ln w="38160">
              <a:solidFill>
                <a:srgbClr val="009300"/>
              </a:solidFill>
              <a:round/>
            </a:ln>
          </p:spPr>
          <p:style>
            <a:lnRef idx="0"/>
            <a:fillRef idx="0"/>
            <a:effectRef idx="0"/>
            <a:fontRef idx="minor"/>
          </p:style>
          <p:txBody>
            <a:bodyPr wrap="none" anchor="t">
              <a:noAutofit/>
            </a:bodyPr>
            <a:p>
              <a:endParaRPr b="0" lang="en-US" sz="2400" spc="-1" strike="noStrike">
                <a:solidFill>
                  <a:srgbClr val="ffffcc"/>
                </a:solidFill>
                <a:latin typeface="Times New Roman"/>
              </a:endParaRPr>
            </a:p>
          </p:txBody>
        </p:sp>
        <p:sp>
          <p:nvSpPr>
            <p:cNvPr id="182" name="SMARTInkAnnotation56"/>
            <p:cNvSpPr/>
            <p:nvPr/>
          </p:nvSpPr>
          <p:spPr>
            <a:xfrm>
              <a:off x="7438320" y="2151720"/>
              <a:ext cx="196200" cy="115920"/>
            </a:xfrm>
            <a:custGeom>
              <a:avLst/>
              <a:gdLst>
                <a:gd name="textAreaLeft" fmla="*/ 0 w 196200"/>
                <a:gd name="textAreaRight" fmla="*/ 196560 w 196200"/>
                <a:gd name="textAreaTop" fmla="*/ 0 h 115920"/>
                <a:gd name="textAreaBottom" fmla="*/ 116280 h 115920"/>
              </a:gdLst>
              <a:ahLst/>
              <a:rect l="textAreaLeft" t="textAreaTop" r="textAreaRight" b="textAreaBottom"/>
              <a:pathLst>
                <a:path w="196454" h="116087">
                  <a:moveTo>
                    <a:pt x="196453" y="0"/>
                  </a:moveTo>
                  <a:lnTo>
                    <a:pt x="182892" y="0"/>
                  </a:lnTo>
                  <a:lnTo>
                    <a:pt x="180467" y="992"/>
                  </a:lnTo>
                  <a:lnTo>
                    <a:pt x="177858" y="2646"/>
                  </a:lnTo>
                  <a:lnTo>
                    <a:pt x="175127" y="4741"/>
                  </a:lnTo>
                  <a:lnTo>
                    <a:pt x="169446" y="7068"/>
                  </a:lnTo>
                  <a:lnTo>
                    <a:pt x="166543" y="7689"/>
                  </a:lnTo>
                  <a:lnTo>
                    <a:pt x="160670" y="11024"/>
                  </a:lnTo>
                  <a:lnTo>
                    <a:pt x="157715" y="13302"/>
                  </a:lnTo>
                  <a:lnTo>
                    <a:pt x="154753" y="15814"/>
                  </a:lnTo>
                  <a:lnTo>
                    <a:pt x="151785" y="18480"/>
                  </a:lnTo>
                  <a:lnTo>
                    <a:pt x="148816" y="21250"/>
                  </a:lnTo>
                  <a:lnTo>
                    <a:pt x="144850" y="24088"/>
                  </a:lnTo>
                  <a:lnTo>
                    <a:pt x="140223" y="26973"/>
                  </a:lnTo>
                  <a:lnTo>
                    <a:pt x="135154" y="29888"/>
                  </a:lnTo>
                  <a:lnTo>
                    <a:pt x="130782" y="32824"/>
                  </a:lnTo>
                  <a:lnTo>
                    <a:pt x="126875" y="35773"/>
                  </a:lnTo>
                  <a:lnTo>
                    <a:pt x="123279" y="38732"/>
                  </a:lnTo>
                  <a:lnTo>
                    <a:pt x="118898" y="41696"/>
                  </a:lnTo>
                  <a:lnTo>
                    <a:pt x="113991" y="44665"/>
                  </a:lnTo>
                  <a:lnTo>
                    <a:pt x="108736" y="47636"/>
                  </a:lnTo>
                  <a:lnTo>
                    <a:pt x="97606" y="53583"/>
                  </a:lnTo>
                  <a:lnTo>
                    <a:pt x="74292" y="65485"/>
                  </a:lnTo>
                  <a:lnTo>
                    <a:pt x="69371" y="68462"/>
                  </a:lnTo>
                  <a:lnTo>
                    <a:pt x="65099" y="71438"/>
                  </a:lnTo>
                  <a:lnTo>
                    <a:pt x="61258" y="74415"/>
                  </a:lnTo>
                  <a:lnTo>
                    <a:pt x="56714" y="77391"/>
                  </a:lnTo>
                  <a:lnTo>
                    <a:pt x="51701" y="80368"/>
                  </a:lnTo>
                  <a:lnTo>
                    <a:pt x="46373" y="83344"/>
                  </a:lnTo>
                  <a:lnTo>
                    <a:pt x="41830" y="86321"/>
                  </a:lnTo>
                  <a:lnTo>
                    <a:pt x="37809" y="89297"/>
                  </a:lnTo>
                  <a:lnTo>
                    <a:pt x="34136" y="92273"/>
                  </a:lnTo>
                  <a:lnTo>
                    <a:pt x="30694" y="94258"/>
                  </a:lnTo>
                  <a:lnTo>
                    <a:pt x="27408" y="95581"/>
                  </a:lnTo>
                  <a:lnTo>
                    <a:pt x="24226" y="96463"/>
                  </a:lnTo>
                  <a:lnTo>
                    <a:pt x="21111" y="98043"/>
                  </a:lnTo>
                  <a:lnTo>
                    <a:pt x="18043" y="100088"/>
                  </a:lnTo>
                  <a:lnTo>
                    <a:pt x="10730" y="105760"/>
                  </a:lnTo>
                  <a:lnTo>
                    <a:pt x="7084" y="109182"/>
                  </a:lnTo>
                  <a:lnTo>
                    <a:pt x="0" y="116086"/>
                  </a:lnTo>
                </a:path>
              </a:pathLst>
            </a:custGeom>
            <a:noFill/>
            <a:ln w="38160">
              <a:solidFill>
                <a:srgbClr val="009300"/>
              </a:solidFill>
              <a:round/>
            </a:ln>
          </p:spPr>
          <p:style>
            <a:lnRef idx="0"/>
            <a:fillRef idx="0"/>
            <a:effectRef idx="0"/>
            <a:fontRef idx="minor"/>
          </p:style>
          <p:txBody>
            <a:bodyPr wrap="none" anchor="t">
              <a:noAutofit/>
            </a:bodyPr>
            <a:p>
              <a:endParaRPr b="0" lang="en-US" sz="2400" spc="-1" strike="noStrike">
                <a:solidFill>
                  <a:srgbClr val="ffffcc"/>
                </a:solidFill>
                <a:latin typeface="Times New Roman"/>
              </a:endParaRPr>
            </a:p>
          </p:txBody>
        </p:sp>
        <p:sp>
          <p:nvSpPr>
            <p:cNvPr id="183" name="SMARTInkAnnotation57"/>
            <p:cNvSpPr/>
            <p:nvPr/>
          </p:nvSpPr>
          <p:spPr>
            <a:xfrm>
              <a:off x="7706160" y="2196360"/>
              <a:ext cx="124920" cy="360"/>
            </a:xfrm>
            <a:custGeom>
              <a:avLst/>
              <a:gdLst>
                <a:gd name="textAreaLeft" fmla="*/ 0 w 124920"/>
                <a:gd name="textAreaRight" fmla="*/ 125280 w 124920"/>
                <a:gd name="textAreaTop" fmla="*/ 0 h 360"/>
                <a:gd name="textAreaBottom" fmla="*/ 720 h 360"/>
              </a:gdLst>
              <a:ahLst/>
              <a:rect l="textAreaLeft" t="textAreaTop" r="textAreaRight" b="textAreaBottom"/>
              <a:pathLst>
                <a:path w="125016" h="1">
                  <a:moveTo>
                    <a:pt x="0" y="0"/>
                  </a:moveTo>
                  <a:lnTo>
                    <a:pt x="125015" y="0"/>
                  </a:lnTo>
                </a:path>
              </a:pathLst>
            </a:custGeom>
            <a:solidFill>
              <a:srgbClr val="cc0099"/>
            </a:solidFill>
            <a:ln w="38160">
              <a:solidFill>
                <a:srgbClr val="009300"/>
              </a:solidFill>
              <a:round/>
            </a:ln>
          </p:spPr>
          <p:style>
            <a:lnRef idx="0"/>
            <a:fillRef idx="0"/>
            <a:effectRef idx="0"/>
            <a:fontRef idx="minor"/>
          </p:style>
          <p:txBody>
            <a:bodyPr wrap="none" tIns="-45000" bIns="-45000" anchor="t">
              <a:noAutofit/>
            </a:bodyPr>
            <a:p>
              <a:endParaRPr b="0" lang="en-US" sz="2400" spc="-1" strike="noStrike">
                <a:solidFill>
                  <a:srgbClr val="ffffcc"/>
                </a:solidFill>
                <a:latin typeface="Times New Roman"/>
              </a:endParaRPr>
            </a:p>
          </p:txBody>
        </p:sp>
        <p:sp>
          <p:nvSpPr>
            <p:cNvPr id="184" name="SMARTInkAnnotation58"/>
            <p:cNvSpPr/>
            <p:nvPr/>
          </p:nvSpPr>
          <p:spPr>
            <a:xfrm>
              <a:off x="7706160" y="2250000"/>
              <a:ext cx="142920" cy="360"/>
            </a:xfrm>
            <a:custGeom>
              <a:avLst/>
              <a:gdLst>
                <a:gd name="textAreaLeft" fmla="*/ 0 w 142920"/>
                <a:gd name="textAreaRight" fmla="*/ 143280 w 142920"/>
                <a:gd name="textAreaTop" fmla="*/ 0 h 360"/>
                <a:gd name="textAreaBottom" fmla="*/ 720 h 360"/>
              </a:gdLst>
              <a:ahLst/>
              <a:rect l="textAreaLeft" t="textAreaTop" r="textAreaRight" b="textAreaBottom"/>
              <a:pathLst>
                <a:path w="142876" h="1">
                  <a:moveTo>
                    <a:pt x="0" y="0"/>
                  </a:moveTo>
                  <a:lnTo>
                    <a:pt x="142875" y="0"/>
                  </a:lnTo>
                </a:path>
              </a:pathLst>
            </a:custGeom>
            <a:solidFill>
              <a:srgbClr val="cc0099"/>
            </a:solidFill>
            <a:ln w="38160">
              <a:solidFill>
                <a:srgbClr val="009300"/>
              </a:solidFill>
              <a:round/>
            </a:ln>
          </p:spPr>
          <p:style>
            <a:lnRef idx="0"/>
            <a:fillRef idx="0"/>
            <a:effectRef idx="0"/>
            <a:fontRef idx="minor"/>
          </p:style>
          <p:txBody>
            <a:bodyPr wrap="none" tIns="-45000" bIns="-45000" anchor="t">
              <a:noAutofit/>
            </a:bodyPr>
            <a:p>
              <a:endParaRPr b="0" lang="en-US" sz="2400" spc="-1" strike="noStrike">
                <a:solidFill>
                  <a:srgbClr val="ffffcc"/>
                </a:solidFill>
                <a:latin typeface="Times New Roman"/>
              </a:endParaRPr>
            </a:p>
          </p:txBody>
        </p:sp>
        <p:sp>
          <p:nvSpPr>
            <p:cNvPr id="185" name="SMARTInkAnnotation59"/>
            <p:cNvSpPr/>
            <p:nvPr/>
          </p:nvSpPr>
          <p:spPr>
            <a:xfrm>
              <a:off x="7956360" y="2169720"/>
              <a:ext cx="8640" cy="178200"/>
            </a:xfrm>
            <a:custGeom>
              <a:avLst/>
              <a:gdLst>
                <a:gd name="textAreaLeft" fmla="*/ 0 w 8640"/>
                <a:gd name="textAreaRight" fmla="*/ 8640 w 8640"/>
                <a:gd name="textAreaTop" fmla="*/ 0 h 178200"/>
                <a:gd name="textAreaBottom" fmla="*/ 178560 h 178200"/>
              </a:gdLst>
              <a:ahLst/>
              <a:rect l="textAreaLeft" t="textAreaTop" r="textAreaRight" b="textAreaBottom"/>
              <a:pathLst>
                <a:path w="8931" h="178594">
                  <a:moveTo>
                    <a:pt x="8930" y="0"/>
                  </a:moveTo>
                  <a:lnTo>
                    <a:pt x="8930" y="81993"/>
                  </a:lnTo>
                  <a:lnTo>
                    <a:pt x="7938" y="86412"/>
                  </a:lnTo>
                  <a:lnTo>
                    <a:pt x="6284" y="91342"/>
                  </a:lnTo>
                  <a:lnTo>
                    <a:pt x="4190" y="96614"/>
                  </a:lnTo>
                  <a:lnTo>
                    <a:pt x="2792" y="101120"/>
                  </a:lnTo>
                  <a:lnTo>
                    <a:pt x="1862" y="105116"/>
                  </a:lnTo>
                  <a:lnTo>
                    <a:pt x="1241" y="108773"/>
                  </a:lnTo>
                  <a:lnTo>
                    <a:pt x="827" y="113195"/>
                  </a:lnTo>
                  <a:lnTo>
                    <a:pt x="551" y="118127"/>
                  </a:lnTo>
                  <a:lnTo>
                    <a:pt x="245" y="127907"/>
                  </a:lnTo>
                  <a:lnTo>
                    <a:pt x="48" y="142270"/>
                  </a:lnTo>
                  <a:lnTo>
                    <a:pt x="0" y="178593"/>
                  </a:lnTo>
                </a:path>
              </a:pathLst>
            </a:custGeom>
            <a:noFill/>
            <a:ln w="38160">
              <a:solidFill>
                <a:srgbClr val="009300"/>
              </a:solidFill>
              <a:round/>
            </a:ln>
          </p:spPr>
          <p:style>
            <a:lnRef idx="0"/>
            <a:fillRef idx="0"/>
            <a:effectRef idx="0"/>
            <a:fontRef idx="minor"/>
          </p:style>
          <p:txBody>
            <a:bodyPr wrap="none" anchor="t">
              <a:noAutofit/>
            </a:bodyPr>
            <a:p>
              <a:endParaRPr b="0" lang="en-US" sz="2400" spc="-1" strike="noStrike">
                <a:solidFill>
                  <a:srgbClr val="ffffcc"/>
                </a:solidFill>
                <a:latin typeface="Times New Roman"/>
              </a:endParaRPr>
            </a:p>
          </p:txBody>
        </p:sp>
        <p:sp>
          <p:nvSpPr>
            <p:cNvPr id="186" name="SMARTInkAnnotation60"/>
            <p:cNvSpPr/>
            <p:nvPr/>
          </p:nvSpPr>
          <p:spPr>
            <a:xfrm>
              <a:off x="7903080" y="2250000"/>
              <a:ext cx="169200" cy="17640"/>
            </a:xfrm>
            <a:custGeom>
              <a:avLst/>
              <a:gdLst>
                <a:gd name="textAreaLeft" fmla="*/ 0 w 169200"/>
                <a:gd name="textAreaRight" fmla="*/ 169560 w 169200"/>
                <a:gd name="textAreaTop" fmla="*/ 0 h 17640"/>
                <a:gd name="textAreaBottom" fmla="*/ 18000 h 17640"/>
              </a:gdLst>
              <a:ahLst/>
              <a:rect l="textAreaLeft" t="textAreaTop" r="textAreaRight" b="textAreaBottom"/>
              <a:pathLst>
                <a:path w="169298" h="17860">
                  <a:moveTo>
                    <a:pt x="8563" y="17859"/>
                  </a:moveTo>
                  <a:lnTo>
                    <a:pt x="0" y="17859"/>
                  </a:lnTo>
                  <a:lnTo>
                    <a:pt x="4482" y="17859"/>
                  </a:lnTo>
                  <a:lnTo>
                    <a:pt x="5842" y="16867"/>
                  </a:lnTo>
                  <a:lnTo>
                    <a:pt x="6749" y="15213"/>
                  </a:lnTo>
                  <a:lnTo>
                    <a:pt x="7353" y="13119"/>
                  </a:lnTo>
                  <a:lnTo>
                    <a:pt x="8748" y="11722"/>
                  </a:lnTo>
                  <a:lnTo>
                    <a:pt x="10671" y="10791"/>
                  </a:lnTo>
                  <a:lnTo>
                    <a:pt x="12945" y="10170"/>
                  </a:lnTo>
                  <a:lnTo>
                    <a:pt x="15452" y="9757"/>
                  </a:lnTo>
                  <a:lnTo>
                    <a:pt x="18116" y="9481"/>
                  </a:lnTo>
                  <a:lnTo>
                    <a:pt x="20885" y="9297"/>
                  </a:lnTo>
                  <a:lnTo>
                    <a:pt x="23723" y="9175"/>
                  </a:lnTo>
                  <a:lnTo>
                    <a:pt x="33624" y="8962"/>
                  </a:lnTo>
                  <a:lnTo>
                    <a:pt x="65149" y="8930"/>
                  </a:lnTo>
                  <a:lnTo>
                    <a:pt x="68115" y="7937"/>
                  </a:lnTo>
                  <a:lnTo>
                    <a:pt x="71084" y="6284"/>
                  </a:lnTo>
                  <a:lnTo>
                    <a:pt x="74056" y="4189"/>
                  </a:lnTo>
                  <a:lnTo>
                    <a:pt x="77030" y="2793"/>
                  </a:lnTo>
                  <a:lnTo>
                    <a:pt x="80004" y="1862"/>
                  </a:lnTo>
                  <a:lnTo>
                    <a:pt x="82979" y="1241"/>
                  </a:lnTo>
                  <a:lnTo>
                    <a:pt x="85954" y="827"/>
                  </a:lnTo>
                  <a:lnTo>
                    <a:pt x="88931" y="551"/>
                  </a:lnTo>
                  <a:lnTo>
                    <a:pt x="91906" y="368"/>
                  </a:lnTo>
                  <a:lnTo>
                    <a:pt x="100505" y="163"/>
                  </a:lnTo>
                  <a:lnTo>
                    <a:pt x="169297" y="0"/>
                  </a:lnTo>
                </a:path>
              </a:pathLst>
            </a:custGeom>
            <a:noFill/>
            <a:ln w="38160">
              <a:solidFill>
                <a:srgbClr val="009300"/>
              </a:solidFill>
              <a:round/>
            </a:ln>
          </p:spPr>
          <p:style>
            <a:lnRef idx="0"/>
            <a:fillRef idx="0"/>
            <a:effectRef idx="0"/>
            <a:fontRef idx="minor"/>
          </p:style>
          <p:txBody>
            <a:bodyPr wrap="none" tIns="-27720" bIns="-27720" anchor="t">
              <a:noAutofit/>
            </a:bodyPr>
            <a:p>
              <a:endParaRPr b="0" lang="en-US" sz="24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1T00:50:02Z</dcterms:created>
  <dc:creator>Chantal Burns</dc:creator>
  <dc:description/>
  <dc:language>en-US</dc:language>
  <cp:lastModifiedBy>Administrator</cp:lastModifiedBy>
  <dcterms:modified xsi:type="dcterms:W3CDTF">2011-04-18T13:32:25Z</dcterms:modified>
  <cp:revision>13</cp:revision>
  <dc:subject/>
  <dc:title>Work, Energy and Power</dc:title>
</cp:coreProperties>
</file>